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789-BE8C-4C3B-93AC-E4167CEF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9C8-0B11-46F2-9CDF-386C6F3E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974-25E1-4641-96CD-870237C9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CDB-66AD-4452-AC32-498976B1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0D7E-E108-4E3D-8FDF-FC6B12D9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C76D-A3BC-4F70-83A1-12525456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80F1-D6EA-4A9B-899A-075FA99E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F75A-01E7-4625-A3D2-C9FA3EDB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5206-34BE-44DF-A229-24B207A7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7AE8-8362-4A1F-BD97-7D7CCD23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F13B-C7AA-4010-BDF6-8C4B66D2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EC2-8DAD-4910-AA09-5E090899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2CE5-F317-4A1D-BAF1-B05F7AB5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A637-BD8E-4543-8615-D984B1CD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9CA3-748C-4036-85F2-5E5FA4B4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9EA5-3B8C-477F-A989-22DF7571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EB75-1CA3-4B07-827A-A0CA6F28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DF5-0CAC-475C-9F3B-22220E41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5FD-5798-46BF-9225-818DDFBE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A8A-12FA-4E85-A5F1-A6AE2565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4CB-209C-4C8F-AF8D-7D3BCB17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B84-506B-452E-9EBF-F22DF4CC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FAA-69ED-4B61-9137-242F3A4B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733-8385-4B15-8A1C-09B04C54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E62C-60EE-4DA7-B38C-FB6B39EFA5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66D7-FCAC-4775-8A24-46A8762483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5ffff"/>
                </a:solidFill>
                <a:latin typeface="Arial"/>
              </a:rPr>
              <a:t>Wednesday, September 22nd</a:t>
            </a:r>
            <a:endParaRPr b="0" lang="en-US" sz="45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z tomorrow on 4.1 and 4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143000" y="281952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Unit Circle Practic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5ffff"/>
                </a:solidFill>
                <a:latin typeface="Arial"/>
              </a:rPr>
              <a:t>Lesson 4.3</a:t>
            </a:r>
            <a:br>
              <a:rPr sz="7500"/>
            </a:br>
            <a:r>
              <a:rPr b="0" lang="en-US" sz="7500" spc="-1" strike="noStrike">
                <a:solidFill>
                  <a:srgbClr val="e5ffff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4.3 Notes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Six Trig Functions for a Right Triangle: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 = opposite/hypotenu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 = adjacent/hypotenu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 = opposite/adjac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t = adjacent/opposi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 = hypotenuse/adjac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sc = hypotenuse/opposi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Find the six trig functions for this right triangle: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609480" y="2514600"/>
            <a:ext cx="4496040" cy="1752480"/>
          </a:xfrm>
          <a:prstGeom prst="rtTriangl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752480" y="4343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286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09480" y="4114800"/>
            <a:ext cx="152640" cy="1522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346640" y="396180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403880" y="2089080"/>
            <a:ext cx="405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the pythagorean theorem to find the missing si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termine which side is opposite of θ , which side is adjacent to θ , and which is the hypotenu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rite your trig function valu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Ink 9"/>
          <p:cNvSpPr/>
          <p:nvPr/>
        </p:nvSpPr>
        <p:spPr>
          <a:xfrm>
            <a:off x="322200" y="4537080"/>
            <a:ext cx="1428840" cy="419040"/>
          </a:xfrm>
          <a:custGeom>
            <a:avLst/>
            <a:gdLst/>
            <a:ahLst/>
            <a:rect l="l" t="t" r="r" b="b"/>
            <a:pathLst>
              <a:path w="3970" h="1167">
                <a:moveTo>
                  <a:pt x="918" y="12923"/>
                </a:moveTo>
                <a:cubicBezTo>
                  <a:pt x="897" y="13022"/>
                  <a:pt x="893" y="13096"/>
                  <a:pt x="893" y="13196"/>
                </a:cubicBezTo>
                <a:cubicBezTo>
                  <a:pt x="893" y="13286"/>
                  <a:pt x="862" y="13506"/>
                  <a:pt x="918" y="13543"/>
                </a:cubicBezTo>
              </a:path>
              <a:path w="3970" h="1167">
                <a:moveTo>
                  <a:pt x="1091" y="12973"/>
                </a:moveTo>
                <a:cubicBezTo>
                  <a:pt x="1154" y="12935"/>
                  <a:pt x="1183" y="12947"/>
                  <a:pt x="1240" y="12998"/>
                </a:cubicBezTo>
                <a:cubicBezTo>
                  <a:pt x="1292" y="13044"/>
                  <a:pt x="1311" y="13077"/>
                  <a:pt x="1315" y="13146"/>
                </a:cubicBezTo>
                <a:cubicBezTo>
                  <a:pt x="1318" y="13202"/>
                  <a:pt x="1289" y="13250"/>
                  <a:pt x="1265" y="13295"/>
                </a:cubicBezTo>
                <a:cubicBezTo>
                  <a:pt x="1238" y="13345"/>
                  <a:pt x="1157" y="13397"/>
                  <a:pt x="1141" y="13444"/>
                </a:cubicBezTo>
                <a:cubicBezTo>
                  <a:pt x="1115" y="13523"/>
                  <a:pt x="1153" y="13581"/>
                  <a:pt x="1215" y="13618"/>
                </a:cubicBezTo>
                <a:cubicBezTo>
                  <a:pt x="1275" y="13654"/>
                  <a:pt x="1300" y="13629"/>
                  <a:pt x="1364" y="13618"/>
                </a:cubicBezTo>
              </a:path>
              <a:path w="3970" h="1167">
                <a:moveTo>
                  <a:pt x="1488" y="12799"/>
                </a:moveTo>
                <a:cubicBezTo>
                  <a:pt x="1519" y="12774"/>
                  <a:pt x="1671" y="12609"/>
                  <a:pt x="1712" y="12750"/>
                </a:cubicBezTo>
                <a:cubicBezTo>
                  <a:pt x="1727" y="12802"/>
                  <a:pt x="1660" y="12877"/>
                  <a:pt x="1637" y="12923"/>
                </a:cubicBezTo>
                <a:cubicBezTo>
                  <a:pt x="1616" y="12965"/>
                  <a:pt x="1585" y="13077"/>
                  <a:pt x="1662" y="13097"/>
                </a:cubicBezTo>
                <a:cubicBezTo>
                  <a:pt x="1728" y="13097"/>
                  <a:pt x="1745" y="13097"/>
                  <a:pt x="1786" y="13097"/>
                </a:cubicBezTo>
              </a:path>
              <a:path w="3970" h="1167">
                <a:moveTo>
                  <a:pt x="2084" y="12948"/>
                </a:moveTo>
                <a:cubicBezTo>
                  <a:pt x="2076" y="13013"/>
                  <a:pt x="2034" y="13207"/>
                  <a:pt x="2059" y="13295"/>
                </a:cubicBezTo>
                <a:cubicBezTo>
                  <a:pt x="2075" y="13354"/>
                  <a:pt x="2084" y="13380"/>
                  <a:pt x="2084" y="13444"/>
                </a:cubicBezTo>
              </a:path>
              <a:path w="3970" h="1167">
                <a:moveTo>
                  <a:pt x="1984" y="13221"/>
                </a:moveTo>
                <a:cubicBezTo>
                  <a:pt x="2067" y="13221"/>
                  <a:pt x="2149" y="13221"/>
                  <a:pt x="2232" y="13221"/>
                </a:cubicBezTo>
              </a:path>
              <a:path w="3970" h="1167">
                <a:moveTo>
                  <a:pt x="2456" y="12948"/>
                </a:moveTo>
                <a:cubicBezTo>
                  <a:pt x="2487" y="13043"/>
                  <a:pt x="2480" y="13162"/>
                  <a:pt x="2480" y="13271"/>
                </a:cubicBezTo>
                <a:cubicBezTo>
                  <a:pt x="2480" y="13403"/>
                  <a:pt x="2480" y="13750"/>
                  <a:pt x="2480" y="13618"/>
                </a:cubicBezTo>
              </a:path>
              <a:path w="3970" h="1167">
                <a:moveTo>
                  <a:pt x="2704" y="12973"/>
                </a:moveTo>
                <a:cubicBezTo>
                  <a:pt x="2704" y="13079"/>
                  <a:pt x="2673" y="13145"/>
                  <a:pt x="2654" y="13246"/>
                </a:cubicBezTo>
                <a:cubicBezTo>
                  <a:pt x="2634" y="13353"/>
                  <a:pt x="2619" y="13434"/>
                  <a:pt x="2654" y="13543"/>
                </a:cubicBezTo>
                <a:cubicBezTo>
                  <a:pt x="2685" y="13639"/>
                  <a:pt x="2710" y="13633"/>
                  <a:pt x="2778" y="13667"/>
                </a:cubicBezTo>
                <a:cubicBezTo>
                  <a:pt x="2816" y="13686"/>
                  <a:pt x="2917" y="13689"/>
                  <a:pt x="2952" y="13643"/>
                </a:cubicBezTo>
                <a:cubicBezTo>
                  <a:pt x="2984" y="13602"/>
                  <a:pt x="3018" y="13511"/>
                  <a:pt x="3026" y="13469"/>
                </a:cubicBezTo>
                <a:cubicBezTo>
                  <a:pt x="3038" y="13411"/>
                  <a:pt x="3024" y="13365"/>
                  <a:pt x="3001" y="13320"/>
                </a:cubicBezTo>
                <a:cubicBezTo>
                  <a:pt x="2929" y="13393"/>
                  <a:pt x="2907" y="13414"/>
                  <a:pt x="2902" y="13519"/>
                </a:cubicBezTo>
                <a:cubicBezTo>
                  <a:pt x="2899" y="13577"/>
                  <a:pt x="2900" y="13616"/>
                  <a:pt x="2927" y="13643"/>
                </a:cubicBezTo>
              </a:path>
              <a:path w="3970" h="1167">
                <a:moveTo>
                  <a:pt x="3051" y="12650"/>
                </a:moveTo>
                <a:cubicBezTo>
                  <a:pt x="3101" y="12631"/>
                  <a:pt x="3213" y="12573"/>
                  <a:pt x="3249" y="12675"/>
                </a:cubicBezTo>
                <a:cubicBezTo>
                  <a:pt x="3270" y="12735"/>
                  <a:pt x="3251" y="12825"/>
                  <a:pt x="3225" y="12874"/>
                </a:cubicBezTo>
                <a:cubicBezTo>
                  <a:pt x="3174" y="12971"/>
                  <a:pt x="3198" y="12994"/>
                  <a:pt x="3299" y="12998"/>
                </a:cubicBezTo>
                <a:cubicBezTo>
                  <a:pt x="3357" y="12998"/>
                  <a:pt x="3365" y="12998"/>
                  <a:pt x="3398" y="12998"/>
                </a:cubicBezTo>
              </a:path>
              <a:path w="3970" h="1167">
                <a:moveTo>
                  <a:pt x="3349" y="13271"/>
                </a:moveTo>
                <a:cubicBezTo>
                  <a:pt x="3419" y="13285"/>
                  <a:pt x="3472" y="13278"/>
                  <a:pt x="3547" y="13271"/>
                </a:cubicBezTo>
              </a:path>
              <a:path w="3970" h="1167">
                <a:moveTo>
                  <a:pt x="3473" y="13444"/>
                </a:moveTo>
                <a:cubicBezTo>
                  <a:pt x="3630" y="13444"/>
                  <a:pt x="3655" y="13444"/>
                  <a:pt x="3746" y="13444"/>
                </a:cubicBezTo>
              </a:path>
              <a:path w="3970" h="1167">
                <a:moveTo>
                  <a:pt x="3994" y="13072"/>
                </a:moveTo>
                <a:cubicBezTo>
                  <a:pt x="4018" y="13197"/>
                  <a:pt x="4037" y="13240"/>
                  <a:pt x="4093" y="13345"/>
                </a:cubicBezTo>
                <a:cubicBezTo>
                  <a:pt x="4157" y="13466"/>
                  <a:pt x="4193" y="13550"/>
                  <a:pt x="4291" y="13643"/>
                </a:cubicBezTo>
                <a:cubicBezTo>
                  <a:pt x="4354" y="13705"/>
                  <a:pt x="4385" y="13732"/>
                  <a:pt x="4440" y="13767"/>
                </a:cubicBezTo>
              </a:path>
              <a:path w="3970" h="1167">
                <a:moveTo>
                  <a:pt x="4341" y="13022"/>
                </a:moveTo>
                <a:cubicBezTo>
                  <a:pt x="4280" y="13106"/>
                  <a:pt x="4228" y="13172"/>
                  <a:pt x="4192" y="13271"/>
                </a:cubicBezTo>
                <a:cubicBezTo>
                  <a:pt x="4158" y="13366"/>
                  <a:pt x="4138" y="13503"/>
                  <a:pt x="4093" y="13593"/>
                </a:cubicBezTo>
                <a:cubicBezTo>
                  <a:pt x="4065" y="13621"/>
                  <a:pt x="4056" y="13634"/>
                  <a:pt x="4068" y="13667"/>
                </a:cubicBezTo>
              </a:path>
              <a:path w="3970" h="1167">
                <a:moveTo>
                  <a:pt x="4390" y="12675"/>
                </a:moveTo>
                <a:cubicBezTo>
                  <a:pt x="4469" y="12664"/>
                  <a:pt x="4629" y="12625"/>
                  <a:pt x="4589" y="12774"/>
                </a:cubicBezTo>
                <a:cubicBezTo>
                  <a:pt x="4576" y="12824"/>
                  <a:pt x="4494" y="12888"/>
                  <a:pt x="4514" y="12948"/>
                </a:cubicBezTo>
                <a:cubicBezTo>
                  <a:pt x="4548" y="13051"/>
                  <a:pt x="4701" y="12983"/>
                  <a:pt x="4762" y="12973"/>
                </a:cubicBezTo>
                <a:cubicBezTo>
                  <a:pt x="4812" y="12973"/>
                  <a:pt x="4829" y="12973"/>
                  <a:pt x="4862" y="129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Ink 10"/>
          <p:cNvSpPr/>
          <p:nvPr/>
        </p:nvSpPr>
        <p:spPr>
          <a:xfrm>
            <a:off x="509760" y="4911840"/>
            <a:ext cx="1204920" cy="830160"/>
          </a:xfrm>
          <a:custGeom>
            <a:avLst/>
            <a:gdLst/>
            <a:ahLst/>
            <a:rect l="l" t="t" r="r" b="b"/>
            <a:pathLst>
              <a:path w="3349" h="2307">
                <a:moveTo>
                  <a:pt x="1910" y="14064"/>
                </a:moveTo>
                <a:cubicBezTo>
                  <a:pt x="1871" y="14142"/>
                  <a:pt x="1822" y="14209"/>
                  <a:pt x="1811" y="14288"/>
                </a:cubicBezTo>
                <a:cubicBezTo>
                  <a:pt x="1902" y="14288"/>
                  <a:pt x="1993" y="14288"/>
                  <a:pt x="2084" y="14288"/>
                </a:cubicBezTo>
              </a:path>
              <a:path w="3349" h="2307">
                <a:moveTo>
                  <a:pt x="2232" y="13915"/>
                </a:moveTo>
                <a:cubicBezTo>
                  <a:pt x="2209" y="14048"/>
                  <a:pt x="2173" y="14178"/>
                  <a:pt x="2158" y="14312"/>
                </a:cubicBezTo>
                <a:cubicBezTo>
                  <a:pt x="2146" y="14417"/>
                  <a:pt x="2158" y="14530"/>
                  <a:pt x="2158" y="14635"/>
                </a:cubicBezTo>
              </a:path>
              <a:path w="3349" h="2307">
                <a:moveTo>
                  <a:pt x="2456" y="14015"/>
                </a:moveTo>
                <a:cubicBezTo>
                  <a:pt x="2399" y="14079"/>
                  <a:pt x="2376" y="14140"/>
                  <a:pt x="2332" y="14213"/>
                </a:cubicBezTo>
                <a:cubicBezTo>
                  <a:pt x="2274" y="14310"/>
                  <a:pt x="2271" y="14365"/>
                  <a:pt x="2282" y="14461"/>
                </a:cubicBezTo>
                <a:cubicBezTo>
                  <a:pt x="2293" y="14555"/>
                  <a:pt x="2341" y="14627"/>
                  <a:pt x="2456" y="14610"/>
                </a:cubicBezTo>
                <a:cubicBezTo>
                  <a:pt x="2559" y="14594"/>
                  <a:pt x="2570" y="14515"/>
                  <a:pt x="2604" y="14436"/>
                </a:cubicBezTo>
                <a:cubicBezTo>
                  <a:pt x="2634" y="14366"/>
                  <a:pt x="2645" y="14266"/>
                  <a:pt x="2629" y="14188"/>
                </a:cubicBezTo>
                <a:cubicBezTo>
                  <a:pt x="2608" y="14090"/>
                  <a:pt x="2620" y="14037"/>
                  <a:pt x="2530" y="13990"/>
                </a:cubicBezTo>
                <a:cubicBezTo>
                  <a:pt x="2475" y="13961"/>
                  <a:pt x="2324" y="13965"/>
                  <a:pt x="2332" y="14064"/>
                </a:cubicBezTo>
                <a:cubicBezTo>
                  <a:pt x="2340" y="14072"/>
                  <a:pt x="2348" y="14081"/>
                  <a:pt x="2356" y="14089"/>
                </a:cubicBezTo>
              </a:path>
              <a:path w="3349" h="2307">
                <a:moveTo>
                  <a:pt x="2853" y="14139"/>
                </a:moveTo>
                <a:cubicBezTo>
                  <a:pt x="2801" y="14229"/>
                  <a:pt x="2793" y="14287"/>
                  <a:pt x="2753" y="14387"/>
                </a:cubicBezTo>
                <a:cubicBezTo>
                  <a:pt x="2725" y="14458"/>
                  <a:pt x="2730" y="14510"/>
                  <a:pt x="2778" y="14585"/>
                </a:cubicBezTo>
                <a:cubicBezTo>
                  <a:pt x="2808" y="14632"/>
                  <a:pt x="2870" y="14673"/>
                  <a:pt x="2927" y="14660"/>
                </a:cubicBezTo>
                <a:cubicBezTo>
                  <a:pt x="2984" y="14647"/>
                  <a:pt x="3030" y="14586"/>
                  <a:pt x="3051" y="14536"/>
                </a:cubicBezTo>
                <a:cubicBezTo>
                  <a:pt x="3101" y="14414"/>
                  <a:pt x="3104" y="14342"/>
                  <a:pt x="3051" y="14213"/>
                </a:cubicBezTo>
                <a:cubicBezTo>
                  <a:pt x="3029" y="14158"/>
                  <a:pt x="3010" y="14080"/>
                  <a:pt x="2977" y="14039"/>
                </a:cubicBezTo>
                <a:cubicBezTo>
                  <a:pt x="2954" y="14017"/>
                  <a:pt x="2946" y="14012"/>
                  <a:pt x="2952" y="13990"/>
                </a:cubicBezTo>
              </a:path>
              <a:path w="3349" h="2307">
                <a:moveTo>
                  <a:pt x="3373" y="14188"/>
                </a:moveTo>
                <a:cubicBezTo>
                  <a:pt x="3457" y="14188"/>
                  <a:pt x="3520" y="14178"/>
                  <a:pt x="3597" y="14163"/>
                </a:cubicBezTo>
              </a:path>
              <a:path w="3349" h="2307">
                <a:moveTo>
                  <a:pt x="3473" y="14362"/>
                </a:moveTo>
                <a:cubicBezTo>
                  <a:pt x="3551" y="14362"/>
                  <a:pt x="3569" y="14377"/>
                  <a:pt x="3597" y="14337"/>
                </a:cubicBezTo>
              </a:path>
              <a:path w="3349" h="2307">
                <a:moveTo>
                  <a:pt x="3820" y="14064"/>
                </a:moveTo>
                <a:cubicBezTo>
                  <a:pt x="3921" y="14245"/>
                  <a:pt x="4012" y="14422"/>
                  <a:pt x="4142" y="14585"/>
                </a:cubicBezTo>
                <a:cubicBezTo>
                  <a:pt x="4192" y="14635"/>
                  <a:pt x="4208" y="14651"/>
                  <a:pt x="4242" y="14684"/>
                </a:cubicBezTo>
              </a:path>
              <a:path w="3349" h="2307">
                <a:moveTo>
                  <a:pt x="4142" y="14163"/>
                </a:moveTo>
                <a:cubicBezTo>
                  <a:pt x="4062" y="14295"/>
                  <a:pt x="3983" y="14421"/>
                  <a:pt x="3919" y="14560"/>
                </a:cubicBezTo>
                <a:cubicBezTo>
                  <a:pt x="3889" y="14626"/>
                  <a:pt x="3870" y="14661"/>
                  <a:pt x="3870" y="14734"/>
                </a:cubicBezTo>
              </a:path>
              <a:path w="3349" h="2307">
                <a:moveTo>
                  <a:pt x="4341" y="13866"/>
                </a:moveTo>
                <a:cubicBezTo>
                  <a:pt x="4438" y="13871"/>
                  <a:pt x="4536" y="13846"/>
                  <a:pt x="4564" y="13965"/>
                </a:cubicBezTo>
                <a:cubicBezTo>
                  <a:pt x="4575" y="14013"/>
                  <a:pt x="4518" y="14077"/>
                  <a:pt x="4490" y="14114"/>
                </a:cubicBezTo>
                <a:cubicBezTo>
                  <a:pt x="4482" y="14122"/>
                  <a:pt x="4473" y="14131"/>
                  <a:pt x="4465" y="14139"/>
                </a:cubicBezTo>
                <a:cubicBezTo>
                  <a:pt x="4534" y="14149"/>
                  <a:pt x="4588" y="14177"/>
                  <a:pt x="4663" y="14188"/>
                </a:cubicBezTo>
                <a:cubicBezTo>
                  <a:pt x="4715" y="14188"/>
                  <a:pt x="4733" y="14189"/>
                  <a:pt x="4762" y="14213"/>
                </a:cubicBezTo>
              </a:path>
              <a:path w="3349" h="2307">
                <a:moveTo>
                  <a:pt x="1414" y="13767"/>
                </a:moveTo>
                <a:cubicBezTo>
                  <a:pt x="1494" y="13824"/>
                  <a:pt x="1536" y="13913"/>
                  <a:pt x="1563" y="14015"/>
                </a:cubicBezTo>
                <a:cubicBezTo>
                  <a:pt x="1582" y="14086"/>
                  <a:pt x="1588" y="14163"/>
                  <a:pt x="1588" y="14238"/>
                </a:cubicBezTo>
                <a:cubicBezTo>
                  <a:pt x="1588" y="14290"/>
                  <a:pt x="1587" y="14308"/>
                  <a:pt x="1563" y="14337"/>
                </a:cubicBezTo>
                <a:cubicBezTo>
                  <a:pt x="1563" y="14184"/>
                  <a:pt x="1519" y="13946"/>
                  <a:pt x="1588" y="13816"/>
                </a:cubicBezTo>
                <a:cubicBezTo>
                  <a:pt x="1616" y="13764"/>
                  <a:pt x="1646" y="13680"/>
                  <a:pt x="1712" y="13667"/>
                </a:cubicBezTo>
                <a:cubicBezTo>
                  <a:pt x="1810" y="13647"/>
                  <a:pt x="1906" y="13643"/>
                  <a:pt x="2009" y="13643"/>
                </a:cubicBezTo>
                <a:cubicBezTo>
                  <a:pt x="2156" y="13643"/>
                  <a:pt x="2312" y="13666"/>
                  <a:pt x="2456" y="13692"/>
                </a:cubicBezTo>
                <a:cubicBezTo>
                  <a:pt x="2552" y="13710"/>
                  <a:pt x="2632" y="13717"/>
                  <a:pt x="2729" y="13717"/>
                </a:cubicBezTo>
                <a:cubicBezTo>
                  <a:pt x="2745" y="13717"/>
                  <a:pt x="2762" y="13717"/>
                  <a:pt x="2778" y="13717"/>
                </a:cubicBezTo>
              </a:path>
              <a:path w="3349" h="2307">
                <a:moveTo>
                  <a:pt x="3795" y="14064"/>
                </a:moveTo>
                <a:cubicBezTo>
                  <a:pt x="3773" y="14209"/>
                  <a:pt x="3788" y="14255"/>
                  <a:pt x="3795" y="14387"/>
                </a:cubicBezTo>
                <a:cubicBezTo>
                  <a:pt x="3798" y="14450"/>
                  <a:pt x="3815" y="14511"/>
                  <a:pt x="3845" y="14560"/>
                </a:cubicBezTo>
                <a:cubicBezTo>
                  <a:pt x="3795" y="14478"/>
                  <a:pt x="3835" y="14404"/>
                  <a:pt x="3845" y="14312"/>
                </a:cubicBezTo>
                <a:cubicBezTo>
                  <a:pt x="3855" y="14222"/>
                  <a:pt x="3865" y="14128"/>
                  <a:pt x="3870" y="14039"/>
                </a:cubicBezTo>
                <a:cubicBezTo>
                  <a:pt x="3873" y="13974"/>
                  <a:pt x="3880" y="13890"/>
                  <a:pt x="3919" y="13841"/>
                </a:cubicBezTo>
                <a:cubicBezTo>
                  <a:pt x="3995" y="13746"/>
                  <a:pt x="3903" y="13711"/>
                  <a:pt x="4118" y="13717"/>
                </a:cubicBezTo>
                <a:cubicBezTo>
                  <a:pt x="4215" y="13720"/>
                  <a:pt x="4295" y="13787"/>
                  <a:pt x="4390" y="13791"/>
                </a:cubicBezTo>
                <a:cubicBezTo>
                  <a:pt x="4415" y="13791"/>
                  <a:pt x="4440" y="13791"/>
                  <a:pt x="4465" y="13791"/>
                </a:cubicBezTo>
              </a:path>
              <a:path w="3349" h="2307">
                <a:moveTo>
                  <a:pt x="2704" y="15131"/>
                </a:moveTo>
                <a:cubicBezTo>
                  <a:pt x="2674" y="15181"/>
                  <a:pt x="2662" y="15221"/>
                  <a:pt x="2654" y="15280"/>
                </a:cubicBezTo>
                <a:cubicBezTo>
                  <a:pt x="2590" y="15342"/>
                  <a:pt x="2714" y="15218"/>
                  <a:pt x="2729" y="15205"/>
                </a:cubicBezTo>
                <a:cubicBezTo>
                  <a:pt x="2792" y="15152"/>
                  <a:pt x="2810" y="15154"/>
                  <a:pt x="2877" y="15180"/>
                </a:cubicBezTo>
                <a:cubicBezTo>
                  <a:pt x="2963" y="15214"/>
                  <a:pt x="2974" y="15257"/>
                  <a:pt x="2977" y="15354"/>
                </a:cubicBezTo>
                <a:cubicBezTo>
                  <a:pt x="2981" y="15476"/>
                  <a:pt x="2974" y="15564"/>
                  <a:pt x="2927" y="15677"/>
                </a:cubicBezTo>
                <a:cubicBezTo>
                  <a:pt x="2904" y="15733"/>
                  <a:pt x="2844" y="15780"/>
                  <a:pt x="2803" y="15825"/>
                </a:cubicBezTo>
                <a:cubicBezTo>
                  <a:pt x="2747" y="15887"/>
                  <a:pt x="2716" y="15870"/>
                  <a:pt x="2654" y="15825"/>
                </a:cubicBezTo>
                <a:cubicBezTo>
                  <a:pt x="2597" y="15783"/>
                  <a:pt x="2637" y="15622"/>
                  <a:pt x="2654" y="15577"/>
                </a:cubicBezTo>
                <a:cubicBezTo>
                  <a:pt x="2693" y="15470"/>
                  <a:pt x="2791" y="15604"/>
                  <a:pt x="2803" y="15627"/>
                </a:cubicBezTo>
                <a:cubicBezTo>
                  <a:pt x="2832" y="15682"/>
                  <a:pt x="2861" y="15758"/>
                  <a:pt x="2927" y="15776"/>
                </a:cubicBezTo>
                <a:cubicBezTo>
                  <a:pt x="2944" y="15776"/>
                  <a:pt x="2960" y="15776"/>
                  <a:pt x="2977" y="15776"/>
                </a:cubicBezTo>
              </a:path>
              <a:path w="3349" h="2307">
                <a:moveTo>
                  <a:pt x="3299" y="15304"/>
                </a:moveTo>
                <a:cubicBezTo>
                  <a:pt x="3200" y="15391"/>
                  <a:pt x="3222" y="15394"/>
                  <a:pt x="3175" y="15503"/>
                </a:cubicBezTo>
                <a:cubicBezTo>
                  <a:pt x="3135" y="15595"/>
                  <a:pt x="3114" y="15643"/>
                  <a:pt x="3125" y="15726"/>
                </a:cubicBezTo>
                <a:cubicBezTo>
                  <a:pt x="3131" y="15776"/>
                  <a:pt x="3149" y="15850"/>
                  <a:pt x="3225" y="15825"/>
                </a:cubicBezTo>
                <a:cubicBezTo>
                  <a:pt x="3274" y="15809"/>
                  <a:pt x="3327" y="15717"/>
                  <a:pt x="3349" y="15677"/>
                </a:cubicBezTo>
                <a:cubicBezTo>
                  <a:pt x="3389" y="15603"/>
                  <a:pt x="3429" y="15461"/>
                  <a:pt x="3423" y="15379"/>
                </a:cubicBezTo>
                <a:cubicBezTo>
                  <a:pt x="3417" y="15302"/>
                  <a:pt x="3365" y="15231"/>
                  <a:pt x="3349" y="15156"/>
                </a:cubicBezTo>
                <a:cubicBezTo>
                  <a:pt x="3349" y="15139"/>
                  <a:pt x="3349" y="15123"/>
                  <a:pt x="3349" y="15106"/>
                </a:cubicBezTo>
              </a:path>
              <a:path w="3349" h="2307">
                <a:moveTo>
                  <a:pt x="3547" y="15329"/>
                </a:moveTo>
                <a:cubicBezTo>
                  <a:pt x="3646" y="15354"/>
                  <a:pt x="3703" y="15373"/>
                  <a:pt x="3795" y="15354"/>
                </a:cubicBezTo>
              </a:path>
              <a:path w="3349" h="2307">
                <a:moveTo>
                  <a:pt x="3646" y="15602"/>
                </a:moveTo>
                <a:cubicBezTo>
                  <a:pt x="3709" y="15665"/>
                  <a:pt x="3718" y="15682"/>
                  <a:pt x="3770" y="15701"/>
                </a:cubicBezTo>
              </a:path>
              <a:path w="3349" h="2307">
                <a:moveTo>
                  <a:pt x="4068" y="15379"/>
                </a:moveTo>
                <a:cubicBezTo>
                  <a:pt x="4100" y="15489"/>
                  <a:pt x="4094" y="15625"/>
                  <a:pt x="4142" y="15726"/>
                </a:cubicBezTo>
                <a:cubicBezTo>
                  <a:pt x="4178" y="15801"/>
                  <a:pt x="4228" y="15873"/>
                  <a:pt x="4266" y="15949"/>
                </a:cubicBezTo>
              </a:path>
              <a:path w="3349" h="2307">
                <a:moveTo>
                  <a:pt x="4291" y="15280"/>
                </a:moveTo>
                <a:cubicBezTo>
                  <a:pt x="4186" y="15358"/>
                  <a:pt x="3986" y="15474"/>
                  <a:pt x="3894" y="15577"/>
                </a:cubicBezTo>
                <a:cubicBezTo>
                  <a:pt x="3841" y="15636"/>
                  <a:pt x="3791" y="15689"/>
                  <a:pt x="3746" y="157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Ink 11"/>
          <p:cNvSpPr/>
          <p:nvPr/>
        </p:nvSpPr>
        <p:spPr>
          <a:xfrm>
            <a:off x="1946160" y="2276640"/>
            <a:ext cx="331920" cy="741240"/>
          </a:xfrm>
          <a:custGeom>
            <a:avLst/>
            <a:gdLst/>
            <a:ahLst/>
            <a:rect l="l" t="t" r="r" b="b"/>
            <a:pathLst>
              <a:path w="919" h="2060">
                <a:moveTo>
                  <a:pt x="5482" y="7913"/>
                </a:moveTo>
                <a:cubicBezTo>
                  <a:pt x="5489" y="7886"/>
                  <a:pt x="5521" y="7823"/>
                  <a:pt x="5556" y="7813"/>
                </a:cubicBezTo>
                <a:cubicBezTo>
                  <a:pt x="5613" y="7797"/>
                  <a:pt x="5673" y="7813"/>
                  <a:pt x="5705" y="7863"/>
                </a:cubicBezTo>
                <a:cubicBezTo>
                  <a:pt x="5750" y="7933"/>
                  <a:pt x="5730" y="8031"/>
                  <a:pt x="5730" y="8111"/>
                </a:cubicBezTo>
                <a:cubicBezTo>
                  <a:pt x="5730" y="8183"/>
                  <a:pt x="5703" y="8211"/>
                  <a:pt x="5655" y="8260"/>
                </a:cubicBezTo>
                <a:cubicBezTo>
                  <a:pt x="5626" y="8289"/>
                  <a:pt x="5557" y="8387"/>
                  <a:pt x="5507" y="8384"/>
                </a:cubicBezTo>
                <a:cubicBezTo>
                  <a:pt x="5430" y="8379"/>
                  <a:pt x="5412" y="8304"/>
                  <a:pt x="5432" y="8260"/>
                </a:cubicBezTo>
                <a:cubicBezTo>
                  <a:pt x="5446" y="8231"/>
                  <a:pt x="5494" y="8147"/>
                  <a:pt x="5531" y="8136"/>
                </a:cubicBezTo>
                <a:cubicBezTo>
                  <a:pt x="5609" y="8114"/>
                  <a:pt x="5627" y="8152"/>
                  <a:pt x="5680" y="8186"/>
                </a:cubicBezTo>
                <a:cubicBezTo>
                  <a:pt x="5736" y="8221"/>
                  <a:pt x="5756" y="8263"/>
                  <a:pt x="5804" y="8310"/>
                </a:cubicBezTo>
                <a:cubicBezTo>
                  <a:pt x="5829" y="8334"/>
                  <a:pt x="5837" y="8342"/>
                  <a:pt x="5854" y="8310"/>
                </a:cubicBezTo>
              </a:path>
              <a:path w="919" h="2060">
                <a:moveTo>
                  <a:pt x="6052" y="7888"/>
                </a:moveTo>
                <a:cubicBezTo>
                  <a:pt x="5986" y="8006"/>
                  <a:pt x="5953" y="8057"/>
                  <a:pt x="5953" y="8186"/>
                </a:cubicBezTo>
                <a:cubicBezTo>
                  <a:pt x="5953" y="8231"/>
                  <a:pt x="5972" y="8318"/>
                  <a:pt x="6028" y="8334"/>
                </a:cubicBezTo>
                <a:cubicBezTo>
                  <a:pt x="6121" y="8360"/>
                  <a:pt x="6149" y="8369"/>
                  <a:pt x="6251" y="8310"/>
                </a:cubicBezTo>
                <a:cubicBezTo>
                  <a:pt x="6323" y="8268"/>
                  <a:pt x="6322" y="8183"/>
                  <a:pt x="6325" y="8111"/>
                </a:cubicBezTo>
                <a:cubicBezTo>
                  <a:pt x="6328" y="8050"/>
                  <a:pt x="6302" y="7986"/>
                  <a:pt x="6276" y="7938"/>
                </a:cubicBezTo>
                <a:cubicBezTo>
                  <a:pt x="6244" y="7878"/>
                  <a:pt x="6206" y="7832"/>
                  <a:pt x="6127" y="7863"/>
                </a:cubicBezTo>
                <a:cubicBezTo>
                  <a:pt x="6119" y="7871"/>
                  <a:pt x="6110" y="7880"/>
                  <a:pt x="6102" y="7888"/>
                </a:cubicBezTo>
              </a:path>
              <a:path w="919" h="2060">
                <a:moveTo>
                  <a:pt x="5680" y="6548"/>
                </a:moveTo>
                <a:cubicBezTo>
                  <a:pt x="5680" y="6637"/>
                  <a:pt x="5701" y="6712"/>
                  <a:pt x="5705" y="6796"/>
                </a:cubicBezTo>
                <a:cubicBezTo>
                  <a:pt x="5715" y="7036"/>
                  <a:pt x="5705" y="7706"/>
                  <a:pt x="5705" y="7466"/>
                </a:cubicBezTo>
              </a:path>
              <a:path w="919" h="2060">
                <a:moveTo>
                  <a:pt x="6127" y="6325"/>
                </a:moveTo>
                <a:cubicBezTo>
                  <a:pt x="6127" y="6414"/>
                  <a:pt x="6142" y="6491"/>
                  <a:pt x="6152" y="6573"/>
                </a:cubicBezTo>
                <a:cubicBezTo>
                  <a:pt x="6163" y="6662"/>
                  <a:pt x="6166" y="6758"/>
                  <a:pt x="6176" y="6846"/>
                </a:cubicBezTo>
                <a:cubicBezTo>
                  <a:pt x="6190" y="6975"/>
                  <a:pt x="6231" y="7091"/>
                  <a:pt x="6251" y="7218"/>
                </a:cubicBezTo>
                <a:cubicBezTo>
                  <a:pt x="6260" y="7276"/>
                  <a:pt x="6285" y="7314"/>
                  <a:pt x="6300" y="7367"/>
                </a:cubicBezTo>
                <a:cubicBezTo>
                  <a:pt x="6300" y="7375"/>
                  <a:pt x="6300" y="7384"/>
                  <a:pt x="6300" y="7392"/>
                </a:cubicBezTo>
              </a:path>
              <a:path w="919" h="2060">
                <a:moveTo>
                  <a:pt x="5730" y="7045"/>
                </a:moveTo>
                <a:cubicBezTo>
                  <a:pt x="5920" y="7045"/>
                  <a:pt x="6110" y="7045"/>
                  <a:pt x="6300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Ink 12"/>
          <p:cNvSpPr/>
          <p:nvPr/>
        </p:nvSpPr>
        <p:spPr>
          <a:xfrm>
            <a:off x="276120" y="3017880"/>
            <a:ext cx="196920" cy="349200"/>
          </a:xfrm>
          <a:custGeom>
            <a:avLst/>
            <a:gdLst/>
            <a:ahLst/>
            <a:rect l="l" t="t" r="r" b="b"/>
            <a:pathLst>
              <a:path w="547" h="968">
                <a:moveTo>
                  <a:pt x="967" y="8483"/>
                </a:moveTo>
                <a:cubicBezTo>
                  <a:pt x="928" y="8564"/>
                  <a:pt x="840" y="8674"/>
                  <a:pt x="819" y="8756"/>
                </a:cubicBezTo>
                <a:cubicBezTo>
                  <a:pt x="803" y="8818"/>
                  <a:pt x="779" y="8892"/>
                  <a:pt x="769" y="8954"/>
                </a:cubicBezTo>
                <a:cubicBezTo>
                  <a:pt x="752" y="9056"/>
                  <a:pt x="779" y="9158"/>
                  <a:pt x="794" y="9252"/>
                </a:cubicBezTo>
                <a:cubicBezTo>
                  <a:pt x="810" y="9354"/>
                  <a:pt x="848" y="9351"/>
                  <a:pt x="943" y="9351"/>
                </a:cubicBezTo>
                <a:cubicBezTo>
                  <a:pt x="1024" y="9351"/>
                  <a:pt x="1049" y="9342"/>
                  <a:pt x="1116" y="9302"/>
                </a:cubicBezTo>
                <a:cubicBezTo>
                  <a:pt x="1163" y="9274"/>
                  <a:pt x="1243" y="9159"/>
                  <a:pt x="1265" y="9103"/>
                </a:cubicBezTo>
                <a:cubicBezTo>
                  <a:pt x="1288" y="9045"/>
                  <a:pt x="1312" y="8944"/>
                  <a:pt x="1315" y="8880"/>
                </a:cubicBezTo>
                <a:cubicBezTo>
                  <a:pt x="1320" y="8776"/>
                  <a:pt x="1260" y="8698"/>
                  <a:pt x="1215" y="8607"/>
                </a:cubicBezTo>
                <a:cubicBezTo>
                  <a:pt x="1195" y="8567"/>
                  <a:pt x="1155" y="8459"/>
                  <a:pt x="1116" y="8434"/>
                </a:cubicBezTo>
                <a:cubicBezTo>
                  <a:pt x="1038" y="8385"/>
                  <a:pt x="987" y="8388"/>
                  <a:pt x="918" y="8409"/>
                </a:cubicBezTo>
                <a:cubicBezTo>
                  <a:pt x="910" y="8409"/>
                  <a:pt x="901" y="8409"/>
                  <a:pt x="893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Ink 13"/>
          <p:cNvSpPr/>
          <p:nvPr/>
        </p:nvSpPr>
        <p:spPr>
          <a:xfrm>
            <a:off x="2330280" y="4321080"/>
            <a:ext cx="339840" cy="403200"/>
          </a:xfrm>
          <a:custGeom>
            <a:avLst/>
            <a:gdLst/>
            <a:ahLst/>
            <a:rect l="l" t="t" r="r" b="b"/>
            <a:pathLst>
              <a:path w="944" h="1118">
                <a:moveTo>
                  <a:pt x="6623" y="12402"/>
                </a:moveTo>
                <a:cubicBezTo>
                  <a:pt x="6623" y="12467"/>
                  <a:pt x="6618" y="12520"/>
                  <a:pt x="6598" y="12576"/>
                </a:cubicBezTo>
                <a:cubicBezTo>
                  <a:pt x="6562" y="12679"/>
                  <a:pt x="6529" y="12769"/>
                  <a:pt x="6499" y="12874"/>
                </a:cubicBezTo>
                <a:cubicBezTo>
                  <a:pt x="6477" y="12939"/>
                  <a:pt x="6469" y="12954"/>
                  <a:pt x="6474" y="12998"/>
                </a:cubicBezTo>
                <a:cubicBezTo>
                  <a:pt x="6515" y="12957"/>
                  <a:pt x="6545" y="12926"/>
                  <a:pt x="6573" y="12874"/>
                </a:cubicBezTo>
                <a:cubicBezTo>
                  <a:pt x="6612" y="12800"/>
                  <a:pt x="6629" y="12726"/>
                  <a:pt x="6648" y="12650"/>
                </a:cubicBezTo>
                <a:cubicBezTo>
                  <a:pt x="6676" y="12538"/>
                  <a:pt x="6732" y="12435"/>
                  <a:pt x="6772" y="12328"/>
                </a:cubicBezTo>
                <a:cubicBezTo>
                  <a:pt x="6806" y="12235"/>
                  <a:pt x="6809" y="12115"/>
                  <a:pt x="6846" y="12030"/>
                </a:cubicBezTo>
                <a:cubicBezTo>
                  <a:pt x="6854" y="12022"/>
                  <a:pt x="6863" y="12013"/>
                  <a:pt x="6871" y="12005"/>
                </a:cubicBezTo>
                <a:cubicBezTo>
                  <a:pt x="6908" y="12087"/>
                  <a:pt x="6935" y="12172"/>
                  <a:pt x="6970" y="12254"/>
                </a:cubicBezTo>
                <a:cubicBezTo>
                  <a:pt x="7011" y="12348"/>
                  <a:pt x="7006" y="12453"/>
                  <a:pt x="7045" y="12551"/>
                </a:cubicBezTo>
                <a:cubicBezTo>
                  <a:pt x="7089" y="12660"/>
                  <a:pt x="7147" y="12766"/>
                  <a:pt x="7193" y="12874"/>
                </a:cubicBezTo>
                <a:cubicBezTo>
                  <a:pt x="7217" y="12929"/>
                  <a:pt x="7259" y="12997"/>
                  <a:pt x="7293" y="13047"/>
                </a:cubicBezTo>
                <a:cubicBezTo>
                  <a:pt x="7341" y="13118"/>
                  <a:pt x="7312" y="13127"/>
                  <a:pt x="7367" y="13072"/>
                </a:cubicBezTo>
              </a:path>
              <a:path w="944" h="1118">
                <a:moveTo>
                  <a:pt x="7417" y="12551"/>
                </a:moveTo>
                <a:cubicBezTo>
                  <a:pt x="7340" y="12513"/>
                  <a:pt x="7291" y="12537"/>
                  <a:pt x="7218" y="12551"/>
                </a:cubicBezTo>
                <a:cubicBezTo>
                  <a:pt x="7159" y="12562"/>
                  <a:pt x="7033" y="12534"/>
                  <a:pt x="6970" y="12526"/>
                </a:cubicBezTo>
                <a:cubicBezTo>
                  <a:pt x="6872" y="12513"/>
                  <a:pt x="6795" y="12502"/>
                  <a:pt x="6697" y="12502"/>
                </a:cubicBezTo>
                <a:cubicBezTo>
                  <a:pt x="6656" y="12502"/>
                  <a:pt x="6614" y="12502"/>
                  <a:pt x="6573" y="125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Ink 14"/>
          <p:cNvSpPr/>
          <p:nvPr/>
        </p:nvSpPr>
        <p:spPr>
          <a:xfrm>
            <a:off x="8082000" y="4133880"/>
            <a:ext cx="455400" cy="2590920"/>
          </a:xfrm>
          <a:custGeom>
            <a:avLst/>
            <a:gdLst/>
            <a:ahLst/>
            <a:rect l="l" t="t" r="r" b="b"/>
            <a:pathLst>
              <a:path w="1266" h="7194">
                <a:moveTo>
                  <a:pt x="23044" y="11584"/>
                </a:moveTo>
                <a:cubicBezTo>
                  <a:pt x="23111" y="11554"/>
                  <a:pt x="23173" y="11513"/>
                  <a:pt x="23242" y="11509"/>
                </a:cubicBezTo>
                <a:cubicBezTo>
                  <a:pt x="23306" y="11505"/>
                  <a:pt x="23345" y="11485"/>
                  <a:pt x="23416" y="11485"/>
                </a:cubicBezTo>
              </a:path>
              <a:path w="1266" h="7194">
                <a:moveTo>
                  <a:pt x="23019" y="11633"/>
                </a:moveTo>
                <a:cubicBezTo>
                  <a:pt x="23019" y="11724"/>
                  <a:pt x="23019" y="11815"/>
                  <a:pt x="23019" y="11906"/>
                </a:cubicBezTo>
                <a:cubicBezTo>
                  <a:pt x="23097" y="11896"/>
                  <a:pt x="23108" y="11871"/>
                  <a:pt x="23168" y="11832"/>
                </a:cubicBezTo>
                <a:cubicBezTo>
                  <a:pt x="23204" y="11809"/>
                  <a:pt x="23333" y="11753"/>
                  <a:pt x="23366" y="11757"/>
                </a:cubicBezTo>
                <a:cubicBezTo>
                  <a:pt x="23407" y="11763"/>
                  <a:pt x="23457" y="11787"/>
                  <a:pt x="23490" y="11807"/>
                </a:cubicBezTo>
                <a:cubicBezTo>
                  <a:pt x="23431" y="11855"/>
                  <a:pt x="23399" y="11906"/>
                  <a:pt x="23341" y="11956"/>
                </a:cubicBezTo>
                <a:cubicBezTo>
                  <a:pt x="23276" y="12011"/>
                  <a:pt x="23207" y="12053"/>
                  <a:pt x="23143" y="12105"/>
                </a:cubicBezTo>
              </a:path>
              <a:path w="1266" h="7194">
                <a:moveTo>
                  <a:pt x="22721" y="12278"/>
                </a:moveTo>
                <a:cubicBezTo>
                  <a:pt x="22787" y="12269"/>
                  <a:pt x="22852" y="12255"/>
                  <a:pt x="22920" y="12229"/>
                </a:cubicBezTo>
                <a:cubicBezTo>
                  <a:pt x="23016" y="12192"/>
                  <a:pt x="23117" y="12165"/>
                  <a:pt x="23217" y="12129"/>
                </a:cubicBezTo>
                <a:cubicBezTo>
                  <a:pt x="23306" y="12097"/>
                  <a:pt x="23397" y="12062"/>
                  <a:pt x="23490" y="12055"/>
                </a:cubicBezTo>
                <a:cubicBezTo>
                  <a:pt x="23498" y="12055"/>
                  <a:pt x="23507" y="12055"/>
                  <a:pt x="23515" y="12055"/>
                </a:cubicBezTo>
              </a:path>
              <a:path w="1266" h="7194">
                <a:moveTo>
                  <a:pt x="23093" y="12378"/>
                </a:moveTo>
                <a:cubicBezTo>
                  <a:pt x="23071" y="12413"/>
                  <a:pt x="23030" y="12480"/>
                  <a:pt x="23019" y="12526"/>
                </a:cubicBezTo>
                <a:cubicBezTo>
                  <a:pt x="23005" y="12588"/>
                  <a:pt x="22994" y="12631"/>
                  <a:pt x="22994" y="12700"/>
                </a:cubicBezTo>
                <a:cubicBezTo>
                  <a:pt x="22994" y="12717"/>
                  <a:pt x="22994" y="12733"/>
                  <a:pt x="22994" y="12750"/>
                </a:cubicBezTo>
                <a:cubicBezTo>
                  <a:pt x="23072" y="12741"/>
                  <a:pt x="23133" y="12729"/>
                  <a:pt x="23192" y="12675"/>
                </a:cubicBezTo>
                <a:cubicBezTo>
                  <a:pt x="23230" y="12637"/>
                  <a:pt x="23253" y="12619"/>
                  <a:pt x="23292" y="12601"/>
                </a:cubicBezTo>
              </a:path>
              <a:path w="1266" h="7194">
                <a:moveTo>
                  <a:pt x="23366" y="12278"/>
                </a:moveTo>
                <a:cubicBezTo>
                  <a:pt x="23314" y="12382"/>
                  <a:pt x="23297" y="12448"/>
                  <a:pt x="23267" y="12551"/>
                </a:cubicBezTo>
                <a:cubicBezTo>
                  <a:pt x="23238" y="12652"/>
                  <a:pt x="23217" y="12715"/>
                  <a:pt x="23217" y="12824"/>
                </a:cubicBezTo>
                <a:cubicBezTo>
                  <a:pt x="23217" y="12919"/>
                  <a:pt x="23192" y="13001"/>
                  <a:pt x="23192" y="13097"/>
                </a:cubicBezTo>
                <a:cubicBezTo>
                  <a:pt x="23192" y="13113"/>
                  <a:pt x="23192" y="13130"/>
                  <a:pt x="23192" y="13146"/>
                </a:cubicBezTo>
              </a:path>
              <a:path w="1266" h="7194">
                <a:moveTo>
                  <a:pt x="22746" y="13742"/>
                </a:moveTo>
                <a:cubicBezTo>
                  <a:pt x="22823" y="13771"/>
                  <a:pt x="22915" y="13774"/>
                  <a:pt x="22994" y="13742"/>
                </a:cubicBezTo>
                <a:cubicBezTo>
                  <a:pt x="23049" y="13720"/>
                  <a:pt x="23024" y="13702"/>
                  <a:pt x="23093" y="13692"/>
                </a:cubicBezTo>
              </a:path>
              <a:path w="1266" h="7194">
                <a:moveTo>
                  <a:pt x="22721" y="13841"/>
                </a:moveTo>
                <a:cubicBezTo>
                  <a:pt x="22711" y="13924"/>
                  <a:pt x="22682" y="14002"/>
                  <a:pt x="22671" y="14089"/>
                </a:cubicBezTo>
              </a:path>
              <a:path w="1266" h="7194">
                <a:moveTo>
                  <a:pt x="22671" y="14139"/>
                </a:moveTo>
                <a:cubicBezTo>
                  <a:pt x="22711" y="14099"/>
                  <a:pt x="22755" y="14076"/>
                  <a:pt x="22796" y="14039"/>
                </a:cubicBezTo>
                <a:cubicBezTo>
                  <a:pt x="22847" y="13994"/>
                  <a:pt x="22892" y="13966"/>
                  <a:pt x="22969" y="13990"/>
                </a:cubicBezTo>
                <a:cubicBezTo>
                  <a:pt x="23024" y="14007"/>
                  <a:pt x="23032" y="14094"/>
                  <a:pt x="23019" y="14139"/>
                </a:cubicBezTo>
                <a:cubicBezTo>
                  <a:pt x="22991" y="14237"/>
                  <a:pt x="22876" y="14303"/>
                  <a:pt x="22820" y="14387"/>
                </a:cubicBezTo>
                <a:cubicBezTo>
                  <a:pt x="22778" y="14451"/>
                  <a:pt x="22764" y="14472"/>
                  <a:pt x="22696" y="14511"/>
                </a:cubicBezTo>
              </a:path>
              <a:path w="1266" h="7194">
                <a:moveTo>
                  <a:pt x="22448" y="14536"/>
                </a:moveTo>
                <a:cubicBezTo>
                  <a:pt x="22535" y="14516"/>
                  <a:pt x="22617" y="14508"/>
                  <a:pt x="22696" y="14486"/>
                </a:cubicBezTo>
                <a:cubicBezTo>
                  <a:pt x="22779" y="14463"/>
                  <a:pt x="22820" y="14443"/>
                  <a:pt x="22895" y="14412"/>
                </a:cubicBezTo>
                <a:cubicBezTo>
                  <a:pt x="22978" y="14378"/>
                  <a:pt x="23059" y="14343"/>
                  <a:pt x="23143" y="14312"/>
                </a:cubicBezTo>
              </a:path>
              <a:path w="1266" h="7194">
                <a:moveTo>
                  <a:pt x="22622" y="14709"/>
                </a:moveTo>
                <a:cubicBezTo>
                  <a:pt x="22688" y="14699"/>
                  <a:pt x="22736" y="14669"/>
                  <a:pt x="22796" y="14635"/>
                </a:cubicBezTo>
                <a:cubicBezTo>
                  <a:pt x="22863" y="14597"/>
                  <a:pt x="22920" y="14569"/>
                  <a:pt x="22994" y="14560"/>
                </a:cubicBezTo>
                <a:cubicBezTo>
                  <a:pt x="23030" y="14632"/>
                  <a:pt x="23006" y="14726"/>
                  <a:pt x="22969" y="14808"/>
                </a:cubicBezTo>
                <a:cubicBezTo>
                  <a:pt x="22940" y="14873"/>
                  <a:pt x="22887" y="14972"/>
                  <a:pt x="22845" y="15032"/>
                </a:cubicBezTo>
                <a:cubicBezTo>
                  <a:pt x="22795" y="15104"/>
                  <a:pt x="22880" y="14997"/>
                  <a:pt x="22895" y="14982"/>
                </a:cubicBezTo>
                <a:cubicBezTo>
                  <a:pt x="22932" y="14945"/>
                  <a:pt x="22968" y="14957"/>
                  <a:pt x="23019" y="14957"/>
                </a:cubicBezTo>
                <a:cubicBezTo>
                  <a:pt x="23019" y="15014"/>
                  <a:pt x="23018" y="15084"/>
                  <a:pt x="22994" y="15131"/>
                </a:cubicBezTo>
                <a:cubicBezTo>
                  <a:pt x="22949" y="15221"/>
                  <a:pt x="22870" y="15290"/>
                  <a:pt x="22820" y="15379"/>
                </a:cubicBezTo>
                <a:cubicBezTo>
                  <a:pt x="22760" y="15485"/>
                  <a:pt x="22684" y="15579"/>
                  <a:pt x="22597" y="15652"/>
                </a:cubicBezTo>
                <a:cubicBezTo>
                  <a:pt x="22572" y="15677"/>
                  <a:pt x="22564" y="15685"/>
                  <a:pt x="22547" y="15701"/>
                </a:cubicBezTo>
              </a:path>
              <a:path w="1266" h="7194">
                <a:moveTo>
                  <a:pt x="23242" y="15925"/>
                </a:moveTo>
                <a:cubicBezTo>
                  <a:pt x="23254" y="15867"/>
                  <a:pt x="23261" y="15892"/>
                  <a:pt x="23341" y="15850"/>
                </a:cubicBezTo>
                <a:cubicBezTo>
                  <a:pt x="23407" y="15815"/>
                  <a:pt x="23485" y="15777"/>
                  <a:pt x="23564" y="15801"/>
                </a:cubicBezTo>
                <a:cubicBezTo>
                  <a:pt x="23650" y="15827"/>
                  <a:pt x="23606" y="15954"/>
                  <a:pt x="23564" y="15999"/>
                </a:cubicBezTo>
                <a:cubicBezTo>
                  <a:pt x="23509" y="16058"/>
                  <a:pt x="23475" y="16086"/>
                  <a:pt x="23440" y="16148"/>
                </a:cubicBezTo>
                <a:cubicBezTo>
                  <a:pt x="23411" y="16178"/>
                  <a:pt x="23397" y="16189"/>
                  <a:pt x="23366" y="16197"/>
                </a:cubicBezTo>
                <a:cubicBezTo>
                  <a:pt x="23393" y="16151"/>
                  <a:pt x="23435" y="16088"/>
                  <a:pt x="23490" y="16073"/>
                </a:cubicBezTo>
                <a:cubicBezTo>
                  <a:pt x="23584" y="16048"/>
                  <a:pt x="23609" y="16089"/>
                  <a:pt x="23614" y="16173"/>
                </a:cubicBezTo>
                <a:cubicBezTo>
                  <a:pt x="23617" y="16234"/>
                  <a:pt x="23578" y="16322"/>
                  <a:pt x="23540" y="16371"/>
                </a:cubicBezTo>
                <a:cubicBezTo>
                  <a:pt x="23485" y="16442"/>
                  <a:pt x="23457" y="16512"/>
                  <a:pt x="23416" y="16594"/>
                </a:cubicBezTo>
                <a:cubicBezTo>
                  <a:pt x="23391" y="16644"/>
                  <a:pt x="23383" y="16661"/>
                  <a:pt x="23366" y="16694"/>
                </a:cubicBezTo>
              </a:path>
              <a:path w="1266" h="7194">
                <a:moveTo>
                  <a:pt x="23118" y="16743"/>
                </a:moveTo>
                <a:cubicBezTo>
                  <a:pt x="23185" y="16733"/>
                  <a:pt x="23248" y="16698"/>
                  <a:pt x="23316" y="16669"/>
                </a:cubicBezTo>
                <a:cubicBezTo>
                  <a:pt x="23377" y="16643"/>
                  <a:pt x="23436" y="16615"/>
                  <a:pt x="23490" y="16594"/>
                </a:cubicBezTo>
                <a:cubicBezTo>
                  <a:pt x="23526" y="16580"/>
                  <a:pt x="23651" y="16533"/>
                  <a:pt x="23688" y="16545"/>
                </a:cubicBezTo>
                <a:cubicBezTo>
                  <a:pt x="23696" y="16553"/>
                  <a:pt x="23705" y="16562"/>
                  <a:pt x="23713" y="16570"/>
                </a:cubicBezTo>
              </a:path>
              <a:path w="1266" h="7194">
                <a:moveTo>
                  <a:pt x="23416" y="16793"/>
                </a:moveTo>
                <a:cubicBezTo>
                  <a:pt x="23391" y="16868"/>
                  <a:pt x="23383" y="16940"/>
                  <a:pt x="23366" y="17016"/>
                </a:cubicBezTo>
                <a:cubicBezTo>
                  <a:pt x="23342" y="17126"/>
                  <a:pt x="23297" y="17225"/>
                  <a:pt x="23292" y="17338"/>
                </a:cubicBezTo>
                <a:cubicBezTo>
                  <a:pt x="23290" y="17376"/>
                  <a:pt x="23270" y="17494"/>
                  <a:pt x="23316" y="17512"/>
                </a:cubicBezTo>
                <a:cubicBezTo>
                  <a:pt x="23387" y="17539"/>
                  <a:pt x="23411" y="17452"/>
                  <a:pt x="23440" y="17413"/>
                </a:cubicBezTo>
                <a:cubicBezTo>
                  <a:pt x="23480" y="17360"/>
                  <a:pt x="23519" y="17373"/>
                  <a:pt x="23564" y="17338"/>
                </a:cubicBezTo>
                <a:cubicBezTo>
                  <a:pt x="23572" y="17330"/>
                  <a:pt x="23581" y="17322"/>
                  <a:pt x="23589" y="17314"/>
                </a:cubicBezTo>
              </a:path>
              <a:path w="1266" h="7194">
                <a:moveTo>
                  <a:pt x="23515" y="16768"/>
                </a:moveTo>
                <a:cubicBezTo>
                  <a:pt x="23464" y="16895"/>
                  <a:pt x="23478" y="16981"/>
                  <a:pt x="23465" y="17115"/>
                </a:cubicBezTo>
                <a:cubicBezTo>
                  <a:pt x="23441" y="17369"/>
                  <a:pt x="23423" y="17628"/>
                  <a:pt x="23440" y="17884"/>
                </a:cubicBezTo>
                <a:cubicBezTo>
                  <a:pt x="23459" y="18179"/>
                  <a:pt x="23560" y="18408"/>
                  <a:pt x="23664" y="186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Ink 15"/>
          <p:cNvSpPr/>
          <p:nvPr/>
        </p:nvSpPr>
        <p:spPr>
          <a:xfrm>
            <a:off x="6018120" y="4170240"/>
            <a:ext cx="142920" cy="98640"/>
          </a:xfrm>
          <a:custGeom>
            <a:avLst/>
            <a:gdLst/>
            <a:ahLst/>
            <a:rect l="l" t="t" r="r" b="b"/>
            <a:pathLst>
              <a:path w="398" h="274">
                <a:moveTo>
                  <a:pt x="16718" y="11584"/>
                </a:moveTo>
                <a:cubicBezTo>
                  <a:pt x="16816" y="11590"/>
                  <a:pt x="16837" y="11593"/>
                  <a:pt x="16917" y="11609"/>
                </a:cubicBezTo>
              </a:path>
              <a:path w="398" h="274">
                <a:moveTo>
                  <a:pt x="16743" y="11807"/>
                </a:moveTo>
                <a:cubicBezTo>
                  <a:pt x="16868" y="11825"/>
                  <a:pt x="16991" y="11844"/>
                  <a:pt x="17115" y="118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Ink 16"/>
          <p:cNvSpPr/>
          <p:nvPr/>
        </p:nvSpPr>
        <p:spPr>
          <a:xfrm>
            <a:off x="7232760" y="4249800"/>
            <a:ext cx="965160" cy="1814400"/>
          </a:xfrm>
          <a:custGeom>
            <a:avLst/>
            <a:gdLst/>
            <a:ahLst/>
            <a:rect l="l" t="t" r="r" b="b"/>
            <a:pathLst>
              <a:path w="2680" h="5036">
                <a:moveTo>
                  <a:pt x="21010" y="15776"/>
                </a:moveTo>
                <a:cubicBezTo>
                  <a:pt x="21017" y="15851"/>
                  <a:pt x="21022" y="15913"/>
                  <a:pt x="21059" y="15974"/>
                </a:cubicBezTo>
                <a:cubicBezTo>
                  <a:pt x="21050" y="15906"/>
                  <a:pt x="21038" y="15840"/>
                  <a:pt x="21010" y="15776"/>
                </a:cubicBezTo>
                <a:cubicBezTo>
                  <a:pt x="20975" y="15696"/>
                  <a:pt x="20903" y="15656"/>
                  <a:pt x="20811" y="15677"/>
                </a:cubicBezTo>
                <a:cubicBezTo>
                  <a:pt x="20774" y="15685"/>
                  <a:pt x="20723" y="15818"/>
                  <a:pt x="20712" y="15850"/>
                </a:cubicBezTo>
                <a:cubicBezTo>
                  <a:pt x="20666" y="15991"/>
                  <a:pt x="20732" y="16131"/>
                  <a:pt x="20762" y="16272"/>
                </a:cubicBezTo>
                <a:cubicBezTo>
                  <a:pt x="20802" y="16462"/>
                  <a:pt x="20878" y="16554"/>
                  <a:pt x="21010" y="16694"/>
                </a:cubicBezTo>
              </a:path>
              <a:path w="2680" h="5036">
                <a:moveTo>
                  <a:pt x="21406" y="16272"/>
                </a:moveTo>
                <a:cubicBezTo>
                  <a:pt x="21364" y="16357"/>
                  <a:pt x="21313" y="16402"/>
                  <a:pt x="21307" y="16495"/>
                </a:cubicBezTo>
                <a:cubicBezTo>
                  <a:pt x="21301" y="16582"/>
                  <a:pt x="21314" y="16750"/>
                  <a:pt x="21382" y="16818"/>
                </a:cubicBezTo>
                <a:cubicBezTo>
                  <a:pt x="21398" y="16826"/>
                  <a:pt x="21415" y="16834"/>
                  <a:pt x="21431" y="16842"/>
                </a:cubicBezTo>
                <a:cubicBezTo>
                  <a:pt x="21550" y="16784"/>
                  <a:pt x="21552" y="16733"/>
                  <a:pt x="21555" y="16594"/>
                </a:cubicBezTo>
                <a:cubicBezTo>
                  <a:pt x="21559" y="16438"/>
                  <a:pt x="21523" y="16324"/>
                  <a:pt x="21431" y="16197"/>
                </a:cubicBezTo>
                <a:cubicBezTo>
                  <a:pt x="21394" y="16147"/>
                  <a:pt x="21386" y="16151"/>
                  <a:pt x="21406" y="16098"/>
                </a:cubicBezTo>
              </a:path>
              <a:path w="2680" h="5036">
                <a:moveTo>
                  <a:pt x="21828" y="16049"/>
                </a:moveTo>
                <a:cubicBezTo>
                  <a:pt x="21834" y="16273"/>
                  <a:pt x="21849" y="16474"/>
                  <a:pt x="21878" y="16694"/>
                </a:cubicBezTo>
              </a:path>
              <a:path w="2680" h="5036">
                <a:moveTo>
                  <a:pt x="21630" y="16297"/>
                </a:moveTo>
                <a:cubicBezTo>
                  <a:pt x="21766" y="16354"/>
                  <a:pt x="21894" y="16407"/>
                  <a:pt x="22027" y="16470"/>
                </a:cubicBezTo>
              </a:path>
              <a:path w="2680" h="5036">
                <a:moveTo>
                  <a:pt x="20737" y="13568"/>
                </a:moveTo>
                <a:cubicBezTo>
                  <a:pt x="20668" y="13554"/>
                  <a:pt x="20538" y="13514"/>
                  <a:pt x="20464" y="13543"/>
                </a:cubicBezTo>
                <a:cubicBezTo>
                  <a:pt x="20456" y="13551"/>
                  <a:pt x="20447" y="13560"/>
                  <a:pt x="20439" y="13568"/>
                </a:cubicBezTo>
                <a:cubicBezTo>
                  <a:pt x="20459" y="13657"/>
                  <a:pt x="20536" y="13788"/>
                  <a:pt x="20588" y="13866"/>
                </a:cubicBezTo>
                <a:cubicBezTo>
                  <a:pt x="20685" y="14011"/>
                  <a:pt x="20815" y="14143"/>
                  <a:pt x="20786" y="14337"/>
                </a:cubicBezTo>
                <a:cubicBezTo>
                  <a:pt x="20769" y="14452"/>
                  <a:pt x="20703" y="14495"/>
                  <a:pt x="20588" y="14461"/>
                </a:cubicBezTo>
                <a:cubicBezTo>
                  <a:pt x="20536" y="14446"/>
                  <a:pt x="20503" y="14303"/>
                  <a:pt x="20489" y="14263"/>
                </a:cubicBezTo>
              </a:path>
              <a:path w="2680" h="5036">
                <a:moveTo>
                  <a:pt x="20613" y="14213"/>
                </a:moveTo>
                <a:cubicBezTo>
                  <a:pt x="20773" y="14253"/>
                  <a:pt x="20898" y="14288"/>
                  <a:pt x="21059" y="14288"/>
                </a:cubicBezTo>
                <a:cubicBezTo>
                  <a:pt x="21141" y="14288"/>
                  <a:pt x="21233" y="14244"/>
                  <a:pt x="21233" y="14139"/>
                </a:cubicBezTo>
                <a:cubicBezTo>
                  <a:pt x="21233" y="14081"/>
                  <a:pt x="21113" y="14060"/>
                  <a:pt x="21084" y="14064"/>
                </a:cubicBezTo>
                <a:cubicBezTo>
                  <a:pt x="20995" y="14076"/>
                  <a:pt x="20927" y="14117"/>
                  <a:pt x="20910" y="14213"/>
                </a:cubicBezTo>
                <a:cubicBezTo>
                  <a:pt x="20897" y="14285"/>
                  <a:pt x="20943" y="14403"/>
                  <a:pt x="20985" y="14461"/>
                </a:cubicBezTo>
                <a:cubicBezTo>
                  <a:pt x="21034" y="14528"/>
                  <a:pt x="21084" y="14528"/>
                  <a:pt x="21158" y="14536"/>
                </a:cubicBezTo>
              </a:path>
              <a:path w="2680" h="5036">
                <a:moveTo>
                  <a:pt x="21530" y="14163"/>
                </a:moveTo>
                <a:cubicBezTo>
                  <a:pt x="21421" y="14173"/>
                  <a:pt x="21388" y="14189"/>
                  <a:pt x="21332" y="14288"/>
                </a:cubicBezTo>
                <a:cubicBezTo>
                  <a:pt x="21296" y="14352"/>
                  <a:pt x="21322" y="14471"/>
                  <a:pt x="21357" y="14536"/>
                </a:cubicBezTo>
                <a:cubicBezTo>
                  <a:pt x="21406" y="14627"/>
                  <a:pt x="21476" y="14674"/>
                  <a:pt x="21555" y="14734"/>
                </a:cubicBezTo>
              </a:path>
              <a:path w="2680" h="5036">
                <a:moveTo>
                  <a:pt x="21952" y="14139"/>
                </a:moveTo>
                <a:cubicBezTo>
                  <a:pt x="22061" y="14160"/>
                  <a:pt x="22087" y="14163"/>
                  <a:pt x="22151" y="14188"/>
                </a:cubicBezTo>
              </a:path>
              <a:path w="2680" h="5036">
                <a:moveTo>
                  <a:pt x="22002" y="14486"/>
                </a:moveTo>
                <a:cubicBezTo>
                  <a:pt x="22089" y="14555"/>
                  <a:pt x="22155" y="14612"/>
                  <a:pt x="22250" y="14660"/>
                </a:cubicBezTo>
              </a:path>
              <a:path w="2680" h="5036">
                <a:moveTo>
                  <a:pt x="22647" y="16619"/>
                </a:moveTo>
                <a:cubicBezTo>
                  <a:pt x="22719" y="16643"/>
                  <a:pt x="22742" y="16650"/>
                  <a:pt x="22771" y="16694"/>
                </a:cubicBezTo>
              </a:path>
              <a:path w="2680" h="5036">
                <a:moveTo>
                  <a:pt x="22597" y="16842"/>
                </a:moveTo>
                <a:lnTo>
                  <a:pt x="22597" y="16842"/>
                </a:lnTo>
              </a:path>
              <a:path w="2680" h="5036">
                <a:moveTo>
                  <a:pt x="20737" y="12030"/>
                </a:moveTo>
                <a:cubicBezTo>
                  <a:pt x="20702" y="12042"/>
                  <a:pt x="20699" y="11993"/>
                  <a:pt x="20662" y="11931"/>
                </a:cubicBezTo>
                <a:cubicBezTo>
                  <a:pt x="20633" y="11882"/>
                  <a:pt x="20603" y="11798"/>
                  <a:pt x="20538" y="11807"/>
                </a:cubicBezTo>
                <a:cubicBezTo>
                  <a:pt x="20392" y="11827"/>
                  <a:pt x="20320" y="11888"/>
                  <a:pt x="20216" y="11981"/>
                </a:cubicBezTo>
                <a:cubicBezTo>
                  <a:pt x="20148" y="12042"/>
                  <a:pt x="20106" y="12185"/>
                  <a:pt x="20092" y="12278"/>
                </a:cubicBezTo>
                <a:cubicBezTo>
                  <a:pt x="20077" y="12380"/>
                  <a:pt x="20144" y="12507"/>
                  <a:pt x="20216" y="12576"/>
                </a:cubicBezTo>
                <a:cubicBezTo>
                  <a:pt x="20328" y="12683"/>
                  <a:pt x="20412" y="12692"/>
                  <a:pt x="20563" y="12700"/>
                </a:cubicBezTo>
              </a:path>
              <a:path w="2680" h="5036">
                <a:moveTo>
                  <a:pt x="20960" y="12378"/>
                </a:moveTo>
                <a:cubicBezTo>
                  <a:pt x="20875" y="12357"/>
                  <a:pt x="20811" y="12333"/>
                  <a:pt x="20737" y="12378"/>
                </a:cubicBezTo>
                <a:cubicBezTo>
                  <a:pt x="20795" y="12455"/>
                  <a:pt x="20865" y="12528"/>
                  <a:pt x="20935" y="12601"/>
                </a:cubicBezTo>
                <a:cubicBezTo>
                  <a:pt x="20977" y="12645"/>
                  <a:pt x="21109" y="12748"/>
                  <a:pt x="21084" y="12824"/>
                </a:cubicBezTo>
                <a:cubicBezTo>
                  <a:pt x="21062" y="12888"/>
                  <a:pt x="20984" y="12900"/>
                  <a:pt x="20935" y="12874"/>
                </a:cubicBezTo>
                <a:cubicBezTo>
                  <a:pt x="20862" y="12835"/>
                  <a:pt x="20872" y="12764"/>
                  <a:pt x="20861" y="12700"/>
                </a:cubicBezTo>
              </a:path>
              <a:path w="2680" h="5036">
                <a:moveTo>
                  <a:pt x="21530" y="12452"/>
                </a:moveTo>
                <a:cubicBezTo>
                  <a:pt x="21538" y="12469"/>
                  <a:pt x="21547" y="12485"/>
                  <a:pt x="21555" y="12502"/>
                </a:cubicBezTo>
                <a:cubicBezTo>
                  <a:pt x="21529" y="12394"/>
                  <a:pt x="21503" y="12392"/>
                  <a:pt x="21406" y="12402"/>
                </a:cubicBezTo>
                <a:cubicBezTo>
                  <a:pt x="21310" y="12412"/>
                  <a:pt x="21298" y="12466"/>
                  <a:pt x="21258" y="12551"/>
                </a:cubicBezTo>
                <a:cubicBezTo>
                  <a:pt x="21205" y="12662"/>
                  <a:pt x="21198" y="12705"/>
                  <a:pt x="21282" y="12799"/>
                </a:cubicBezTo>
                <a:cubicBezTo>
                  <a:pt x="21396" y="12926"/>
                  <a:pt x="21462" y="12933"/>
                  <a:pt x="21630" y="12948"/>
                </a:cubicBezTo>
              </a:path>
              <a:path w="2680" h="5036">
                <a:moveTo>
                  <a:pt x="22076" y="12378"/>
                </a:moveTo>
                <a:cubicBezTo>
                  <a:pt x="22126" y="12378"/>
                  <a:pt x="22175" y="12378"/>
                  <a:pt x="22225" y="12378"/>
                </a:cubicBezTo>
              </a:path>
              <a:path w="2680" h="5036">
                <a:moveTo>
                  <a:pt x="22051" y="12477"/>
                </a:moveTo>
                <a:cubicBezTo>
                  <a:pt x="22120" y="12536"/>
                  <a:pt x="22207" y="12589"/>
                  <a:pt x="22299" y="12601"/>
                </a:cubicBezTo>
                <a:cubicBezTo>
                  <a:pt x="22332" y="12601"/>
                  <a:pt x="22366" y="12601"/>
                  <a:pt x="22399" y="126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Ink 17"/>
          <p:cNvSpPr/>
          <p:nvPr/>
        </p:nvSpPr>
        <p:spPr>
          <a:xfrm>
            <a:off x="6170760" y="3929040"/>
            <a:ext cx="706320" cy="563760"/>
          </a:xfrm>
          <a:custGeom>
            <a:avLst/>
            <a:gdLst/>
            <a:ahLst/>
            <a:rect l="l" t="t" r="r" b="b"/>
            <a:pathLst>
              <a:path w="1961" h="1564">
                <a:moveTo>
                  <a:pt x="17363" y="10964"/>
                </a:moveTo>
                <a:cubicBezTo>
                  <a:pt x="17403" y="11030"/>
                  <a:pt x="17367" y="11061"/>
                  <a:pt x="17363" y="11137"/>
                </a:cubicBezTo>
                <a:cubicBezTo>
                  <a:pt x="17359" y="11209"/>
                  <a:pt x="17333" y="11268"/>
                  <a:pt x="17314" y="11336"/>
                </a:cubicBezTo>
                <a:cubicBezTo>
                  <a:pt x="17289" y="11422"/>
                  <a:pt x="17275" y="11504"/>
                  <a:pt x="17264" y="11584"/>
                </a:cubicBezTo>
              </a:path>
              <a:path w="1961" h="1564">
                <a:moveTo>
                  <a:pt x="17611" y="10939"/>
                </a:moveTo>
                <a:cubicBezTo>
                  <a:pt x="17611" y="11017"/>
                  <a:pt x="17605" y="11113"/>
                  <a:pt x="17587" y="11187"/>
                </a:cubicBezTo>
                <a:cubicBezTo>
                  <a:pt x="17571" y="11252"/>
                  <a:pt x="17534" y="11363"/>
                  <a:pt x="17562" y="11435"/>
                </a:cubicBezTo>
                <a:cubicBezTo>
                  <a:pt x="17587" y="11500"/>
                  <a:pt x="17663" y="11476"/>
                  <a:pt x="17711" y="11460"/>
                </a:cubicBezTo>
                <a:cubicBezTo>
                  <a:pt x="17740" y="11450"/>
                  <a:pt x="17825" y="11395"/>
                  <a:pt x="17835" y="11361"/>
                </a:cubicBezTo>
                <a:cubicBezTo>
                  <a:pt x="17854" y="11296"/>
                  <a:pt x="17865" y="11250"/>
                  <a:pt x="17835" y="11187"/>
                </a:cubicBezTo>
                <a:cubicBezTo>
                  <a:pt x="17770" y="11224"/>
                  <a:pt x="17716" y="11259"/>
                  <a:pt x="17661" y="11311"/>
                </a:cubicBezTo>
                <a:cubicBezTo>
                  <a:pt x="17594" y="11374"/>
                  <a:pt x="17510" y="11456"/>
                  <a:pt x="17462" y="11534"/>
                </a:cubicBezTo>
                <a:cubicBezTo>
                  <a:pt x="17462" y="11542"/>
                  <a:pt x="17462" y="11551"/>
                  <a:pt x="17462" y="11559"/>
                </a:cubicBezTo>
              </a:path>
              <a:path w="1961" h="1564">
                <a:moveTo>
                  <a:pt x="17140" y="11782"/>
                </a:moveTo>
                <a:cubicBezTo>
                  <a:pt x="17187" y="11744"/>
                  <a:pt x="17235" y="11712"/>
                  <a:pt x="17289" y="11683"/>
                </a:cubicBezTo>
                <a:cubicBezTo>
                  <a:pt x="17358" y="11646"/>
                  <a:pt x="17440" y="11630"/>
                  <a:pt x="17512" y="11609"/>
                </a:cubicBezTo>
                <a:cubicBezTo>
                  <a:pt x="17587" y="11587"/>
                  <a:pt x="17659" y="11565"/>
                  <a:pt x="17735" y="11559"/>
                </a:cubicBezTo>
                <a:cubicBezTo>
                  <a:pt x="17743" y="11559"/>
                  <a:pt x="17752" y="11559"/>
                  <a:pt x="17760" y="11559"/>
                </a:cubicBezTo>
              </a:path>
              <a:path w="1961" h="1564">
                <a:moveTo>
                  <a:pt x="17264" y="11956"/>
                </a:moveTo>
                <a:cubicBezTo>
                  <a:pt x="17277" y="11911"/>
                  <a:pt x="17327" y="11827"/>
                  <a:pt x="17388" y="11807"/>
                </a:cubicBezTo>
                <a:cubicBezTo>
                  <a:pt x="17423" y="11795"/>
                  <a:pt x="17515" y="11774"/>
                  <a:pt x="17537" y="11832"/>
                </a:cubicBezTo>
                <a:cubicBezTo>
                  <a:pt x="17566" y="11910"/>
                  <a:pt x="17493" y="11970"/>
                  <a:pt x="17462" y="12030"/>
                </a:cubicBezTo>
                <a:cubicBezTo>
                  <a:pt x="17412" y="12126"/>
                  <a:pt x="17361" y="12208"/>
                  <a:pt x="17314" y="12303"/>
                </a:cubicBezTo>
                <a:cubicBezTo>
                  <a:pt x="17291" y="12349"/>
                  <a:pt x="17274" y="12368"/>
                  <a:pt x="17239" y="12402"/>
                </a:cubicBezTo>
                <a:cubicBezTo>
                  <a:pt x="17254" y="12376"/>
                  <a:pt x="17301" y="12286"/>
                  <a:pt x="17338" y="12278"/>
                </a:cubicBezTo>
                <a:cubicBezTo>
                  <a:pt x="17430" y="12258"/>
                  <a:pt x="17432" y="12324"/>
                  <a:pt x="17487" y="12378"/>
                </a:cubicBezTo>
                <a:cubicBezTo>
                  <a:pt x="17519" y="12409"/>
                  <a:pt x="17515" y="12440"/>
                  <a:pt x="17537" y="12477"/>
                </a:cubicBezTo>
              </a:path>
              <a:path w="1961" h="1564">
                <a:moveTo>
                  <a:pt x="17785" y="11832"/>
                </a:moveTo>
                <a:cubicBezTo>
                  <a:pt x="17761" y="11920"/>
                  <a:pt x="17735" y="11997"/>
                  <a:pt x="17711" y="12080"/>
                </a:cubicBezTo>
                <a:cubicBezTo>
                  <a:pt x="17684" y="12172"/>
                  <a:pt x="17678" y="12220"/>
                  <a:pt x="17735" y="12303"/>
                </a:cubicBezTo>
                <a:cubicBezTo>
                  <a:pt x="17743" y="12311"/>
                  <a:pt x="17752" y="12320"/>
                  <a:pt x="17760" y="12328"/>
                </a:cubicBezTo>
                <a:cubicBezTo>
                  <a:pt x="17825" y="12312"/>
                  <a:pt x="17876" y="12272"/>
                  <a:pt x="17934" y="12229"/>
                </a:cubicBezTo>
                <a:cubicBezTo>
                  <a:pt x="17964" y="12207"/>
                  <a:pt x="17994" y="12093"/>
                  <a:pt x="17983" y="12055"/>
                </a:cubicBezTo>
                <a:cubicBezTo>
                  <a:pt x="17965" y="11993"/>
                  <a:pt x="17904" y="11966"/>
                  <a:pt x="17859" y="11931"/>
                </a:cubicBezTo>
                <a:cubicBezTo>
                  <a:pt x="17801" y="11887"/>
                  <a:pt x="17706" y="11932"/>
                  <a:pt x="17636" y="11956"/>
                </a:cubicBezTo>
                <a:cubicBezTo>
                  <a:pt x="17596" y="11976"/>
                  <a:pt x="17590" y="11985"/>
                  <a:pt x="17562" y="11981"/>
                </a:cubicBezTo>
              </a:path>
              <a:path w="1961" h="1564">
                <a:moveTo>
                  <a:pt x="18182" y="11435"/>
                </a:moveTo>
                <a:cubicBezTo>
                  <a:pt x="18248" y="11435"/>
                  <a:pt x="18314" y="11435"/>
                  <a:pt x="18380" y="11435"/>
                </a:cubicBezTo>
              </a:path>
              <a:path w="1961" h="1564">
                <a:moveTo>
                  <a:pt x="18182" y="11683"/>
                </a:moveTo>
                <a:cubicBezTo>
                  <a:pt x="18240" y="11683"/>
                  <a:pt x="18297" y="11683"/>
                  <a:pt x="18355" y="11683"/>
                </a:cubicBezTo>
              </a:path>
              <a:path w="1961" h="1564">
                <a:moveTo>
                  <a:pt x="18728" y="11013"/>
                </a:moveTo>
                <a:cubicBezTo>
                  <a:pt x="18728" y="11079"/>
                  <a:pt x="18730" y="11157"/>
                  <a:pt x="18703" y="11212"/>
                </a:cubicBezTo>
                <a:cubicBezTo>
                  <a:pt x="18690" y="11237"/>
                  <a:pt x="18648" y="11266"/>
                  <a:pt x="18628" y="11286"/>
                </a:cubicBezTo>
                <a:cubicBezTo>
                  <a:pt x="18692" y="11350"/>
                  <a:pt x="18695" y="11330"/>
                  <a:pt x="18777" y="11311"/>
                </a:cubicBezTo>
                <a:cubicBezTo>
                  <a:pt x="18785" y="11311"/>
                  <a:pt x="18794" y="11311"/>
                  <a:pt x="18802" y="11311"/>
                </a:cubicBezTo>
              </a:path>
              <a:path w="1961" h="1564">
                <a:moveTo>
                  <a:pt x="18926" y="10914"/>
                </a:moveTo>
                <a:cubicBezTo>
                  <a:pt x="18902" y="11001"/>
                  <a:pt x="18887" y="11097"/>
                  <a:pt x="18876" y="11187"/>
                </a:cubicBezTo>
                <a:cubicBezTo>
                  <a:pt x="18864" y="11285"/>
                  <a:pt x="18857" y="11387"/>
                  <a:pt x="18852" y="11485"/>
                </a:cubicBezTo>
                <a:cubicBezTo>
                  <a:pt x="18852" y="11493"/>
                  <a:pt x="18852" y="11501"/>
                  <a:pt x="18852" y="11509"/>
                </a:cubicBezTo>
              </a:path>
              <a:path w="1961" h="1564">
                <a:moveTo>
                  <a:pt x="18604" y="11683"/>
                </a:moveTo>
                <a:cubicBezTo>
                  <a:pt x="18671" y="11683"/>
                  <a:pt x="18723" y="11669"/>
                  <a:pt x="18777" y="11658"/>
                </a:cubicBezTo>
                <a:cubicBezTo>
                  <a:pt x="18875" y="11638"/>
                  <a:pt x="19000" y="11658"/>
                  <a:pt x="19100" y="11658"/>
                </a:cubicBezTo>
              </a:path>
              <a:path w="1961" h="1564">
                <a:moveTo>
                  <a:pt x="18827" y="11832"/>
                </a:moveTo>
                <a:cubicBezTo>
                  <a:pt x="18909" y="11832"/>
                  <a:pt x="18953" y="11813"/>
                  <a:pt x="19025" y="11807"/>
                </a:cubicBezTo>
                <a:cubicBezTo>
                  <a:pt x="19033" y="11807"/>
                  <a:pt x="19042" y="11807"/>
                  <a:pt x="19050" y="11807"/>
                </a:cubicBezTo>
              </a:path>
              <a:path w="1961" h="1564">
                <a:moveTo>
                  <a:pt x="18777" y="11881"/>
                </a:moveTo>
                <a:cubicBezTo>
                  <a:pt x="18772" y="11966"/>
                  <a:pt x="18739" y="12041"/>
                  <a:pt x="18777" y="12105"/>
                </a:cubicBezTo>
                <a:cubicBezTo>
                  <a:pt x="18827" y="12065"/>
                  <a:pt x="18882" y="12036"/>
                  <a:pt x="18951" y="12055"/>
                </a:cubicBezTo>
                <a:cubicBezTo>
                  <a:pt x="19009" y="12071"/>
                  <a:pt x="19069" y="12167"/>
                  <a:pt x="19050" y="12229"/>
                </a:cubicBezTo>
                <a:cubicBezTo>
                  <a:pt x="19045" y="12244"/>
                  <a:pt x="18966" y="12324"/>
                  <a:pt x="18951" y="12328"/>
                </a:cubicBezTo>
                <a:cubicBezTo>
                  <a:pt x="18899" y="12343"/>
                  <a:pt x="18784" y="12375"/>
                  <a:pt x="18728" y="12353"/>
                </a:cubicBezTo>
                <a:cubicBezTo>
                  <a:pt x="18720" y="12345"/>
                  <a:pt x="18711" y="12336"/>
                  <a:pt x="18703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Ink 18"/>
          <p:cNvSpPr/>
          <p:nvPr/>
        </p:nvSpPr>
        <p:spPr>
          <a:xfrm>
            <a:off x="6180120" y="4687920"/>
            <a:ext cx="749160" cy="1598760"/>
          </a:xfrm>
          <a:custGeom>
            <a:avLst/>
            <a:gdLst/>
            <a:ahLst/>
            <a:rect l="l" t="t" r="r" b="b"/>
            <a:pathLst>
              <a:path w="2084" h="4441">
                <a:moveTo>
                  <a:pt x="17438" y="13221"/>
                </a:moveTo>
                <a:cubicBezTo>
                  <a:pt x="17417" y="13318"/>
                  <a:pt x="17436" y="13427"/>
                  <a:pt x="17413" y="13519"/>
                </a:cubicBezTo>
                <a:cubicBezTo>
                  <a:pt x="17388" y="13618"/>
                  <a:pt x="17381" y="13718"/>
                  <a:pt x="17338" y="13816"/>
                </a:cubicBezTo>
                <a:cubicBezTo>
                  <a:pt x="17312" y="13874"/>
                  <a:pt x="17294" y="13935"/>
                  <a:pt x="17338" y="13965"/>
                </a:cubicBezTo>
              </a:path>
              <a:path w="2084" h="4441">
                <a:moveTo>
                  <a:pt x="17512" y="13419"/>
                </a:moveTo>
                <a:cubicBezTo>
                  <a:pt x="17523" y="13346"/>
                  <a:pt x="17555" y="13327"/>
                  <a:pt x="17611" y="13271"/>
                </a:cubicBezTo>
                <a:cubicBezTo>
                  <a:pt x="17645" y="13237"/>
                  <a:pt x="17783" y="13139"/>
                  <a:pt x="17835" y="13196"/>
                </a:cubicBezTo>
                <a:cubicBezTo>
                  <a:pt x="17902" y="13269"/>
                  <a:pt x="17841" y="13398"/>
                  <a:pt x="17810" y="13469"/>
                </a:cubicBezTo>
                <a:cubicBezTo>
                  <a:pt x="17758" y="13590"/>
                  <a:pt x="17700" y="13700"/>
                  <a:pt x="17636" y="13816"/>
                </a:cubicBezTo>
                <a:cubicBezTo>
                  <a:pt x="17610" y="13864"/>
                  <a:pt x="17612" y="13897"/>
                  <a:pt x="17587" y="13940"/>
                </a:cubicBezTo>
                <a:cubicBezTo>
                  <a:pt x="17650" y="13889"/>
                  <a:pt x="17727" y="13835"/>
                  <a:pt x="17785" y="13791"/>
                </a:cubicBezTo>
                <a:cubicBezTo>
                  <a:pt x="17838" y="13751"/>
                  <a:pt x="17884" y="13742"/>
                  <a:pt x="17934" y="13717"/>
                </a:cubicBezTo>
                <a:cubicBezTo>
                  <a:pt x="17956" y="13695"/>
                  <a:pt x="17961" y="13686"/>
                  <a:pt x="17983" y="13692"/>
                </a:cubicBezTo>
              </a:path>
              <a:path w="2084" h="4441">
                <a:moveTo>
                  <a:pt x="17165" y="14263"/>
                </a:moveTo>
                <a:cubicBezTo>
                  <a:pt x="17224" y="14228"/>
                  <a:pt x="17257" y="14175"/>
                  <a:pt x="17314" y="14139"/>
                </a:cubicBezTo>
                <a:cubicBezTo>
                  <a:pt x="17404" y="14082"/>
                  <a:pt x="17463" y="14011"/>
                  <a:pt x="17562" y="13965"/>
                </a:cubicBezTo>
                <a:cubicBezTo>
                  <a:pt x="17624" y="13936"/>
                  <a:pt x="17670" y="13940"/>
                  <a:pt x="17735" y="13940"/>
                </a:cubicBezTo>
              </a:path>
              <a:path w="2084" h="4441">
                <a:moveTo>
                  <a:pt x="17239" y="14536"/>
                </a:moveTo>
                <a:cubicBezTo>
                  <a:pt x="17171" y="14522"/>
                  <a:pt x="17219" y="14453"/>
                  <a:pt x="17289" y="14412"/>
                </a:cubicBezTo>
                <a:cubicBezTo>
                  <a:pt x="17375" y="14361"/>
                  <a:pt x="17408" y="14410"/>
                  <a:pt x="17413" y="14486"/>
                </a:cubicBezTo>
                <a:cubicBezTo>
                  <a:pt x="17418" y="14574"/>
                  <a:pt x="17368" y="14632"/>
                  <a:pt x="17338" y="14709"/>
                </a:cubicBezTo>
                <a:cubicBezTo>
                  <a:pt x="17309" y="14783"/>
                  <a:pt x="17288" y="14861"/>
                  <a:pt x="17264" y="14932"/>
                </a:cubicBezTo>
                <a:cubicBezTo>
                  <a:pt x="17242" y="14976"/>
                  <a:pt x="17229" y="14988"/>
                  <a:pt x="17264" y="15007"/>
                </a:cubicBezTo>
                <a:cubicBezTo>
                  <a:pt x="17299" y="14972"/>
                  <a:pt x="17313" y="14952"/>
                  <a:pt x="17338" y="14908"/>
                </a:cubicBezTo>
              </a:path>
              <a:path w="2084" h="4441">
                <a:moveTo>
                  <a:pt x="17587" y="14337"/>
                </a:moveTo>
                <a:cubicBezTo>
                  <a:pt x="17587" y="14440"/>
                  <a:pt x="17580" y="14561"/>
                  <a:pt x="17611" y="14660"/>
                </a:cubicBezTo>
                <a:cubicBezTo>
                  <a:pt x="17636" y="14709"/>
                  <a:pt x="17645" y="14726"/>
                  <a:pt x="17661" y="14759"/>
                </a:cubicBezTo>
                <a:cubicBezTo>
                  <a:pt x="17716" y="14751"/>
                  <a:pt x="17751" y="14736"/>
                  <a:pt x="17785" y="14684"/>
                </a:cubicBezTo>
                <a:cubicBezTo>
                  <a:pt x="17816" y="14637"/>
                  <a:pt x="17825" y="14541"/>
                  <a:pt x="17810" y="14486"/>
                </a:cubicBezTo>
                <a:cubicBezTo>
                  <a:pt x="17793" y="14424"/>
                  <a:pt x="17778" y="14333"/>
                  <a:pt x="17686" y="14362"/>
                </a:cubicBezTo>
                <a:cubicBezTo>
                  <a:pt x="17625" y="14381"/>
                  <a:pt x="17631" y="14466"/>
                  <a:pt x="17562" y="14486"/>
                </a:cubicBezTo>
                <a:cubicBezTo>
                  <a:pt x="17545" y="14486"/>
                  <a:pt x="17529" y="14486"/>
                  <a:pt x="17512" y="14486"/>
                </a:cubicBezTo>
              </a:path>
              <a:path w="2084" h="4441">
                <a:moveTo>
                  <a:pt x="18157" y="13891"/>
                </a:moveTo>
                <a:cubicBezTo>
                  <a:pt x="18219" y="13882"/>
                  <a:pt x="18276" y="13869"/>
                  <a:pt x="18331" y="13841"/>
                </a:cubicBezTo>
              </a:path>
              <a:path w="2084" h="4441">
                <a:moveTo>
                  <a:pt x="18132" y="14114"/>
                </a:moveTo>
                <a:cubicBezTo>
                  <a:pt x="18216" y="14093"/>
                  <a:pt x="18235" y="14091"/>
                  <a:pt x="18281" y="14064"/>
                </a:cubicBezTo>
              </a:path>
              <a:path w="2084" h="4441">
                <a:moveTo>
                  <a:pt x="18653" y="13146"/>
                </a:moveTo>
                <a:cubicBezTo>
                  <a:pt x="18673" y="13127"/>
                  <a:pt x="18746" y="13031"/>
                  <a:pt x="18777" y="13022"/>
                </a:cubicBezTo>
                <a:cubicBezTo>
                  <a:pt x="18832" y="13006"/>
                  <a:pt x="18883" y="13026"/>
                  <a:pt x="18926" y="13047"/>
                </a:cubicBezTo>
                <a:cubicBezTo>
                  <a:pt x="18889" y="13140"/>
                  <a:pt x="18857" y="13142"/>
                  <a:pt x="18802" y="13221"/>
                </a:cubicBezTo>
                <a:cubicBezTo>
                  <a:pt x="18767" y="13271"/>
                  <a:pt x="18759" y="13313"/>
                  <a:pt x="18752" y="13370"/>
                </a:cubicBezTo>
                <a:cubicBezTo>
                  <a:pt x="18813" y="13347"/>
                  <a:pt x="18908" y="13303"/>
                  <a:pt x="18976" y="13320"/>
                </a:cubicBezTo>
                <a:cubicBezTo>
                  <a:pt x="19029" y="13333"/>
                  <a:pt x="19001" y="13469"/>
                  <a:pt x="18976" y="13494"/>
                </a:cubicBezTo>
                <a:cubicBezTo>
                  <a:pt x="18906" y="13565"/>
                  <a:pt x="18803" y="13617"/>
                  <a:pt x="18728" y="13692"/>
                </a:cubicBezTo>
                <a:cubicBezTo>
                  <a:pt x="18720" y="13700"/>
                  <a:pt x="18711" y="13709"/>
                  <a:pt x="18703" y="13717"/>
                </a:cubicBezTo>
              </a:path>
              <a:path w="2084" h="4441">
                <a:moveTo>
                  <a:pt x="18703" y="13791"/>
                </a:moveTo>
                <a:cubicBezTo>
                  <a:pt x="18804" y="13738"/>
                  <a:pt x="18885" y="13735"/>
                  <a:pt x="18976" y="13692"/>
                </a:cubicBezTo>
                <a:cubicBezTo>
                  <a:pt x="19035" y="13664"/>
                  <a:pt x="19086" y="13642"/>
                  <a:pt x="19149" y="13618"/>
                </a:cubicBezTo>
              </a:path>
              <a:path w="2084" h="4441">
                <a:moveTo>
                  <a:pt x="18827" y="13891"/>
                </a:moveTo>
                <a:cubicBezTo>
                  <a:pt x="18895" y="13861"/>
                  <a:pt x="18948" y="13843"/>
                  <a:pt x="19000" y="13791"/>
                </a:cubicBezTo>
                <a:cubicBezTo>
                  <a:pt x="19023" y="13769"/>
                  <a:pt x="19031" y="13764"/>
                  <a:pt x="19025" y="13742"/>
                </a:cubicBezTo>
              </a:path>
              <a:path w="2084" h="4441">
                <a:moveTo>
                  <a:pt x="18827" y="13866"/>
                </a:moveTo>
                <a:cubicBezTo>
                  <a:pt x="18788" y="13937"/>
                  <a:pt x="18763" y="14008"/>
                  <a:pt x="18752" y="14089"/>
                </a:cubicBezTo>
                <a:cubicBezTo>
                  <a:pt x="18743" y="14154"/>
                  <a:pt x="18748" y="14190"/>
                  <a:pt x="18777" y="14238"/>
                </a:cubicBezTo>
                <a:cubicBezTo>
                  <a:pt x="18834" y="14216"/>
                  <a:pt x="18893" y="14177"/>
                  <a:pt x="18951" y="14163"/>
                </a:cubicBezTo>
                <a:cubicBezTo>
                  <a:pt x="18988" y="14154"/>
                  <a:pt x="19086" y="14199"/>
                  <a:pt x="19100" y="14238"/>
                </a:cubicBezTo>
                <a:cubicBezTo>
                  <a:pt x="19128" y="14316"/>
                  <a:pt x="19086" y="14377"/>
                  <a:pt x="19050" y="14436"/>
                </a:cubicBezTo>
                <a:cubicBezTo>
                  <a:pt x="18997" y="14524"/>
                  <a:pt x="18915" y="14547"/>
                  <a:pt x="18827" y="14610"/>
                </a:cubicBezTo>
                <a:cubicBezTo>
                  <a:pt x="18763" y="14656"/>
                  <a:pt x="18733" y="14660"/>
                  <a:pt x="18653" y="14660"/>
                </a:cubicBezTo>
              </a:path>
              <a:path w="2084" h="4441">
                <a:moveTo>
                  <a:pt x="17835" y="15553"/>
                </a:moveTo>
                <a:cubicBezTo>
                  <a:pt x="17826" y="15623"/>
                  <a:pt x="17810" y="15678"/>
                  <a:pt x="17810" y="15751"/>
                </a:cubicBezTo>
                <a:cubicBezTo>
                  <a:pt x="17810" y="15847"/>
                  <a:pt x="17790" y="15931"/>
                  <a:pt x="17785" y="16024"/>
                </a:cubicBezTo>
                <a:cubicBezTo>
                  <a:pt x="17781" y="16106"/>
                  <a:pt x="17764" y="16174"/>
                  <a:pt x="17760" y="16247"/>
                </a:cubicBezTo>
                <a:cubicBezTo>
                  <a:pt x="17760" y="16289"/>
                  <a:pt x="17752" y="16305"/>
                  <a:pt x="17785" y="16297"/>
                </a:cubicBezTo>
              </a:path>
              <a:path w="2084" h="4441">
                <a:moveTo>
                  <a:pt x="18008" y="15751"/>
                </a:moveTo>
                <a:cubicBezTo>
                  <a:pt x="17990" y="15856"/>
                  <a:pt x="17983" y="15944"/>
                  <a:pt x="17983" y="16049"/>
                </a:cubicBezTo>
                <a:cubicBezTo>
                  <a:pt x="17983" y="16134"/>
                  <a:pt x="17995" y="16194"/>
                  <a:pt x="18008" y="16272"/>
                </a:cubicBezTo>
                <a:cubicBezTo>
                  <a:pt x="18008" y="16288"/>
                  <a:pt x="18008" y="16305"/>
                  <a:pt x="18008" y="16321"/>
                </a:cubicBezTo>
                <a:cubicBezTo>
                  <a:pt x="18042" y="16279"/>
                  <a:pt x="18068" y="16236"/>
                  <a:pt x="18107" y="16197"/>
                </a:cubicBezTo>
                <a:cubicBezTo>
                  <a:pt x="18144" y="16161"/>
                  <a:pt x="18150" y="16099"/>
                  <a:pt x="18157" y="16049"/>
                </a:cubicBezTo>
                <a:cubicBezTo>
                  <a:pt x="18090" y="16035"/>
                  <a:pt x="18064" y="16095"/>
                  <a:pt x="18033" y="16173"/>
                </a:cubicBezTo>
                <a:cubicBezTo>
                  <a:pt x="18000" y="16257"/>
                  <a:pt x="17999" y="16331"/>
                  <a:pt x="17934" y="16396"/>
                </a:cubicBezTo>
              </a:path>
              <a:path w="2084" h="4441">
                <a:moveTo>
                  <a:pt x="17735" y="16371"/>
                </a:moveTo>
                <a:cubicBezTo>
                  <a:pt x="17787" y="16329"/>
                  <a:pt x="17815" y="16296"/>
                  <a:pt x="17859" y="16247"/>
                </a:cubicBezTo>
                <a:cubicBezTo>
                  <a:pt x="17908" y="16192"/>
                  <a:pt x="17975" y="16171"/>
                  <a:pt x="18033" y="16148"/>
                </a:cubicBezTo>
                <a:cubicBezTo>
                  <a:pt x="18090" y="16129"/>
                  <a:pt x="18097" y="16120"/>
                  <a:pt x="18132" y="16123"/>
                </a:cubicBezTo>
              </a:path>
              <a:path w="2084" h="4441">
                <a:moveTo>
                  <a:pt x="17835" y="16669"/>
                </a:moveTo>
                <a:cubicBezTo>
                  <a:pt x="17816" y="16798"/>
                  <a:pt x="17810" y="16911"/>
                  <a:pt x="17810" y="17041"/>
                </a:cubicBezTo>
                <a:cubicBezTo>
                  <a:pt x="17810" y="17170"/>
                  <a:pt x="17814" y="17291"/>
                  <a:pt x="17835" y="17413"/>
                </a:cubicBezTo>
                <a:cubicBezTo>
                  <a:pt x="17835" y="17429"/>
                  <a:pt x="17835" y="17446"/>
                  <a:pt x="17835" y="17462"/>
                </a:cubicBezTo>
              </a:path>
              <a:path w="2084" h="4441">
                <a:moveTo>
                  <a:pt x="17835" y="16917"/>
                </a:moveTo>
                <a:cubicBezTo>
                  <a:pt x="17877" y="16802"/>
                  <a:pt x="17855" y="16831"/>
                  <a:pt x="17959" y="16768"/>
                </a:cubicBezTo>
                <a:cubicBezTo>
                  <a:pt x="17997" y="16745"/>
                  <a:pt x="18112" y="16717"/>
                  <a:pt x="18132" y="16793"/>
                </a:cubicBezTo>
                <a:cubicBezTo>
                  <a:pt x="18168" y="16929"/>
                  <a:pt x="18093" y="17081"/>
                  <a:pt x="18083" y="17214"/>
                </a:cubicBezTo>
                <a:cubicBezTo>
                  <a:pt x="18083" y="17264"/>
                  <a:pt x="18083" y="17281"/>
                  <a:pt x="18083" y="17314"/>
                </a:cubicBezTo>
                <a:cubicBezTo>
                  <a:pt x="18151" y="17347"/>
                  <a:pt x="18171" y="17309"/>
                  <a:pt x="18207" y="17239"/>
                </a:cubicBezTo>
                <a:cubicBezTo>
                  <a:pt x="18243" y="17170"/>
                  <a:pt x="18275" y="17114"/>
                  <a:pt x="18306" y="17041"/>
                </a:cubicBezTo>
                <a:cubicBezTo>
                  <a:pt x="18314" y="17024"/>
                  <a:pt x="18323" y="17008"/>
                  <a:pt x="18331" y="16991"/>
                </a:cubicBezTo>
              </a:path>
              <a:path w="2084" h="4441">
                <a:moveTo>
                  <a:pt x="18331" y="16743"/>
                </a:moveTo>
                <a:cubicBezTo>
                  <a:pt x="18375" y="16699"/>
                  <a:pt x="18422" y="16634"/>
                  <a:pt x="18479" y="16619"/>
                </a:cubicBezTo>
              </a:path>
              <a:path w="2084" h="4441">
                <a:moveTo>
                  <a:pt x="18455" y="16942"/>
                </a:moveTo>
                <a:cubicBezTo>
                  <a:pt x="18502" y="16894"/>
                  <a:pt x="18538" y="16844"/>
                  <a:pt x="18579" y="16793"/>
                </a:cubicBezTo>
              </a:path>
              <a:path w="2084" h="4441">
                <a:moveTo>
                  <a:pt x="18728" y="15503"/>
                </a:moveTo>
                <a:cubicBezTo>
                  <a:pt x="18728" y="15580"/>
                  <a:pt x="18707" y="15633"/>
                  <a:pt x="18703" y="15701"/>
                </a:cubicBezTo>
                <a:cubicBezTo>
                  <a:pt x="18703" y="15746"/>
                  <a:pt x="18706" y="15759"/>
                  <a:pt x="18678" y="15776"/>
                </a:cubicBezTo>
                <a:cubicBezTo>
                  <a:pt x="18740" y="15814"/>
                  <a:pt x="18752" y="15801"/>
                  <a:pt x="18802" y="15751"/>
                </a:cubicBezTo>
                <a:cubicBezTo>
                  <a:pt x="18847" y="15706"/>
                  <a:pt x="18896" y="15707"/>
                  <a:pt x="18951" y="15652"/>
                </a:cubicBezTo>
                <a:cubicBezTo>
                  <a:pt x="18973" y="15630"/>
                  <a:pt x="18978" y="15621"/>
                  <a:pt x="19000" y="15627"/>
                </a:cubicBezTo>
              </a:path>
              <a:path w="2084" h="4441">
                <a:moveTo>
                  <a:pt x="18901" y="15329"/>
                </a:moveTo>
                <a:cubicBezTo>
                  <a:pt x="18856" y="15444"/>
                  <a:pt x="18853" y="15535"/>
                  <a:pt x="18827" y="15652"/>
                </a:cubicBezTo>
                <a:cubicBezTo>
                  <a:pt x="18804" y="15756"/>
                  <a:pt x="18802" y="15841"/>
                  <a:pt x="18802" y="15949"/>
                </a:cubicBezTo>
                <a:cubicBezTo>
                  <a:pt x="18802" y="16011"/>
                  <a:pt x="18793" y="16026"/>
                  <a:pt x="18827" y="16049"/>
                </a:cubicBezTo>
              </a:path>
              <a:path w="2084" h="4441">
                <a:moveTo>
                  <a:pt x="18628" y="16098"/>
                </a:moveTo>
                <a:cubicBezTo>
                  <a:pt x="18702" y="16052"/>
                  <a:pt x="18775" y="16013"/>
                  <a:pt x="18852" y="15974"/>
                </a:cubicBezTo>
                <a:cubicBezTo>
                  <a:pt x="18926" y="15937"/>
                  <a:pt x="18941" y="15893"/>
                  <a:pt x="19000" y="15850"/>
                </a:cubicBezTo>
                <a:cubicBezTo>
                  <a:pt x="19036" y="15824"/>
                  <a:pt x="19082" y="15809"/>
                  <a:pt x="19124" y="15801"/>
                </a:cubicBezTo>
              </a:path>
              <a:path w="2084" h="4441">
                <a:moveTo>
                  <a:pt x="18926" y="16446"/>
                </a:moveTo>
                <a:cubicBezTo>
                  <a:pt x="18955" y="16387"/>
                  <a:pt x="18986" y="16324"/>
                  <a:pt x="19025" y="16272"/>
                </a:cubicBezTo>
                <a:cubicBezTo>
                  <a:pt x="19057" y="16229"/>
                  <a:pt x="19106" y="16192"/>
                  <a:pt x="19149" y="16247"/>
                </a:cubicBezTo>
                <a:cubicBezTo>
                  <a:pt x="19192" y="16303"/>
                  <a:pt x="19169" y="16387"/>
                  <a:pt x="19149" y="16446"/>
                </a:cubicBezTo>
                <a:cubicBezTo>
                  <a:pt x="19123" y="16522"/>
                  <a:pt x="19078" y="16593"/>
                  <a:pt x="19050" y="16669"/>
                </a:cubicBezTo>
                <a:cubicBezTo>
                  <a:pt x="19089" y="16601"/>
                  <a:pt x="19145" y="16531"/>
                  <a:pt x="19224" y="16594"/>
                </a:cubicBezTo>
                <a:cubicBezTo>
                  <a:pt x="19288" y="16646"/>
                  <a:pt x="19234" y="16718"/>
                  <a:pt x="19224" y="16768"/>
                </a:cubicBezTo>
                <a:cubicBezTo>
                  <a:pt x="19207" y="16855"/>
                  <a:pt x="19189" y="16933"/>
                  <a:pt x="19149" y="17016"/>
                </a:cubicBezTo>
                <a:cubicBezTo>
                  <a:pt x="19103" y="17113"/>
                  <a:pt x="19044" y="17209"/>
                  <a:pt x="18976" y="17289"/>
                </a:cubicBezTo>
                <a:cubicBezTo>
                  <a:pt x="18903" y="17374"/>
                  <a:pt x="18887" y="17204"/>
                  <a:pt x="18876" y="17165"/>
                </a:cubicBezTo>
              </a:path>
              <a:path w="2084" h="4441">
                <a:moveTo>
                  <a:pt x="17661" y="16346"/>
                </a:moveTo>
                <a:lnTo>
                  <a:pt x="17661" y="16346"/>
                </a:lnTo>
              </a:path>
              <a:path w="2084" h="4441">
                <a:moveTo>
                  <a:pt x="17661" y="16346"/>
                </a:moveTo>
                <a:cubicBezTo>
                  <a:pt x="17653" y="16346"/>
                  <a:pt x="17644" y="16346"/>
                  <a:pt x="17636" y="16346"/>
                </a:cubicBezTo>
              </a:path>
              <a:path w="2084" h="4441">
                <a:moveTo>
                  <a:pt x="17636" y="16346"/>
                </a:moveTo>
                <a:cubicBezTo>
                  <a:pt x="17695" y="16307"/>
                  <a:pt x="17783" y="16271"/>
                  <a:pt x="17859" y="16297"/>
                </a:cubicBezTo>
                <a:cubicBezTo>
                  <a:pt x="17917" y="16317"/>
                  <a:pt x="17964" y="16321"/>
                  <a:pt x="18033" y="16321"/>
                </a:cubicBezTo>
                <a:cubicBezTo>
                  <a:pt x="18116" y="16321"/>
                  <a:pt x="18171" y="16277"/>
                  <a:pt x="18231" y="16222"/>
                </a:cubicBezTo>
                <a:cubicBezTo>
                  <a:pt x="18261" y="16192"/>
                  <a:pt x="18275" y="16181"/>
                  <a:pt x="18306" y="16173"/>
                </a:cubicBezTo>
                <a:cubicBezTo>
                  <a:pt x="18232" y="16182"/>
                  <a:pt x="18126" y="16215"/>
                  <a:pt x="18058" y="16247"/>
                </a:cubicBezTo>
                <a:cubicBezTo>
                  <a:pt x="18017" y="16266"/>
                  <a:pt x="17947" y="16323"/>
                  <a:pt x="17909" y="16346"/>
                </a:cubicBezTo>
                <a:cubicBezTo>
                  <a:pt x="17866" y="16372"/>
                  <a:pt x="17819" y="16449"/>
                  <a:pt x="17760" y="16446"/>
                </a:cubicBezTo>
                <a:cubicBezTo>
                  <a:pt x="17744" y="16438"/>
                  <a:pt x="17727" y="16429"/>
                  <a:pt x="17711" y="16421"/>
                </a:cubicBezTo>
              </a:path>
              <a:path w="2084" h="4441">
                <a:moveTo>
                  <a:pt x="17983" y="15602"/>
                </a:moveTo>
                <a:cubicBezTo>
                  <a:pt x="17936" y="15662"/>
                  <a:pt x="17920" y="15737"/>
                  <a:pt x="17909" y="15801"/>
                </a:cubicBezTo>
                <a:cubicBezTo>
                  <a:pt x="17899" y="15859"/>
                  <a:pt x="17919" y="15948"/>
                  <a:pt x="17934" y="15999"/>
                </a:cubicBezTo>
                <a:cubicBezTo>
                  <a:pt x="17948" y="16046"/>
                  <a:pt x="17979" y="16086"/>
                  <a:pt x="18008" y="16123"/>
                </a:cubicBezTo>
                <a:cubicBezTo>
                  <a:pt x="18088" y="16100"/>
                  <a:pt x="18081" y="16068"/>
                  <a:pt x="18132" y="15999"/>
                </a:cubicBezTo>
                <a:cubicBezTo>
                  <a:pt x="18189" y="15923"/>
                  <a:pt x="18187" y="15891"/>
                  <a:pt x="18157" y="15801"/>
                </a:cubicBezTo>
                <a:cubicBezTo>
                  <a:pt x="18114" y="15853"/>
                  <a:pt x="18069" y="15916"/>
                  <a:pt x="18033" y="15974"/>
                </a:cubicBezTo>
                <a:cubicBezTo>
                  <a:pt x="18006" y="16017"/>
                  <a:pt x="17992" y="16106"/>
                  <a:pt x="17983" y="16148"/>
                </a:cubicBezTo>
                <a:cubicBezTo>
                  <a:pt x="17972" y="16201"/>
                  <a:pt x="17984" y="16232"/>
                  <a:pt x="18008" y="162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Ink 19"/>
          <p:cNvSpPr/>
          <p:nvPr/>
        </p:nvSpPr>
        <p:spPr>
          <a:xfrm>
            <a:off x="5303880" y="3956040"/>
            <a:ext cx="581040" cy="473040"/>
          </a:xfrm>
          <a:custGeom>
            <a:avLst/>
            <a:gdLst/>
            <a:ahLst/>
            <a:rect l="l" t="t" r="r" b="b"/>
            <a:pathLst>
              <a:path w="1613" h="1316">
                <a:moveTo>
                  <a:pt x="15429" y="11038"/>
                </a:moveTo>
                <a:cubicBezTo>
                  <a:pt x="15378" y="10987"/>
                  <a:pt x="15360" y="10976"/>
                  <a:pt x="15280" y="10988"/>
                </a:cubicBezTo>
                <a:cubicBezTo>
                  <a:pt x="15172" y="11005"/>
                  <a:pt x="15063" y="11029"/>
                  <a:pt x="14957" y="11063"/>
                </a:cubicBezTo>
                <a:cubicBezTo>
                  <a:pt x="14911" y="11078"/>
                  <a:pt x="14734" y="11146"/>
                  <a:pt x="14734" y="11212"/>
                </a:cubicBezTo>
                <a:cubicBezTo>
                  <a:pt x="14734" y="11376"/>
                  <a:pt x="14894" y="11432"/>
                  <a:pt x="15007" y="11509"/>
                </a:cubicBezTo>
                <a:cubicBezTo>
                  <a:pt x="15147" y="11603"/>
                  <a:pt x="15350" y="11722"/>
                  <a:pt x="15453" y="11857"/>
                </a:cubicBezTo>
                <a:cubicBezTo>
                  <a:pt x="15525" y="11950"/>
                  <a:pt x="15515" y="12048"/>
                  <a:pt x="15429" y="12129"/>
                </a:cubicBezTo>
                <a:cubicBezTo>
                  <a:pt x="15340" y="12213"/>
                  <a:pt x="15229" y="12163"/>
                  <a:pt x="15131" y="12154"/>
                </a:cubicBezTo>
                <a:cubicBezTo>
                  <a:pt x="15045" y="12146"/>
                  <a:pt x="14917" y="12107"/>
                  <a:pt x="14883" y="12005"/>
                </a:cubicBezTo>
                <a:cubicBezTo>
                  <a:pt x="14883" y="11989"/>
                  <a:pt x="14883" y="11972"/>
                  <a:pt x="14883" y="11956"/>
                </a:cubicBezTo>
              </a:path>
              <a:path w="1613" h="1316">
                <a:moveTo>
                  <a:pt x="15627" y="11881"/>
                </a:moveTo>
                <a:cubicBezTo>
                  <a:pt x="15653" y="12005"/>
                  <a:pt x="15689" y="12176"/>
                  <a:pt x="15652" y="12055"/>
                </a:cubicBezTo>
              </a:path>
              <a:path w="1613" h="1316">
                <a:moveTo>
                  <a:pt x="15677" y="11286"/>
                </a:moveTo>
                <a:cubicBezTo>
                  <a:pt x="15717" y="11306"/>
                  <a:pt x="15733" y="11305"/>
                  <a:pt x="15726" y="11336"/>
                </a:cubicBezTo>
              </a:path>
              <a:path w="1613" h="1316">
                <a:moveTo>
                  <a:pt x="15900" y="11981"/>
                </a:moveTo>
                <a:cubicBezTo>
                  <a:pt x="15908" y="12014"/>
                  <a:pt x="15917" y="12047"/>
                  <a:pt x="15925" y="12080"/>
                </a:cubicBezTo>
                <a:cubicBezTo>
                  <a:pt x="15925" y="11979"/>
                  <a:pt x="15906" y="11839"/>
                  <a:pt x="15974" y="11757"/>
                </a:cubicBezTo>
                <a:cubicBezTo>
                  <a:pt x="16024" y="11697"/>
                  <a:pt x="16074" y="11712"/>
                  <a:pt x="16123" y="11757"/>
                </a:cubicBezTo>
                <a:cubicBezTo>
                  <a:pt x="16196" y="11824"/>
                  <a:pt x="16228" y="11917"/>
                  <a:pt x="16272" y="12005"/>
                </a:cubicBezTo>
                <a:cubicBezTo>
                  <a:pt x="16308" y="12076"/>
                  <a:pt x="16342" y="12151"/>
                  <a:pt x="16346" y="12229"/>
                </a:cubicBezTo>
                <a:cubicBezTo>
                  <a:pt x="16346" y="12270"/>
                  <a:pt x="16346" y="12278"/>
                  <a:pt x="16346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Ink 20"/>
          <p:cNvSpPr/>
          <p:nvPr/>
        </p:nvSpPr>
        <p:spPr>
          <a:xfrm>
            <a:off x="5375160" y="4840200"/>
            <a:ext cx="723960" cy="393840"/>
          </a:xfrm>
          <a:custGeom>
            <a:avLst/>
            <a:gdLst/>
            <a:ahLst/>
            <a:rect l="l" t="t" r="r" b="b"/>
            <a:pathLst>
              <a:path w="2011" h="1093">
                <a:moveTo>
                  <a:pt x="15329" y="13494"/>
                </a:moveTo>
                <a:cubicBezTo>
                  <a:pt x="15321" y="13527"/>
                  <a:pt x="15312" y="13560"/>
                  <a:pt x="15304" y="13593"/>
                </a:cubicBezTo>
                <a:cubicBezTo>
                  <a:pt x="15278" y="13539"/>
                  <a:pt x="15235" y="13438"/>
                  <a:pt x="15156" y="13444"/>
                </a:cubicBezTo>
                <a:cubicBezTo>
                  <a:pt x="15038" y="13453"/>
                  <a:pt x="15014" y="13577"/>
                  <a:pt x="14982" y="13667"/>
                </a:cubicBezTo>
                <a:cubicBezTo>
                  <a:pt x="14921" y="13840"/>
                  <a:pt x="14935" y="13944"/>
                  <a:pt x="14982" y="14114"/>
                </a:cubicBezTo>
                <a:cubicBezTo>
                  <a:pt x="15016" y="14237"/>
                  <a:pt x="15073" y="14334"/>
                  <a:pt x="15180" y="14412"/>
                </a:cubicBezTo>
                <a:cubicBezTo>
                  <a:pt x="15274" y="14481"/>
                  <a:pt x="15363" y="14360"/>
                  <a:pt x="15429" y="14312"/>
                </a:cubicBezTo>
              </a:path>
              <a:path w="2011" h="1093">
                <a:moveTo>
                  <a:pt x="15528" y="13990"/>
                </a:moveTo>
                <a:cubicBezTo>
                  <a:pt x="15426" y="14139"/>
                  <a:pt x="15403" y="14154"/>
                  <a:pt x="15429" y="14312"/>
                </a:cubicBezTo>
                <a:cubicBezTo>
                  <a:pt x="15441" y="14383"/>
                  <a:pt x="15486" y="14456"/>
                  <a:pt x="15577" y="14436"/>
                </a:cubicBezTo>
                <a:cubicBezTo>
                  <a:pt x="15692" y="14411"/>
                  <a:pt x="15760" y="14269"/>
                  <a:pt x="15776" y="14163"/>
                </a:cubicBezTo>
                <a:cubicBezTo>
                  <a:pt x="15794" y="14043"/>
                  <a:pt x="15743" y="13964"/>
                  <a:pt x="15652" y="13915"/>
                </a:cubicBezTo>
                <a:cubicBezTo>
                  <a:pt x="15537" y="13852"/>
                  <a:pt x="15557" y="13829"/>
                  <a:pt x="15627" y="13742"/>
                </a:cubicBezTo>
              </a:path>
              <a:path w="2011" h="1093">
                <a:moveTo>
                  <a:pt x="15999" y="13791"/>
                </a:moveTo>
                <a:cubicBezTo>
                  <a:pt x="15909" y="13856"/>
                  <a:pt x="15910" y="13960"/>
                  <a:pt x="15974" y="14064"/>
                </a:cubicBezTo>
                <a:cubicBezTo>
                  <a:pt x="16046" y="14180"/>
                  <a:pt x="16188" y="14283"/>
                  <a:pt x="16197" y="14436"/>
                </a:cubicBezTo>
                <a:cubicBezTo>
                  <a:pt x="16205" y="14571"/>
                  <a:pt x="16065" y="14561"/>
                  <a:pt x="15974" y="14511"/>
                </a:cubicBezTo>
                <a:cubicBezTo>
                  <a:pt x="15908" y="14475"/>
                  <a:pt x="15851" y="14441"/>
                  <a:pt x="15776" y="14412"/>
                </a:cubicBezTo>
              </a:path>
              <a:path w="2011" h="1093">
                <a:moveTo>
                  <a:pt x="16619" y="13841"/>
                </a:moveTo>
                <a:cubicBezTo>
                  <a:pt x="16693" y="13858"/>
                  <a:pt x="16768" y="13874"/>
                  <a:pt x="16842" y="13891"/>
                </a:cubicBezTo>
              </a:path>
              <a:path w="2011" h="1093">
                <a:moveTo>
                  <a:pt x="16669" y="14039"/>
                </a:moveTo>
                <a:cubicBezTo>
                  <a:pt x="16779" y="14065"/>
                  <a:pt x="16844" y="14078"/>
                  <a:pt x="16942" y="140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Ink 21"/>
          <p:cNvSpPr/>
          <p:nvPr/>
        </p:nvSpPr>
        <p:spPr>
          <a:xfrm>
            <a:off x="5483160" y="5581800"/>
            <a:ext cx="884160" cy="490320"/>
          </a:xfrm>
          <a:custGeom>
            <a:avLst/>
            <a:gdLst/>
            <a:ahLst/>
            <a:rect l="l" t="t" r="r" b="b"/>
            <a:pathLst>
              <a:path w="2457" h="1365">
                <a:moveTo>
                  <a:pt x="15652" y="15776"/>
                </a:moveTo>
                <a:cubicBezTo>
                  <a:pt x="15652" y="15961"/>
                  <a:pt x="15638" y="16138"/>
                  <a:pt x="15627" y="16321"/>
                </a:cubicBezTo>
                <a:cubicBezTo>
                  <a:pt x="15618" y="16470"/>
                  <a:pt x="15607" y="16620"/>
                  <a:pt x="15602" y="16768"/>
                </a:cubicBezTo>
                <a:cubicBezTo>
                  <a:pt x="15602" y="16829"/>
                  <a:pt x="15611" y="16845"/>
                  <a:pt x="15577" y="16867"/>
                </a:cubicBezTo>
              </a:path>
              <a:path w="2457" h="1365">
                <a:moveTo>
                  <a:pt x="15255" y="15602"/>
                </a:moveTo>
                <a:cubicBezTo>
                  <a:pt x="15247" y="15577"/>
                  <a:pt x="15238" y="15553"/>
                  <a:pt x="15230" y="15528"/>
                </a:cubicBezTo>
                <a:cubicBezTo>
                  <a:pt x="15351" y="15502"/>
                  <a:pt x="15454" y="15507"/>
                  <a:pt x="15577" y="15528"/>
                </a:cubicBezTo>
                <a:cubicBezTo>
                  <a:pt x="15727" y="15553"/>
                  <a:pt x="15879" y="15609"/>
                  <a:pt x="16024" y="15652"/>
                </a:cubicBezTo>
              </a:path>
              <a:path w="2457" h="1365">
                <a:moveTo>
                  <a:pt x="16321" y="16396"/>
                </a:moveTo>
                <a:cubicBezTo>
                  <a:pt x="16321" y="16351"/>
                  <a:pt x="16350" y="16190"/>
                  <a:pt x="16297" y="16173"/>
                </a:cubicBezTo>
                <a:cubicBezTo>
                  <a:pt x="16206" y="16143"/>
                  <a:pt x="16134" y="16189"/>
                  <a:pt x="16073" y="16247"/>
                </a:cubicBezTo>
                <a:cubicBezTo>
                  <a:pt x="16002" y="16315"/>
                  <a:pt x="15978" y="16374"/>
                  <a:pt x="15974" y="16470"/>
                </a:cubicBezTo>
                <a:cubicBezTo>
                  <a:pt x="15971" y="16559"/>
                  <a:pt x="16016" y="16640"/>
                  <a:pt x="16123" y="16619"/>
                </a:cubicBezTo>
                <a:cubicBezTo>
                  <a:pt x="16148" y="16594"/>
                  <a:pt x="16156" y="16586"/>
                  <a:pt x="16173" y="16570"/>
                </a:cubicBezTo>
                <a:cubicBezTo>
                  <a:pt x="16256" y="16606"/>
                  <a:pt x="16235" y="16666"/>
                  <a:pt x="16297" y="16743"/>
                </a:cubicBezTo>
                <a:cubicBezTo>
                  <a:pt x="16346" y="16804"/>
                  <a:pt x="16370" y="16730"/>
                  <a:pt x="16396" y="16694"/>
                </a:cubicBezTo>
              </a:path>
              <a:path w="2457" h="1365">
                <a:moveTo>
                  <a:pt x="16470" y="16346"/>
                </a:moveTo>
                <a:cubicBezTo>
                  <a:pt x="16488" y="16488"/>
                  <a:pt x="16520" y="16812"/>
                  <a:pt x="16520" y="16669"/>
                </a:cubicBezTo>
                <a:cubicBezTo>
                  <a:pt x="16553" y="16548"/>
                  <a:pt x="16549" y="16415"/>
                  <a:pt x="16644" y="16321"/>
                </a:cubicBezTo>
                <a:cubicBezTo>
                  <a:pt x="16692" y="16298"/>
                  <a:pt x="16707" y="16290"/>
                  <a:pt x="16743" y="16297"/>
                </a:cubicBezTo>
                <a:cubicBezTo>
                  <a:pt x="16755" y="16389"/>
                  <a:pt x="16789" y="16479"/>
                  <a:pt x="16818" y="16570"/>
                </a:cubicBezTo>
                <a:cubicBezTo>
                  <a:pt x="16837" y="16630"/>
                  <a:pt x="16838" y="16671"/>
                  <a:pt x="16867" y="16718"/>
                </a:cubicBezTo>
              </a:path>
              <a:path w="2457" h="1365">
                <a:moveTo>
                  <a:pt x="17314" y="16123"/>
                </a:moveTo>
                <a:cubicBezTo>
                  <a:pt x="17422" y="16167"/>
                  <a:pt x="17499" y="16212"/>
                  <a:pt x="17611" y="16222"/>
                </a:cubicBezTo>
              </a:path>
              <a:path w="2457" h="1365">
                <a:moveTo>
                  <a:pt x="17388" y="16470"/>
                </a:moveTo>
                <a:cubicBezTo>
                  <a:pt x="17558" y="16511"/>
                  <a:pt x="17537" y="16520"/>
                  <a:pt x="17686" y="164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Find the six trig functions for this right triangle: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609480" y="2514600"/>
            <a:ext cx="4496040" cy="1752480"/>
          </a:xfrm>
          <a:prstGeom prst="rtTriangl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752480" y="4343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286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609480" y="4114800"/>
            <a:ext cx="152640" cy="1522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4346640" y="396180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5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e5ffff"/>
                </a:solidFill>
                <a:latin typeface="Arial"/>
              </a:rPr>
              <a:t>Page 310</a:t>
            </a:r>
            <a:br>
              <a:rPr sz="7500"/>
            </a:br>
            <a:r>
              <a:rPr b="0" lang="en-US" sz="7500" spc="-1" strike="noStrike">
                <a:solidFill>
                  <a:srgbClr val="e5ffff"/>
                </a:solidFill>
                <a:latin typeface="Arial"/>
              </a:rPr>
              <a:t>#1-9</a:t>
            </a:r>
            <a:br>
              <a:rPr sz="7500"/>
            </a:br>
            <a:r>
              <a:rPr b="0" i="1" lang="en-US" sz="7500" spc="-1" strike="noStrike">
                <a:solidFill>
                  <a:srgbClr val="e5ffff"/>
                </a:solidFill>
                <a:latin typeface="Arial"/>
              </a:rPr>
              <a:t>(quiz tomorrow)</a:t>
            </a:r>
            <a:endParaRPr b="0" lang="en-US" sz="75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Questions from homework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33520" y="1523880"/>
            <a:ext cx="723888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valuate the sin, cos, tan of t=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 =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s =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n =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Object 6"/>
          <p:cNvGraphicFramePr/>
          <p:nvPr/>
        </p:nvGraphicFramePr>
        <p:xfrm>
          <a:off x="4343400" y="1295280"/>
          <a:ext cx="5112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295280"/>
                    <a:ext cx="5112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Ink 5"/>
          <p:cNvSpPr/>
          <p:nvPr/>
        </p:nvSpPr>
        <p:spPr>
          <a:xfrm>
            <a:off x="1170000" y="1955880"/>
            <a:ext cx="1465200" cy="633240"/>
          </a:xfrm>
          <a:custGeom>
            <a:avLst/>
            <a:gdLst/>
            <a:ahLst/>
            <a:rect l="l" t="t" r="r" b="b"/>
            <a:pathLst>
              <a:path w="4069" h="1762">
                <a:moveTo>
                  <a:pt x="3870" y="5432"/>
                </a:moveTo>
                <a:cubicBezTo>
                  <a:pt x="3792" y="5488"/>
                  <a:pt x="3739" y="5558"/>
                  <a:pt x="3671" y="5631"/>
                </a:cubicBezTo>
                <a:cubicBezTo>
                  <a:pt x="3562" y="5749"/>
                  <a:pt x="3486" y="5871"/>
                  <a:pt x="3398" y="6003"/>
                </a:cubicBezTo>
                <a:cubicBezTo>
                  <a:pt x="3291" y="6163"/>
                  <a:pt x="3245" y="6349"/>
                  <a:pt x="3249" y="6548"/>
                </a:cubicBezTo>
                <a:cubicBezTo>
                  <a:pt x="3252" y="6689"/>
                  <a:pt x="3326" y="6833"/>
                  <a:pt x="3398" y="6945"/>
                </a:cubicBezTo>
                <a:cubicBezTo>
                  <a:pt x="3465" y="7050"/>
                  <a:pt x="3520" y="7106"/>
                  <a:pt x="3621" y="7169"/>
                </a:cubicBezTo>
                <a:cubicBezTo>
                  <a:pt x="3671" y="7193"/>
                  <a:pt x="3688" y="7201"/>
                  <a:pt x="3721" y="7169"/>
                </a:cubicBezTo>
              </a:path>
              <a:path w="4069" h="1762">
                <a:moveTo>
                  <a:pt x="4118" y="5928"/>
                </a:moveTo>
                <a:cubicBezTo>
                  <a:pt x="4105" y="6030"/>
                  <a:pt x="4075" y="6137"/>
                  <a:pt x="4118" y="6226"/>
                </a:cubicBezTo>
                <a:cubicBezTo>
                  <a:pt x="4126" y="6234"/>
                  <a:pt x="4134" y="6243"/>
                  <a:pt x="4142" y="6251"/>
                </a:cubicBezTo>
                <a:cubicBezTo>
                  <a:pt x="4142" y="6100"/>
                  <a:pt x="4117" y="5920"/>
                  <a:pt x="4167" y="5779"/>
                </a:cubicBezTo>
                <a:cubicBezTo>
                  <a:pt x="4189" y="5716"/>
                  <a:pt x="4188" y="5628"/>
                  <a:pt x="4242" y="5581"/>
                </a:cubicBezTo>
                <a:cubicBezTo>
                  <a:pt x="4281" y="5547"/>
                  <a:pt x="4433" y="5489"/>
                  <a:pt x="4490" y="5482"/>
                </a:cubicBezTo>
                <a:cubicBezTo>
                  <a:pt x="4581" y="5482"/>
                  <a:pt x="4589" y="5482"/>
                  <a:pt x="4638" y="5482"/>
                </a:cubicBezTo>
              </a:path>
              <a:path w="4069" h="1762">
                <a:moveTo>
                  <a:pt x="4440" y="5680"/>
                </a:moveTo>
                <a:cubicBezTo>
                  <a:pt x="4502" y="5607"/>
                  <a:pt x="4581" y="5610"/>
                  <a:pt x="4688" y="5606"/>
                </a:cubicBezTo>
                <a:cubicBezTo>
                  <a:pt x="4713" y="5605"/>
                  <a:pt x="4839" y="5622"/>
                  <a:pt x="4837" y="5680"/>
                </a:cubicBezTo>
                <a:cubicBezTo>
                  <a:pt x="4831" y="5821"/>
                  <a:pt x="4729" y="5866"/>
                  <a:pt x="4638" y="5953"/>
                </a:cubicBezTo>
                <a:cubicBezTo>
                  <a:pt x="4583" y="6006"/>
                  <a:pt x="4523" y="6031"/>
                  <a:pt x="4465" y="6077"/>
                </a:cubicBezTo>
                <a:cubicBezTo>
                  <a:pt x="4492" y="6187"/>
                  <a:pt x="4527" y="6176"/>
                  <a:pt x="4638" y="6176"/>
                </a:cubicBezTo>
                <a:cubicBezTo>
                  <a:pt x="4751" y="6176"/>
                  <a:pt x="4851" y="6157"/>
                  <a:pt x="4961" y="6152"/>
                </a:cubicBezTo>
                <a:cubicBezTo>
                  <a:pt x="4978" y="6152"/>
                  <a:pt x="4994" y="6152"/>
                  <a:pt x="5011" y="6152"/>
                </a:cubicBezTo>
              </a:path>
              <a:path w="4069" h="1762">
                <a:moveTo>
                  <a:pt x="4043" y="6300"/>
                </a:moveTo>
                <a:cubicBezTo>
                  <a:pt x="4167" y="6270"/>
                  <a:pt x="4286" y="6254"/>
                  <a:pt x="4415" y="6251"/>
                </a:cubicBezTo>
                <a:cubicBezTo>
                  <a:pt x="4597" y="6246"/>
                  <a:pt x="4779" y="6251"/>
                  <a:pt x="4961" y="6251"/>
                </a:cubicBezTo>
              </a:path>
              <a:path w="4069" h="1762">
                <a:moveTo>
                  <a:pt x="4291" y="6573"/>
                </a:moveTo>
                <a:cubicBezTo>
                  <a:pt x="4362" y="6545"/>
                  <a:pt x="4439" y="6490"/>
                  <a:pt x="4514" y="6474"/>
                </a:cubicBezTo>
                <a:cubicBezTo>
                  <a:pt x="4550" y="6466"/>
                  <a:pt x="4664" y="6477"/>
                  <a:pt x="4688" y="6499"/>
                </a:cubicBezTo>
                <a:cubicBezTo>
                  <a:pt x="4736" y="6543"/>
                  <a:pt x="4799" y="6619"/>
                  <a:pt x="4762" y="6697"/>
                </a:cubicBezTo>
                <a:cubicBezTo>
                  <a:pt x="4730" y="6765"/>
                  <a:pt x="4631" y="6889"/>
                  <a:pt x="4564" y="6921"/>
                </a:cubicBezTo>
                <a:cubicBezTo>
                  <a:pt x="4474" y="6964"/>
                  <a:pt x="4425" y="7006"/>
                  <a:pt x="4341" y="6995"/>
                </a:cubicBezTo>
                <a:cubicBezTo>
                  <a:pt x="4324" y="6995"/>
                  <a:pt x="4308" y="6995"/>
                  <a:pt x="4291" y="6995"/>
                </a:cubicBezTo>
                <a:cubicBezTo>
                  <a:pt x="4300" y="6912"/>
                  <a:pt x="4314" y="6846"/>
                  <a:pt x="4390" y="6796"/>
                </a:cubicBezTo>
                <a:cubicBezTo>
                  <a:pt x="4455" y="6753"/>
                  <a:pt x="4557" y="6801"/>
                  <a:pt x="4614" y="6846"/>
                </a:cubicBezTo>
                <a:cubicBezTo>
                  <a:pt x="4721" y="6930"/>
                  <a:pt x="4772" y="6921"/>
                  <a:pt x="4911" y="6921"/>
                </a:cubicBezTo>
              </a:path>
              <a:path w="4069" h="1762">
                <a:moveTo>
                  <a:pt x="5407" y="6300"/>
                </a:moveTo>
                <a:cubicBezTo>
                  <a:pt x="5391" y="6393"/>
                  <a:pt x="5361" y="6470"/>
                  <a:pt x="5407" y="6548"/>
                </a:cubicBezTo>
              </a:path>
              <a:path w="4069" h="1762">
                <a:moveTo>
                  <a:pt x="5755" y="5804"/>
                </a:moveTo>
                <a:cubicBezTo>
                  <a:pt x="5755" y="5857"/>
                  <a:pt x="5755" y="6188"/>
                  <a:pt x="5755" y="6077"/>
                </a:cubicBezTo>
                <a:cubicBezTo>
                  <a:pt x="5755" y="5974"/>
                  <a:pt x="5763" y="5878"/>
                  <a:pt x="5730" y="5779"/>
                </a:cubicBezTo>
                <a:cubicBezTo>
                  <a:pt x="5710" y="5718"/>
                  <a:pt x="5673" y="5614"/>
                  <a:pt x="5730" y="5556"/>
                </a:cubicBezTo>
                <a:cubicBezTo>
                  <a:pt x="5784" y="5501"/>
                  <a:pt x="5932" y="5466"/>
                  <a:pt x="6003" y="5457"/>
                </a:cubicBezTo>
                <a:cubicBezTo>
                  <a:pt x="6126" y="5442"/>
                  <a:pt x="6257" y="5455"/>
                  <a:pt x="6375" y="5482"/>
                </a:cubicBezTo>
              </a:path>
              <a:path w="4069" h="1762">
                <a:moveTo>
                  <a:pt x="6077" y="5829"/>
                </a:moveTo>
                <a:cubicBezTo>
                  <a:pt x="6175" y="5878"/>
                  <a:pt x="6247" y="5824"/>
                  <a:pt x="6350" y="5804"/>
                </a:cubicBezTo>
                <a:cubicBezTo>
                  <a:pt x="6471" y="5781"/>
                  <a:pt x="6474" y="5888"/>
                  <a:pt x="6400" y="5953"/>
                </a:cubicBezTo>
                <a:cubicBezTo>
                  <a:pt x="6336" y="6009"/>
                  <a:pt x="6281" y="6056"/>
                  <a:pt x="6201" y="6102"/>
                </a:cubicBezTo>
                <a:cubicBezTo>
                  <a:pt x="6158" y="6124"/>
                  <a:pt x="6146" y="6128"/>
                  <a:pt x="6127" y="6152"/>
                </a:cubicBezTo>
                <a:cubicBezTo>
                  <a:pt x="6187" y="6187"/>
                  <a:pt x="6252" y="6176"/>
                  <a:pt x="6325" y="6176"/>
                </a:cubicBezTo>
                <a:cubicBezTo>
                  <a:pt x="6408" y="6176"/>
                  <a:pt x="6490" y="6176"/>
                  <a:pt x="6573" y="6176"/>
                </a:cubicBezTo>
              </a:path>
              <a:path w="4069" h="1762">
                <a:moveTo>
                  <a:pt x="5804" y="6375"/>
                </a:moveTo>
                <a:cubicBezTo>
                  <a:pt x="6004" y="6349"/>
                  <a:pt x="6199" y="6305"/>
                  <a:pt x="6400" y="6300"/>
                </a:cubicBezTo>
                <a:cubicBezTo>
                  <a:pt x="6500" y="6300"/>
                  <a:pt x="6534" y="6300"/>
                  <a:pt x="6598" y="6276"/>
                </a:cubicBezTo>
              </a:path>
              <a:path w="4069" h="1762">
                <a:moveTo>
                  <a:pt x="6127" y="6623"/>
                </a:moveTo>
                <a:cubicBezTo>
                  <a:pt x="6191" y="6591"/>
                  <a:pt x="6272" y="6576"/>
                  <a:pt x="6350" y="6573"/>
                </a:cubicBezTo>
                <a:cubicBezTo>
                  <a:pt x="6468" y="6568"/>
                  <a:pt x="6505" y="6564"/>
                  <a:pt x="6499" y="6672"/>
                </a:cubicBezTo>
                <a:cubicBezTo>
                  <a:pt x="6494" y="6757"/>
                  <a:pt x="6357" y="6892"/>
                  <a:pt x="6276" y="6945"/>
                </a:cubicBezTo>
                <a:cubicBezTo>
                  <a:pt x="6193" y="6999"/>
                  <a:pt x="6166" y="6966"/>
                  <a:pt x="6152" y="7069"/>
                </a:cubicBezTo>
                <a:cubicBezTo>
                  <a:pt x="6228" y="7121"/>
                  <a:pt x="6330" y="7135"/>
                  <a:pt x="6424" y="7144"/>
                </a:cubicBezTo>
                <a:cubicBezTo>
                  <a:pt x="6657" y="7166"/>
                  <a:pt x="6747" y="7090"/>
                  <a:pt x="6945" y="6970"/>
                </a:cubicBezTo>
              </a:path>
              <a:path w="4069" h="1762">
                <a:moveTo>
                  <a:pt x="7045" y="5556"/>
                </a:moveTo>
                <a:cubicBezTo>
                  <a:pt x="7189" y="5839"/>
                  <a:pt x="7292" y="6035"/>
                  <a:pt x="7317" y="6350"/>
                </a:cubicBezTo>
                <a:cubicBezTo>
                  <a:pt x="7327" y="6481"/>
                  <a:pt x="7315" y="6674"/>
                  <a:pt x="7268" y="6796"/>
                </a:cubicBezTo>
                <a:cubicBezTo>
                  <a:pt x="7212" y="6941"/>
                  <a:pt x="7114" y="7027"/>
                  <a:pt x="6995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Ink 6"/>
          <p:cNvSpPr/>
          <p:nvPr/>
        </p:nvSpPr>
        <p:spPr>
          <a:xfrm>
            <a:off x="1347840" y="3894120"/>
            <a:ext cx="339840" cy="704880"/>
          </a:xfrm>
          <a:custGeom>
            <a:avLst/>
            <a:gdLst/>
            <a:ahLst/>
            <a:rect l="l" t="t" r="r" b="b"/>
            <a:pathLst>
              <a:path w="943" h="1960">
                <a:moveTo>
                  <a:pt x="3969" y="11286"/>
                </a:moveTo>
                <a:cubicBezTo>
                  <a:pt x="3937" y="11402"/>
                  <a:pt x="3945" y="11633"/>
                  <a:pt x="3894" y="11733"/>
                </a:cubicBezTo>
                <a:cubicBezTo>
                  <a:pt x="3856" y="11808"/>
                  <a:pt x="3889" y="11567"/>
                  <a:pt x="3870" y="11485"/>
                </a:cubicBezTo>
                <a:cubicBezTo>
                  <a:pt x="3843" y="11367"/>
                  <a:pt x="3845" y="11261"/>
                  <a:pt x="3845" y="11137"/>
                </a:cubicBezTo>
                <a:cubicBezTo>
                  <a:pt x="3845" y="11052"/>
                  <a:pt x="3888" y="10999"/>
                  <a:pt x="3944" y="10939"/>
                </a:cubicBezTo>
                <a:cubicBezTo>
                  <a:pt x="4017" y="10860"/>
                  <a:pt x="4060" y="10845"/>
                  <a:pt x="4167" y="10840"/>
                </a:cubicBezTo>
                <a:cubicBezTo>
                  <a:pt x="4237" y="10837"/>
                  <a:pt x="4295" y="10815"/>
                  <a:pt x="4366" y="10815"/>
                </a:cubicBezTo>
              </a:path>
              <a:path w="943" h="1960">
                <a:moveTo>
                  <a:pt x="4142" y="11112"/>
                </a:moveTo>
                <a:cubicBezTo>
                  <a:pt x="4214" y="11104"/>
                  <a:pt x="4292" y="11072"/>
                  <a:pt x="4366" y="11088"/>
                </a:cubicBezTo>
                <a:cubicBezTo>
                  <a:pt x="4531" y="11123"/>
                  <a:pt x="4433" y="11199"/>
                  <a:pt x="4390" y="11286"/>
                </a:cubicBezTo>
                <a:cubicBezTo>
                  <a:pt x="4333" y="11402"/>
                  <a:pt x="4247" y="11433"/>
                  <a:pt x="4167" y="11534"/>
                </a:cubicBezTo>
                <a:cubicBezTo>
                  <a:pt x="4159" y="11551"/>
                  <a:pt x="4150" y="11567"/>
                  <a:pt x="4142" y="11584"/>
                </a:cubicBezTo>
                <a:cubicBezTo>
                  <a:pt x="4212" y="11653"/>
                  <a:pt x="4237" y="11654"/>
                  <a:pt x="4341" y="11658"/>
                </a:cubicBezTo>
                <a:cubicBezTo>
                  <a:pt x="4423" y="11658"/>
                  <a:pt x="4473" y="11658"/>
                  <a:pt x="4539" y="11658"/>
                </a:cubicBezTo>
              </a:path>
              <a:path w="943" h="1960">
                <a:moveTo>
                  <a:pt x="3746" y="11757"/>
                </a:moveTo>
                <a:cubicBezTo>
                  <a:pt x="3880" y="11788"/>
                  <a:pt x="4003" y="11803"/>
                  <a:pt x="4142" y="11807"/>
                </a:cubicBezTo>
                <a:cubicBezTo>
                  <a:pt x="4295" y="11811"/>
                  <a:pt x="4444" y="11804"/>
                  <a:pt x="4589" y="11782"/>
                </a:cubicBezTo>
                <a:cubicBezTo>
                  <a:pt x="4605" y="11782"/>
                  <a:pt x="4622" y="11782"/>
                  <a:pt x="4638" y="11782"/>
                </a:cubicBezTo>
              </a:path>
              <a:path w="943" h="1960">
                <a:moveTo>
                  <a:pt x="4093" y="12105"/>
                </a:moveTo>
                <a:cubicBezTo>
                  <a:pt x="4133" y="12065"/>
                  <a:pt x="4184" y="12015"/>
                  <a:pt x="4242" y="12005"/>
                </a:cubicBezTo>
                <a:cubicBezTo>
                  <a:pt x="4331" y="11989"/>
                  <a:pt x="4445" y="12016"/>
                  <a:pt x="4490" y="12105"/>
                </a:cubicBezTo>
                <a:cubicBezTo>
                  <a:pt x="4533" y="12191"/>
                  <a:pt x="4457" y="12312"/>
                  <a:pt x="4415" y="12378"/>
                </a:cubicBezTo>
                <a:cubicBezTo>
                  <a:pt x="4348" y="12484"/>
                  <a:pt x="4256" y="12595"/>
                  <a:pt x="4142" y="12650"/>
                </a:cubicBezTo>
                <a:cubicBezTo>
                  <a:pt x="4113" y="12664"/>
                  <a:pt x="3983" y="12662"/>
                  <a:pt x="3969" y="12626"/>
                </a:cubicBezTo>
                <a:cubicBezTo>
                  <a:pt x="3948" y="12572"/>
                  <a:pt x="3940" y="12537"/>
                  <a:pt x="3994" y="12502"/>
                </a:cubicBezTo>
                <a:cubicBezTo>
                  <a:pt x="4056" y="12462"/>
                  <a:pt x="4153" y="12496"/>
                  <a:pt x="4217" y="12526"/>
                </a:cubicBezTo>
                <a:cubicBezTo>
                  <a:pt x="4375" y="12599"/>
                  <a:pt x="4493" y="12726"/>
                  <a:pt x="4663" y="12774"/>
                </a:cubicBezTo>
                <a:cubicBezTo>
                  <a:pt x="4671" y="12774"/>
                  <a:pt x="4680" y="12774"/>
                  <a:pt x="4688" y="127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Ink 7"/>
          <p:cNvSpPr/>
          <p:nvPr/>
        </p:nvSpPr>
        <p:spPr>
          <a:xfrm>
            <a:off x="4179960" y="3786120"/>
            <a:ext cx="401400" cy="795240"/>
          </a:xfrm>
          <a:custGeom>
            <a:avLst/>
            <a:gdLst/>
            <a:ahLst/>
            <a:rect l="l" t="t" r="r" b="b"/>
            <a:pathLst>
              <a:path w="1117" h="2209">
                <a:moveTo>
                  <a:pt x="11683" y="11162"/>
                </a:moveTo>
                <a:cubicBezTo>
                  <a:pt x="11699" y="11227"/>
                  <a:pt x="11735" y="11341"/>
                  <a:pt x="11708" y="11410"/>
                </a:cubicBezTo>
                <a:cubicBezTo>
                  <a:pt x="11700" y="11418"/>
                  <a:pt x="11691" y="11427"/>
                  <a:pt x="11683" y="11435"/>
                </a:cubicBezTo>
                <a:cubicBezTo>
                  <a:pt x="11674" y="11354"/>
                  <a:pt x="11642" y="11271"/>
                  <a:pt x="11658" y="11187"/>
                </a:cubicBezTo>
                <a:cubicBezTo>
                  <a:pt x="11675" y="11097"/>
                  <a:pt x="11701" y="11001"/>
                  <a:pt x="11733" y="10914"/>
                </a:cubicBezTo>
                <a:cubicBezTo>
                  <a:pt x="11760" y="10840"/>
                  <a:pt x="11851" y="10711"/>
                  <a:pt x="11906" y="10666"/>
                </a:cubicBezTo>
                <a:cubicBezTo>
                  <a:pt x="11976" y="10609"/>
                  <a:pt x="12076" y="10593"/>
                  <a:pt x="12154" y="10567"/>
                </a:cubicBezTo>
                <a:cubicBezTo>
                  <a:pt x="12224" y="10543"/>
                  <a:pt x="12284" y="10527"/>
                  <a:pt x="12353" y="10517"/>
                </a:cubicBezTo>
              </a:path>
              <a:path w="1117" h="2209">
                <a:moveTo>
                  <a:pt x="11956" y="10840"/>
                </a:moveTo>
                <a:cubicBezTo>
                  <a:pt x="12016" y="10840"/>
                  <a:pt x="12245" y="10804"/>
                  <a:pt x="12278" y="10864"/>
                </a:cubicBezTo>
                <a:cubicBezTo>
                  <a:pt x="12325" y="10950"/>
                  <a:pt x="12296" y="11055"/>
                  <a:pt x="12254" y="11137"/>
                </a:cubicBezTo>
                <a:cubicBezTo>
                  <a:pt x="12196" y="11249"/>
                  <a:pt x="12114" y="11367"/>
                  <a:pt x="12030" y="11460"/>
                </a:cubicBezTo>
                <a:cubicBezTo>
                  <a:pt x="12022" y="11468"/>
                  <a:pt x="12013" y="11477"/>
                  <a:pt x="12005" y="11485"/>
                </a:cubicBezTo>
                <a:cubicBezTo>
                  <a:pt x="12086" y="11531"/>
                  <a:pt x="12103" y="11477"/>
                  <a:pt x="12179" y="11435"/>
                </a:cubicBezTo>
                <a:cubicBezTo>
                  <a:pt x="12263" y="11389"/>
                  <a:pt x="12281" y="11342"/>
                  <a:pt x="12353" y="11286"/>
                </a:cubicBezTo>
                <a:cubicBezTo>
                  <a:pt x="12406" y="11259"/>
                  <a:pt x="12426" y="11247"/>
                  <a:pt x="12452" y="11212"/>
                </a:cubicBezTo>
              </a:path>
              <a:path w="1117" h="2209">
                <a:moveTo>
                  <a:pt x="11609" y="11683"/>
                </a:moveTo>
                <a:cubicBezTo>
                  <a:pt x="11609" y="11700"/>
                  <a:pt x="11609" y="11716"/>
                  <a:pt x="11609" y="11733"/>
                </a:cubicBezTo>
                <a:cubicBezTo>
                  <a:pt x="11695" y="11724"/>
                  <a:pt x="11771" y="11694"/>
                  <a:pt x="11857" y="11658"/>
                </a:cubicBezTo>
                <a:cubicBezTo>
                  <a:pt x="11963" y="11614"/>
                  <a:pt x="12072" y="11577"/>
                  <a:pt x="12179" y="11534"/>
                </a:cubicBezTo>
                <a:cubicBezTo>
                  <a:pt x="12265" y="11499"/>
                  <a:pt x="12372" y="11492"/>
                  <a:pt x="12452" y="11460"/>
                </a:cubicBezTo>
                <a:cubicBezTo>
                  <a:pt x="12480" y="11432"/>
                  <a:pt x="12493" y="11423"/>
                  <a:pt x="12526" y="11435"/>
                </a:cubicBezTo>
              </a:path>
              <a:path w="1117" h="2209">
                <a:moveTo>
                  <a:pt x="11931" y="12055"/>
                </a:moveTo>
                <a:cubicBezTo>
                  <a:pt x="11984" y="12002"/>
                  <a:pt x="12020" y="12009"/>
                  <a:pt x="12080" y="11981"/>
                </a:cubicBezTo>
                <a:cubicBezTo>
                  <a:pt x="12157" y="11946"/>
                  <a:pt x="12187" y="11885"/>
                  <a:pt x="12278" y="11881"/>
                </a:cubicBezTo>
                <a:cubicBezTo>
                  <a:pt x="12427" y="11875"/>
                  <a:pt x="12479" y="11961"/>
                  <a:pt x="12427" y="12105"/>
                </a:cubicBezTo>
                <a:cubicBezTo>
                  <a:pt x="12402" y="12155"/>
                  <a:pt x="12378" y="12204"/>
                  <a:pt x="12353" y="12254"/>
                </a:cubicBezTo>
              </a:path>
              <a:path w="1117" h="2209">
                <a:moveTo>
                  <a:pt x="12278" y="12427"/>
                </a:moveTo>
                <a:cubicBezTo>
                  <a:pt x="12243" y="12519"/>
                  <a:pt x="12153" y="12641"/>
                  <a:pt x="12204" y="12725"/>
                </a:cubicBezTo>
                <a:cubicBezTo>
                  <a:pt x="12252" y="12686"/>
                  <a:pt x="12341" y="12615"/>
                  <a:pt x="12402" y="12601"/>
                </a:cubicBezTo>
                <a:cubicBezTo>
                  <a:pt x="12460" y="12587"/>
                  <a:pt x="12515" y="12561"/>
                  <a:pt x="12576" y="12551"/>
                </a:cubicBezTo>
                <a:cubicBezTo>
                  <a:pt x="12622" y="12543"/>
                  <a:pt x="12678" y="12551"/>
                  <a:pt x="12725" y="125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Ink 8"/>
          <p:cNvSpPr/>
          <p:nvPr/>
        </p:nvSpPr>
        <p:spPr>
          <a:xfrm>
            <a:off x="7885080" y="3660840"/>
            <a:ext cx="27000" cy="669960"/>
          </a:xfrm>
          <a:custGeom>
            <a:avLst/>
            <a:gdLst/>
            <a:ahLst/>
            <a:rect l="l" t="t" r="r" b="b"/>
            <a:pathLst>
              <a:path w="75" h="1861">
                <a:moveTo>
                  <a:pt x="21977" y="10170"/>
                </a:moveTo>
                <a:cubicBezTo>
                  <a:pt x="21977" y="10298"/>
                  <a:pt x="21964" y="10421"/>
                  <a:pt x="21952" y="10542"/>
                </a:cubicBezTo>
                <a:cubicBezTo>
                  <a:pt x="21937" y="10688"/>
                  <a:pt x="21931" y="10842"/>
                  <a:pt x="21927" y="10988"/>
                </a:cubicBezTo>
                <a:cubicBezTo>
                  <a:pt x="21921" y="11221"/>
                  <a:pt x="21924" y="11457"/>
                  <a:pt x="21903" y="11683"/>
                </a:cubicBezTo>
                <a:cubicBezTo>
                  <a:pt x="21897" y="11751"/>
                  <a:pt x="21868" y="12053"/>
                  <a:pt x="21952" y="12030"/>
                </a:cubicBezTo>
                <a:cubicBezTo>
                  <a:pt x="21960" y="12022"/>
                  <a:pt x="21969" y="12013"/>
                  <a:pt x="21977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the sin, cos, tan of t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6095880" y="1600200"/>
          <a:ext cx="6066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606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Ink 5"/>
          <p:cNvSpPr/>
          <p:nvPr/>
        </p:nvSpPr>
        <p:spPr>
          <a:xfrm>
            <a:off x="419040" y="241200"/>
            <a:ext cx="1527120" cy="2563920"/>
          </a:xfrm>
          <a:custGeom>
            <a:avLst/>
            <a:gdLst/>
            <a:ahLst/>
            <a:rect l="l" t="t" r="r" b="b"/>
            <a:pathLst>
              <a:path w="4242" h="7120">
                <a:moveTo>
                  <a:pt x="2902" y="6003"/>
                </a:moveTo>
                <a:cubicBezTo>
                  <a:pt x="2902" y="6155"/>
                  <a:pt x="2888" y="6300"/>
                  <a:pt x="2877" y="6449"/>
                </a:cubicBezTo>
                <a:cubicBezTo>
                  <a:pt x="2870" y="6543"/>
                  <a:pt x="2846" y="6709"/>
                  <a:pt x="2853" y="6796"/>
                </a:cubicBezTo>
                <a:cubicBezTo>
                  <a:pt x="2874" y="6862"/>
                  <a:pt x="2882" y="6877"/>
                  <a:pt x="2877" y="6921"/>
                </a:cubicBezTo>
              </a:path>
              <a:path w="4242" h="7120">
                <a:moveTo>
                  <a:pt x="3249" y="6152"/>
                </a:moveTo>
                <a:cubicBezTo>
                  <a:pt x="3249" y="6391"/>
                  <a:pt x="3236" y="6641"/>
                  <a:pt x="3274" y="6871"/>
                </a:cubicBezTo>
                <a:cubicBezTo>
                  <a:pt x="3274" y="6913"/>
                  <a:pt x="3266" y="6929"/>
                  <a:pt x="3299" y="6921"/>
                </a:cubicBezTo>
              </a:path>
              <a:path w="4242" h="7120">
                <a:moveTo>
                  <a:pt x="3572" y="6102"/>
                </a:moveTo>
                <a:cubicBezTo>
                  <a:pt x="3705" y="6052"/>
                  <a:pt x="3800" y="6052"/>
                  <a:pt x="3944" y="6052"/>
                </a:cubicBezTo>
                <a:cubicBezTo>
                  <a:pt x="4043" y="6052"/>
                  <a:pt x="4076" y="6052"/>
                  <a:pt x="4142" y="6052"/>
                </a:cubicBezTo>
              </a:path>
              <a:path w="4242" h="7120">
                <a:moveTo>
                  <a:pt x="3845" y="6052"/>
                </a:moveTo>
                <a:cubicBezTo>
                  <a:pt x="3790" y="6194"/>
                  <a:pt x="3695" y="6373"/>
                  <a:pt x="3671" y="6524"/>
                </a:cubicBezTo>
                <a:cubicBezTo>
                  <a:pt x="3662" y="6582"/>
                  <a:pt x="3677" y="6587"/>
                  <a:pt x="3721" y="6598"/>
                </a:cubicBezTo>
              </a:path>
              <a:path w="4242" h="7120">
                <a:moveTo>
                  <a:pt x="3969" y="6176"/>
                </a:moveTo>
                <a:cubicBezTo>
                  <a:pt x="3969" y="6333"/>
                  <a:pt x="3950" y="6497"/>
                  <a:pt x="3994" y="6648"/>
                </a:cubicBezTo>
                <a:cubicBezTo>
                  <a:pt x="4012" y="6711"/>
                  <a:pt x="4028" y="6748"/>
                  <a:pt x="4068" y="6796"/>
                </a:cubicBezTo>
              </a:path>
              <a:path w="4242" h="7120">
                <a:moveTo>
                  <a:pt x="2902" y="7020"/>
                </a:moveTo>
                <a:cubicBezTo>
                  <a:pt x="3006" y="6960"/>
                  <a:pt x="3128" y="6942"/>
                  <a:pt x="3249" y="6921"/>
                </a:cubicBezTo>
                <a:cubicBezTo>
                  <a:pt x="3525" y="6873"/>
                  <a:pt x="3787" y="6769"/>
                  <a:pt x="4068" y="6747"/>
                </a:cubicBezTo>
                <a:cubicBezTo>
                  <a:pt x="4169" y="6739"/>
                  <a:pt x="4250" y="6749"/>
                  <a:pt x="4341" y="6772"/>
                </a:cubicBezTo>
              </a:path>
              <a:path w="4242" h="7120">
                <a:moveTo>
                  <a:pt x="3746" y="6945"/>
                </a:moveTo>
                <a:cubicBezTo>
                  <a:pt x="3683" y="7060"/>
                  <a:pt x="3507" y="7287"/>
                  <a:pt x="3522" y="7441"/>
                </a:cubicBezTo>
                <a:cubicBezTo>
                  <a:pt x="3526" y="7479"/>
                  <a:pt x="3617" y="7628"/>
                  <a:pt x="3646" y="7640"/>
                </a:cubicBezTo>
                <a:cubicBezTo>
                  <a:pt x="3749" y="7681"/>
                  <a:pt x="3893" y="7656"/>
                  <a:pt x="3994" y="7615"/>
                </a:cubicBezTo>
                <a:cubicBezTo>
                  <a:pt x="4107" y="7570"/>
                  <a:pt x="4223" y="7460"/>
                  <a:pt x="4266" y="7342"/>
                </a:cubicBezTo>
                <a:cubicBezTo>
                  <a:pt x="4266" y="7326"/>
                  <a:pt x="4266" y="7309"/>
                  <a:pt x="4266" y="7293"/>
                </a:cubicBezTo>
                <a:cubicBezTo>
                  <a:pt x="4085" y="7247"/>
                  <a:pt x="3971" y="7380"/>
                  <a:pt x="3845" y="7516"/>
                </a:cubicBezTo>
                <a:cubicBezTo>
                  <a:pt x="3837" y="7525"/>
                  <a:pt x="3599" y="7783"/>
                  <a:pt x="3696" y="7789"/>
                </a:cubicBezTo>
                <a:cubicBezTo>
                  <a:pt x="3721" y="7781"/>
                  <a:pt x="3745" y="7772"/>
                  <a:pt x="3770" y="7764"/>
                </a:cubicBezTo>
              </a:path>
              <a:path w="4242" h="7120">
                <a:moveTo>
                  <a:pt x="4366" y="1166"/>
                </a:moveTo>
                <a:cubicBezTo>
                  <a:pt x="4202" y="978"/>
                  <a:pt x="4084" y="803"/>
                  <a:pt x="3845" y="719"/>
                </a:cubicBezTo>
                <a:cubicBezTo>
                  <a:pt x="3675" y="659"/>
                  <a:pt x="3425" y="641"/>
                  <a:pt x="3249" y="670"/>
                </a:cubicBezTo>
                <a:cubicBezTo>
                  <a:pt x="2945" y="720"/>
                  <a:pt x="2587" y="825"/>
                  <a:pt x="2332" y="992"/>
                </a:cubicBezTo>
                <a:cubicBezTo>
                  <a:pt x="2043" y="1181"/>
                  <a:pt x="1816" y="1464"/>
                  <a:pt x="1612" y="1736"/>
                </a:cubicBezTo>
                <a:cubicBezTo>
                  <a:pt x="1461" y="1937"/>
                  <a:pt x="1363" y="2142"/>
                  <a:pt x="1290" y="2381"/>
                </a:cubicBezTo>
                <a:cubicBezTo>
                  <a:pt x="1221" y="2607"/>
                  <a:pt x="1173" y="2842"/>
                  <a:pt x="1166" y="3076"/>
                </a:cubicBezTo>
                <a:cubicBezTo>
                  <a:pt x="1159" y="3299"/>
                  <a:pt x="1174" y="3507"/>
                  <a:pt x="1240" y="3721"/>
                </a:cubicBezTo>
                <a:cubicBezTo>
                  <a:pt x="1313" y="3958"/>
                  <a:pt x="1470" y="4186"/>
                  <a:pt x="1662" y="4341"/>
                </a:cubicBezTo>
                <a:cubicBezTo>
                  <a:pt x="1861" y="4502"/>
                  <a:pt x="2131" y="4633"/>
                  <a:pt x="2381" y="4688"/>
                </a:cubicBezTo>
                <a:cubicBezTo>
                  <a:pt x="2620" y="4741"/>
                  <a:pt x="2887" y="4713"/>
                  <a:pt x="3125" y="4663"/>
                </a:cubicBezTo>
                <a:cubicBezTo>
                  <a:pt x="3384" y="4609"/>
                  <a:pt x="3631" y="4495"/>
                  <a:pt x="3870" y="4390"/>
                </a:cubicBezTo>
                <a:cubicBezTo>
                  <a:pt x="4187" y="4251"/>
                  <a:pt x="4433" y="4054"/>
                  <a:pt x="4688" y="3820"/>
                </a:cubicBezTo>
                <a:cubicBezTo>
                  <a:pt x="4887" y="3638"/>
                  <a:pt x="5067" y="3455"/>
                  <a:pt x="5209" y="3225"/>
                </a:cubicBezTo>
                <a:cubicBezTo>
                  <a:pt x="5328" y="3032"/>
                  <a:pt x="5400" y="2827"/>
                  <a:pt x="5407" y="2604"/>
                </a:cubicBezTo>
                <a:cubicBezTo>
                  <a:pt x="5415" y="2374"/>
                  <a:pt x="5395" y="2176"/>
                  <a:pt x="5308" y="1960"/>
                </a:cubicBezTo>
                <a:cubicBezTo>
                  <a:pt x="5221" y="1743"/>
                  <a:pt x="5048" y="1465"/>
                  <a:pt x="4862" y="1315"/>
                </a:cubicBezTo>
                <a:cubicBezTo>
                  <a:pt x="4689" y="1176"/>
                  <a:pt x="4514" y="1027"/>
                  <a:pt x="4291" y="992"/>
                </a:cubicBezTo>
                <a:cubicBezTo>
                  <a:pt x="4092" y="961"/>
                  <a:pt x="4031" y="1041"/>
                  <a:pt x="3894" y="11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Ink 6"/>
          <p:cNvSpPr/>
          <p:nvPr/>
        </p:nvSpPr>
        <p:spPr>
          <a:xfrm>
            <a:off x="1830240" y="2116080"/>
            <a:ext cx="1662120" cy="777960"/>
          </a:xfrm>
          <a:custGeom>
            <a:avLst/>
            <a:gdLst/>
            <a:ahLst/>
            <a:rect l="l" t="t" r="r" b="b"/>
            <a:pathLst>
              <a:path w="4615" h="2159">
                <a:moveTo>
                  <a:pt x="5730" y="5953"/>
                </a:moveTo>
                <a:cubicBezTo>
                  <a:pt x="5581" y="6065"/>
                  <a:pt x="5465" y="6169"/>
                  <a:pt x="5358" y="6325"/>
                </a:cubicBezTo>
                <a:cubicBezTo>
                  <a:pt x="5245" y="6490"/>
                  <a:pt x="5140" y="6644"/>
                  <a:pt x="5110" y="6846"/>
                </a:cubicBezTo>
                <a:cubicBezTo>
                  <a:pt x="5087" y="6999"/>
                  <a:pt x="5086" y="7165"/>
                  <a:pt x="5110" y="7317"/>
                </a:cubicBezTo>
                <a:cubicBezTo>
                  <a:pt x="5131" y="7454"/>
                  <a:pt x="5179" y="7591"/>
                  <a:pt x="5283" y="7689"/>
                </a:cubicBezTo>
                <a:cubicBezTo>
                  <a:pt x="5331" y="7713"/>
                  <a:pt x="5346" y="7721"/>
                  <a:pt x="5383" y="7714"/>
                </a:cubicBezTo>
              </a:path>
              <a:path w="4615" h="2159">
                <a:moveTo>
                  <a:pt x="6176" y="6276"/>
                </a:moveTo>
                <a:cubicBezTo>
                  <a:pt x="6151" y="6394"/>
                  <a:pt x="6086" y="6539"/>
                  <a:pt x="6152" y="6648"/>
                </a:cubicBezTo>
                <a:cubicBezTo>
                  <a:pt x="6152" y="6536"/>
                  <a:pt x="6138" y="6429"/>
                  <a:pt x="6127" y="6325"/>
                </a:cubicBezTo>
                <a:cubicBezTo>
                  <a:pt x="6117" y="6232"/>
                  <a:pt x="6106" y="6143"/>
                  <a:pt x="6102" y="6052"/>
                </a:cubicBezTo>
                <a:cubicBezTo>
                  <a:pt x="6098" y="5968"/>
                  <a:pt x="6155" y="5953"/>
                  <a:pt x="6226" y="5928"/>
                </a:cubicBezTo>
                <a:cubicBezTo>
                  <a:pt x="6378" y="5874"/>
                  <a:pt x="6490" y="5888"/>
                  <a:pt x="6648" y="5904"/>
                </a:cubicBezTo>
                <a:cubicBezTo>
                  <a:pt x="6664" y="5904"/>
                  <a:pt x="6681" y="5904"/>
                  <a:pt x="6697" y="5904"/>
                </a:cubicBezTo>
              </a:path>
              <a:path w="4615" h="2159">
                <a:moveTo>
                  <a:pt x="6524" y="6028"/>
                </a:moveTo>
                <a:cubicBezTo>
                  <a:pt x="6607" y="6042"/>
                  <a:pt x="6744" y="6048"/>
                  <a:pt x="6821" y="6077"/>
                </a:cubicBezTo>
                <a:cubicBezTo>
                  <a:pt x="6846" y="6102"/>
                  <a:pt x="6854" y="6110"/>
                  <a:pt x="6871" y="6127"/>
                </a:cubicBezTo>
                <a:cubicBezTo>
                  <a:pt x="6797" y="6164"/>
                  <a:pt x="6725" y="6224"/>
                  <a:pt x="6648" y="6251"/>
                </a:cubicBezTo>
                <a:cubicBezTo>
                  <a:pt x="6567" y="6279"/>
                  <a:pt x="6536" y="6276"/>
                  <a:pt x="6474" y="6325"/>
                </a:cubicBezTo>
                <a:cubicBezTo>
                  <a:pt x="6555" y="6352"/>
                  <a:pt x="6638" y="6357"/>
                  <a:pt x="6722" y="6375"/>
                </a:cubicBezTo>
                <a:cubicBezTo>
                  <a:pt x="6829" y="6397"/>
                  <a:pt x="6870" y="6409"/>
                  <a:pt x="6921" y="6499"/>
                </a:cubicBezTo>
                <a:cubicBezTo>
                  <a:pt x="6840" y="6563"/>
                  <a:pt x="6725" y="6584"/>
                  <a:pt x="6623" y="6598"/>
                </a:cubicBezTo>
                <a:cubicBezTo>
                  <a:pt x="6598" y="6598"/>
                  <a:pt x="6573" y="6598"/>
                  <a:pt x="6548" y="6598"/>
                </a:cubicBezTo>
              </a:path>
              <a:path w="4615" h="2159">
                <a:moveTo>
                  <a:pt x="6176" y="6623"/>
                </a:moveTo>
                <a:cubicBezTo>
                  <a:pt x="6409" y="6640"/>
                  <a:pt x="6640" y="6654"/>
                  <a:pt x="6871" y="6672"/>
                </a:cubicBezTo>
                <a:cubicBezTo>
                  <a:pt x="6896" y="6672"/>
                  <a:pt x="6920" y="6672"/>
                  <a:pt x="6945" y="6672"/>
                </a:cubicBezTo>
              </a:path>
              <a:path w="4615" h="2159">
                <a:moveTo>
                  <a:pt x="6350" y="6921"/>
                </a:moveTo>
                <a:cubicBezTo>
                  <a:pt x="6467" y="6928"/>
                  <a:pt x="6579" y="6945"/>
                  <a:pt x="6697" y="6945"/>
                </a:cubicBezTo>
                <a:cubicBezTo>
                  <a:pt x="6681" y="7077"/>
                  <a:pt x="6629" y="7044"/>
                  <a:pt x="6524" y="7119"/>
                </a:cubicBezTo>
                <a:cubicBezTo>
                  <a:pt x="6475" y="7154"/>
                  <a:pt x="6321" y="7240"/>
                  <a:pt x="6300" y="7293"/>
                </a:cubicBezTo>
                <a:cubicBezTo>
                  <a:pt x="6300" y="7309"/>
                  <a:pt x="6300" y="7326"/>
                  <a:pt x="6300" y="7342"/>
                </a:cubicBezTo>
                <a:cubicBezTo>
                  <a:pt x="6399" y="7386"/>
                  <a:pt x="6487" y="7425"/>
                  <a:pt x="6598" y="7417"/>
                </a:cubicBezTo>
                <a:cubicBezTo>
                  <a:pt x="6664" y="7409"/>
                  <a:pt x="6730" y="7400"/>
                  <a:pt x="6796" y="7392"/>
                </a:cubicBezTo>
              </a:path>
              <a:path w="4615" h="2159">
                <a:moveTo>
                  <a:pt x="7317" y="6623"/>
                </a:moveTo>
                <a:cubicBezTo>
                  <a:pt x="7344" y="6754"/>
                  <a:pt x="7339" y="6840"/>
                  <a:pt x="7317" y="6970"/>
                </a:cubicBezTo>
                <a:cubicBezTo>
                  <a:pt x="7317" y="6978"/>
                  <a:pt x="7317" y="6987"/>
                  <a:pt x="7317" y="6995"/>
                </a:cubicBezTo>
              </a:path>
              <a:path w="4615" h="2159">
                <a:moveTo>
                  <a:pt x="7640" y="6300"/>
                </a:moveTo>
                <a:cubicBezTo>
                  <a:pt x="7792" y="6316"/>
                  <a:pt x="7938" y="6337"/>
                  <a:pt x="8086" y="6350"/>
                </a:cubicBezTo>
              </a:path>
              <a:path w="4615" h="2159">
                <a:moveTo>
                  <a:pt x="8483" y="5928"/>
                </a:moveTo>
                <a:cubicBezTo>
                  <a:pt x="8493" y="6051"/>
                  <a:pt x="8525" y="6173"/>
                  <a:pt x="8508" y="6300"/>
                </a:cubicBezTo>
                <a:cubicBezTo>
                  <a:pt x="8492" y="6417"/>
                  <a:pt x="8494" y="6487"/>
                  <a:pt x="8508" y="6598"/>
                </a:cubicBezTo>
              </a:path>
              <a:path w="4615" h="2159">
                <a:moveTo>
                  <a:pt x="8285" y="6796"/>
                </a:moveTo>
                <a:cubicBezTo>
                  <a:pt x="8491" y="6826"/>
                  <a:pt x="8618" y="6839"/>
                  <a:pt x="8830" y="6796"/>
                </a:cubicBezTo>
              </a:path>
              <a:path w="4615" h="2159">
                <a:moveTo>
                  <a:pt x="8558" y="6970"/>
                </a:moveTo>
                <a:cubicBezTo>
                  <a:pt x="8638" y="6951"/>
                  <a:pt x="8746" y="6921"/>
                  <a:pt x="8830" y="6945"/>
                </a:cubicBezTo>
                <a:cubicBezTo>
                  <a:pt x="8880" y="6970"/>
                  <a:pt x="8897" y="6978"/>
                  <a:pt x="8905" y="7020"/>
                </a:cubicBezTo>
                <a:cubicBezTo>
                  <a:pt x="8852" y="7090"/>
                  <a:pt x="8778" y="7161"/>
                  <a:pt x="8706" y="7218"/>
                </a:cubicBezTo>
                <a:cubicBezTo>
                  <a:pt x="8643" y="7267"/>
                  <a:pt x="8529" y="7302"/>
                  <a:pt x="8483" y="7367"/>
                </a:cubicBezTo>
                <a:cubicBezTo>
                  <a:pt x="8434" y="7435"/>
                  <a:pt x="8487" y="7470"/>
                  <a:pt x="8533" y="7516"/>
                </a:cubicBezTo>
                <a:cubicBezTo>
                  <a:pt x="8610" y="7593"/>
                  <a:pt x="8820" y="7635"/>
                  <a:pt x="8930" y="7640"/>
                </a:cubicBezTo>
                <a:cubicBezTo>
                  <a:pt x="8971" y="7640"/>
                  <a:pt x="9013" y="7640"/>
                  <a:pt x="9054" y="7640"/>
                </a:cubicBezTo>
              </a:path>
              <a:path w="4615" h="2159">
                <a:moveTo>
                  <a:pt x="9103" y="5978"/>
                </a:moveTo>
                <a:cubicBezTo>
                  <a:pt x="9394" y="6242"/>
                  <a:pt x="9501" y="6417"/>
                  <a:pt x="9624" y="6796"/>
                </a:cubicBezTo>
                <a:cubicBezTo>
                  <a:pt x="9744" y="7163"/>
                  <a:pt x="9719" y="7557"/>
                  <a:pt x="9475" y="7888"/>
                </a:cubicBezTo>
                <a:cubicBezTo>
                  <a:pt x="9417" y="7938"/>
                  <a:pt x="9360" y="7987"/>
                  <a:pt x="9302" y="80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Ink 7"/>
          <p:cNvSpPr/>
          <p:nvPr/>
        </p:nvSpPr>
        <p:spPr>
          <a:xfrm>
            <a:off x="1500120" y="3554280"/>
            <a:ext cx="849240" cy="901800"/>
          </a:xfrm>
          <a:custGeom>
            <a:avLst/>
            <a:gdLst/>
            <a:ahLst/>
            <a:rect l="l" t="t" r="r" b="b"/>
            <a:pathLst>
              <a:path w="2358" h="2507">
                <a:moveTo>
                  <a:pt x="4167" y="10716"/>
                </a:moveTo>
                <a:cubicBezTo>
                  <a:pt x="4248" y="10693"/>
                  <a:pt x="4327" y="10729"/>
                  <a:pt x="4415" y="10740"/>
                </a:cubicBezTo>
                <a:cubicBezTo>
                  <a:pt x="4507" y="10740"/>
                  <a:pt x="4549" y="10737"/>
                  <a:pt x="4614" y="10716"/>
                </a:cubicBezTo>
              </a:path>
              <a:path w="2358" h="2507">
                <a:moveTo>
                  <a:pt x="5234" y="9872"/>
                </a:moveTo>
                <a:cubicBezTo>
                  <a:pt x="5270" y="9932"/>
                  <a:pt x="5280" y="9996"/>
                  <a:pt x="5283" y="10071"/>
                </a:cubicBezTo>
                <a:cubicBezTo>
                  <a:pt x="5289" y="10199"/>
                  <a:pt x="5293" y="10317"/>
                  <a:pt x="5308" y="10443"/>
                </a:cubicBezTo>
                <a:cubicBezTo>
                  <a:pt x="5323" y="10564"/>
                  <a:pt x="5328" y="10693"/>
                  <a:pt x="5333" y="10815"/>
                </a:cubicBezTo>
                <a:cubicBezTo>
                  <a:pt x="5333" y="10831"/>
                  <a:pt x="5333" y="10848"/>
                  <a:pt x="5333" y="10864"/>
                </a:cubicBezTo>
              </a:path>
              <a:path w="2358" h="2507">
                <a:moveTo>
                  <a:pt x="5011" y="11212"/>
                </a:moveTo>
                <a:cubicBezTo>
                  <a:pt x="5071" y="11189"/>
                  <a:pt x="5142" y="11172"/>
                  <a:pt x="5209" y="11187"/>
                </a:cubicBezTo>
                <a:cubicBezTo>
                  <a:pt x="5299" y="11207"/>
                  <a:pt x="5394" y="11192"/>
                  <a:pt x="5482" y="11212"/>
                </a:cubicBezTo>
                <a:cubicBezTo>
                  <a:pt x="5585" y="11236"/>
                  <a:pt x="5697" y="11257"/>
                  <a:pt x="5804" y="11261"/>
                </a:cubicBezTo>
                <a:cubicBezTo>
                  <a:pt x="5870" y="11261"/>
                  <a:pt x="5887" y="11261"/>
                  <a:pt x="5928" y="11261"/>
                </a:cubicBezTo>
              </a:path>
              <a:path w="2358" h="2507">
                <a:moveTo>
                  <a:pt x="5407" y="11633"/>
                </a:moveTo>
                <a:cubicBezTo>
                  <a:pt x="5481" y="11663"/>
                  <a:pt x="5498" y="11593"/>
                  <a:pt x="5581" y="11584"/>
                </a:cubicBezTo>
                <a:cubicBezTo>
                  <a:pt x="5651" y="11576"/>
                  <a:pt x="5705" y="11559"/>
                  <a:pt x="5779" y="11559"/>
                </a:cubicBezTo>
                <a:cubicBezTo>
                  <a:pt x="5856" y="11559"/>
                  <a:pt x="5875" y="11556"/>
                  <a:pt x="5928" y="11609"/>
                </a:cubicBezTo>
                <a:cubicBezTo>
                  <a:pt x="5986" y="11666"/>
                  <a:pt x="6000" y="11755"/>
                  <a:pt x="6003" y="11832"/>
                </a:cubicBezTo>
                <a:cubicBezTo>
                  <a:pt x="6008" y="11962"/>
                  <a:pt x="5982" y="12015"/>
                  <a:pt x="5904" y="12129"/>
                </a:cubicBezTo>
                <a:cubicBezTo>
                  <a:pt x="5865" y="12186"/>
                  <a:pt x="5842" y="12221"/>
                  <a:pt x="5779" y="12254"/>
                </a:cubicBezTo>
                <a:cubicBezTo>
                  <a:pt x="5705" y="12293"/>
                  <a:pt x="5649" y="12276"/>
                  <a:pt x="5581" y="12229"/>
                </a:cubicBezTo>
                <a:cubicBezTo>
                  <a:pt x="5518" y="12186"/>
                  <a:pt x="5517" y="12069"/>
                  <a:pt x="5531" y="12005"/>
                </a:cubicBezTo>
                <a:cubicBezTo>
                  <a:pt x="5546" y="11932"/>
                  <a:pt x="5615" y="11913"/>
                  <a:pt x="5680" y="11931"/>
                </a:cubicBezTo>
                <a:cubicBezTo>
                  <a:pt x="5780" y="11959"/>
                  <a:pt x="5827" y="11995"/>
                  <a:pt x="5904" y="12055"/>
                </a:cubicBezTo>
                <a:cubicBezTo>
                  <a:pt x="6007" y="12135"/>
                  <a:pt x="6124" y="12197"/>
                  <a:pt x="6226" y="12278"/>
                </a:cubicBezTo>
                <a:cubicBezTo>
                  <a:pt x="6284" y="12324"/>
                  <a:pt x="6371" y="12389"/>
                  <a:pt x="6449" y="12378"/>
                </a:cubicBezTo>
                <a:cubicBezTo>
                  <a:pt x="6479" y="12348"/>
                  <a:pt x="6493" y="12337"/>
                  <a:pt x="6524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Ink 8"/>
          <p:cNvSpPr/>
          <p:nvPr/>
        </p:nvSpPr>
        <p:spPr>
          <a:xfrm>
            <a:off x="4384800" y="3483000"/>
            <a:ext cx="401400" cy="928800"/>
          </a:xfrm>
          <a:custGeom>
            <a:avLst/>
            <a:gdLst/>
            <a:ahLst/>
            <a:rect l="l" t="t" r="r" b="b"/>
            <a:pathLst>
              <a:path w="1117" h="2581">
                <a:moveTo>
                  <a:pt x="12278" y="9996"/>
                </a:moveTo>
                <a:cubicBezTo>
                  <a:pt x="12278" y="10104"/>
                  <a:pt x="12299" y="10191"/>
                  <a:pt x="12303" y="10294"/>
                </a:cubicBezTo>
                <a:cubicBezTo>
                  <a:pt x="12307" y="10385"/>
                  <a:pt x="12303" y="10476"/>
                  <a:pt x="12303" y="10567"/>
                </a:cubicBezTo>
                <a:cubicBezTo>
                  <a:pt x="12303" y="10471"/>
                  <a:pt x="12323" y="10387"/>
                  <a:pt x="12328" y="10294"/>
                </a:cubicBezTo>
                <a:cubicBezTo>
                  <a:pt x="12332" y="10225"/>
                  <a:pt x="12367" y="10154"/>
                  <a:pt x="12378" y="10096"/>
                </a:cubicBezTo>
                <a:cubicBezTo>
                  <a:pt x="12391" y="10026"/>
                  <a:pt x="12409" y="9960"/>
                  <a:pt x="12452" y="9897"/>
                </a:cubicBezTo>
                <a:cubicBezTo>
                  <a:pt x="12490" y="9842"/>
                  <a:pt x="12550" y="9833"/>
                  <a:pt x="12601" y="9798"/>
                </a:cubicBezTo>
                <a:cubicBezTo>
                  <a:pt x="12644" y="9768"/>
                  <a:pt x="12742" y="9732"/>
                  <a:pt x="12799" y="9723"/>
                </a:cubicBezTo>
                <a:cubicBezTo>
                  <a:pt x="12855" y="9714"/>
                  <a:pt x="12945" y="9720"/>
                  <a:pt x="12998" y="9699"/>
                </a:cubicBezTo>
                <a:cubicBezTo>
                  <a:pt x="13006" y="9691"/>
                  <a:pt x="13014" y="9682"/>
                  <a:pt x="13022" y="9674"/>
                </a:cubicBezTo>
              </a:path>
              <a:path w="1117" h="2581">
                <a:moveTo>
                  <a:pt x="12650" y="10096"/>
                </a:moveTo>
                <a:lnTo>
                  <a:pt x="12650" y="10096"/>
                </a:lnTo>
              </a:path>
              <a:path w="1117" h="2581">
                <a:moveTo>
                  <a:pt x="12973" y="9996"/>
                </a:moveTo>
                <a:cubicBezTo>
                  <a:pt x="13020" y="10120"/>
                  <a:pt x="13018" y="10148"/>
                  <a:pt x="12898" y="10244"/>
                </a:cubicBezTo>
                <a:cubicBezTo>
                  <a:pt x="12855" y="10266"/>
                  <a:pt x="12843" y="10270"/>
                  <a:pt x="12824" y="10294"/>
                </a:cubicBezTo>
              </a:path>
              <a:path w="1117" h="2581">
                <a:moveTo>
                  <a:pt x="13072" y="10319"/>
                </a:moveTo>
                <a:cubicBezTo>
                  <a:pt x="13134" y="10444"/>
                  <a:pt x="13160" y="10455"/>
                  <a:pt x="13072" y="10567"/>
                </a:cubicBezTo>
                <a:cubicBezTo>
                  <a:pt x="13023" y="10629"/>
                  <a:pt x="12958" y="10670"/>
                  <a:pt x="12898" y="10716"/>
                </a:cubicBezTo>
                <a:cubicBezTo>
                  <a:pt x="12859" y="10746"/>
                  <a:pt x="12846" y="10778"/>
                  <a:pt x="12799" y="10790"/>
                </a:cubicBezTo>
              </a:path>
              <a:path w="1117" h="2581">
                <a:moveTo>
                  <a:pt x="12179" y="10840"/>
                </a:moveTo>
                <a:cubicBezTo>
                  <a:pt x="12292" y="10863"/>
                  <a:pt x="12370" y="10846"/>
                  <a:pt x="12477" y="10840"/>
                </a:cubicBezTo>
                <a:cubicBezTo>
                  <a:pt x="12748" y="10825"/>
                  <a:pt x="13024" y="10840"/>
                  <a:pt x="13295" y="10840"/>
                </a:cubicBezTo>
              </a:path>
              <a:path w="1117" h="2581">
                <a:moveTo>
                  <a:pt x="12402" y="11261"/>
                </a:moveTo>
                <a:cubicBezTo>
                  <a:pt x="12467" y="11211"/>
                  <a:pt x="12536" y="11217"/>
                  <a:pt x="12601" y="11187"/>
                </a:cubicBezTo>
                <a:cubicBezTo>
                  <a:pt x="12682" y="11149"/>
                  <a:pt x="12747" y="11125"/>
                  <a:pt x="12824" y="11187"/>
                </a:cubicBezTo>
                <a:cubicBezTo>
                  <a:pt x="12894" y="11243"/>
                  <a:pt x="12874" y="11330"/>
                  <a:pt x="12874" y="11410"/>
                </a:cubicBezTo>
                <a:cubicBezTo>
                  <a:pt x="12874" y="11541"/>
                  <a:pt x="12831" y="11701"/>
                  <a:pt x="12750" y="11807"/>
                </a:cubicBezTo>
                <a:cubicBezTo>
                  <a:pt x="12689" y="11886"/>
                  <a:pt x="12622" y="11959"/>
                  <a:pt x="12551" y="12030"/>
                </a:cubicBezTo>
                <a:cubicBezTo>
                  <a:pt x="12515" y="12066"/>
                  <a:pt x="12464" y="12149"/>
                  <a:pt x="12402" y="12129"/>
                </a:cubicBezTo>
                <a:cubicBezTo>
                  <a:pt x="12350" y="12112"/>
                  <a:pt x="12336" y="12024"/>
                  <a:pt x="12353" y="11981"/>
                </a:cubicBezTo>
                <a:cubicBezTo>
                  <a:pt x="12370" y="11937"/>
                  <a:pt x="12417" y="11891"/>
                  <a:pt x="12452" y="11857"/>
                </a:cubicBezTo>
                <a:cubicBezTo>
                  <a:pt x="12498" y="11811"/>
                  <a:pt x="12578" y="11822"/>
                  <a:pt x="12626" y="11857"/>
                </a:cubicBezTo>
                <a:cubicBezTo>
                  <a:pt x="12683" y="11898"/>
                  <a:pt x="12716" y="12018"/>
                  <a:pt x="12725" y="12080"/>
                </a:cubicBezTo>
                <a:cubicBezTo>
                  <a:pt x="12736" y="12155"/>
                  <a:pt x="12724" y="12184"/>
                  <a:pt x="12750" y="12254"/>
                </a:cubicBezTo>
              </a:path>
              <a:path w="1117" h="2581">
                <a:moveTo>
                  <a:pt x="12750" y="10071"/>
                </a:moveTo>
                <a:cubicBezTo>
                  <a:pt x="12742" y="10063"/>
                  <a:pt x="12733" y="10054"/>
                  <a:pt x="12725" y="10046"/>
                </a:cubicBezTo>
                <a:cubicBezTo>
                  <a:pt x="12749" y="10016"/>
                  <a:pt x="12782" y="9934"/>
                  <a:pt x="12824" y="9922"/>
                </a:cubicBezTo>
                <a:cubicBezTo>
                  <a:pt x="12883" y="9905"/>
                  <a:pt x="12958" y="9959"/>
                  <a:pt x="12998" y="9996"/>
                </a:cubicBezTo>
                <a:cubicBezTo>
                  <a:pt x="13047" y="10041"/>
                  <a:pt x="13047" y="10084"/>
                  <a:pt x="13047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Ink 9"/>
          <p:cNvSpPr/>
          <p:nvPr/>
        </p:nvSpPr>
        <p:spPr>
          <a:xfrm>
            <a:off x="6885000" y="3446640"/>
            <a:ext cx="1241280" cy="1661760"/>
          </a:xfrm>
          <a:custGeom>
            <a:avLst/>
            <a:gdLst/>
            <a:ahLst/>
            <a:rect l="l" t="t" r="r" b="b"/>
            <a:pathLst>
              <a:path w="3449" h="4614">
                <a:moveTo>
                  <a:pt x="19397" y="10195"/>
                </a:moveTo>
                <a:cubicBezTo>
                  <a:pt x="19443" y="10223"/>
                  <a:pt x="19511" y="10233"/>
                  <a:pt x="19571" y="10220"/>
                </a:cubicBezTo>
                <a:cubicBezTo>
                  <a:pt x="19661" y="10200"/>
                  <a:pt x="19786" y="10225"/>
                  <a:pt x="19869" y="10195"/>
                </a:cubicBezTo>
                <a:cubicBezTo>
                  <a:pt x="19877" y="10187"/>
                  <a:pt x="19885" y="10178"/>
                  <a:pt x="19893" y="10170"/>
                </a:cubicBezTo>
              </a:path>
              <a:path w="3449" h="4614">
                <a:moveTo>
                  <a:pt x="20290" y="9674"/>
                </a:moveTo>
                <a:cubicBezTo>
                  <a:pt x="20310" y="9814"/>
                  <a:pt x="20295" y="9872"/>
                  <a:pt x="20290" y="9996"/>
                </a:cubicBezTo>
                <a:cubicBezTo>
                  <a:pt x="20283" y="10161"/>
                  <a:pt x="20285" y="10345"/>
                  <a:pt x="20315" y="10492"/>
                </a:cubicBezTo>
                <a:cubicBezTo>
                  <a:pt x="20315" y="10534"/>
                  <a:pt x="20315" y="10542"/>
                  <a:pt x="20315" y="10567"/>
                </a:cubicBezTo>
              </a:path>
              <a:path w="3449" h="4614">
                <a:moveTo>
                  <a:pt x="19844" y="10740"/>
                </a:moveTo>
                <a:cubicBezTo>
                  <a:pt x="19925" y="10720"/>
                  <a:pt x="20015" y="10738"/>
                  <a:pt x="20092" y="10716"/>
                </a:cubicBezTo>
                <a:cubicBezTo>
                  <a:pt x="20162" y="10696"/>
                  <a:pt x="20217" y="10702"/>
                  <a:pt x="20290" y="10691"/>
                </a:cubicBezTo>
                <a:cubicBezTo>
                  <a:pt x="20377" y="10678"/>
                  <a:pt x="20430" y="10666"/>
                  <a:pt x="20513" y="10666"/>
                </a:cubicBezTo>
              </a:path>
              <a:path w="3449" h="4614">
                <a:moveTo>
                  <a:pt x="20117" y="11013"/>
                </a:moveTo>
                <a:cubicBezTo>
                  <a:pt x="20108" y="11075"/>
                  <a:pt x="20100" y="11080"/>
                  <a:pt x="20067" y="11137"/>
                </a:cubicBezTo>
                <a:cubicBezTo>
                  <a:pt x="20109" y="11086"/>
                  <a:pt x="20122" y="11008"/>
                  <a:pt x="20191" y="10988"/>
                </a:cubicBezTo>
                <a:cubicBezTo>
                  <a:pt x="20276" y="10963"/>
                  <a:pt x="20274" y="11042"/>
                  <a:pt x="20290" y="11088"/>
                </a:cubicBezTo>
                <a:cubicBezTo>
                  <a:pt x="20330" y="11199"/>
                  <a:pt x="20304" y="11270"/>
                  <a:pt x="20290" y="11385"/>
                </a:cubicBezTo>
                <a:cubicBezTo>
                  <a:pt x="20281" y="11460"/>
                  <a:pt x="20248" y="11514"/>
                  <a:pt x="20216" y="11584"/>
                </a:cubicBezTo>
                <a:cubicBezTo>
                  <a:pt x="20188" y="11645"/>
                  <a:pt x="20137" y="11708"/>
                  <a:pt x="20092" y="11757"/>
                </a:cubicBezTo>
                <a:cubicBezTo>
                  <a:pt x="20056" y="11797"/>
                  <a:pt x="20023" y="11828"/>
                  <a:pt x="19968" y="11832"/>
                </a:cubicBezTo>
                <a:cubicBezTo>
                  <a:pt x="19887" y="11837"/>
                  <a:pt x="19848" y="11808"/>
                  <a:pt x="19844" y="11733"/>
                </a:cubicBezTo>
                <a:cubicBezTo>
                  <a:pt x="19841" y="11678"/>
                  <a:pt x="19885" y="11628"/>
                  <a:pt x="19918" y="11584"/>
                </a:cubicBezTo>
                <a:cubicBezTo>
                  <a:pt x="19939" y="11556"/>
                  <a:pt x="20017" y="11504"/>
                  <a:pt x="20042" y="11509"/>
                </a:cubicBezTo>
                <a:cubicBezTo>
                  <a:pt x="20084" y="11517"/>
                  <a:pt x="20189" y="11592"/>
                  <a:pt x="20216" y="11633"/>
                </a:cubicBezTo>
                <a:cubicBezTo>
                  <a:pt x="20259" y="11699"/>
                  <a:pt x="20247" y="11771"/>
                  <a:pt x="20216" y="11832"/>
                </a:cubicBezTo>
              </a:path>
              <a:path w="3449" h="4614">
                <a:moveTo>
                  <a:pt x="20687" y="10244"/>
                </a:moveTo>
                <a:cubicBezTo>
                  <a:pt x="20687" y="10286"/>
                  <a:pt x="20687" y="10294"/>
                  <a:pt x="20687" y="10319"/>
                </a:cubicBezTo>
              </a:path>
              <a:path w="3449" h="4614">
                <a:moveTo>
                  <a:pt x="20786" y="11063"/>
                </a:moveTo>
                <a:cubicBezTo>
                  <a:pt x="20778" y="11071"/>
                  <a:pt x="20770" y="11080"/>
                  <a:pt x="20762" y="11088"/>
                </a:cubicBezTo>
              </a:path>
              <a:path w="3449" h="4614">
                <a:moveTo>
                  <a:pt x="20613" y="10641"/>
                </a:moveTo>
                <a:cubicBezTo>
                  <a:pt x="20707" y="10627"/>
                  <a:pt x="20810" y="10600"/>
                  <a:pt x="20910" y="10567"/>
                </a:cubicBezTo>
                <a:cubicBezTo>
                  <a:pt x="20965" y="10549"/>
                  <a:pt x="21012" y="10541"/>
                  <a:pt x="21059" y="10517"/>
                </a:cubicBezTo>
              </a:path>
              <a:path w="3449" h="4614">
                <a:moveTo>
                  <a:pt x="21555" y="10120"/>
                </a:moveTo>
                <a:cubicBezTo>
                  <a:pt x="21586" y="10229"/>
                  <a:pt x="21585" y="10311"/>
                  <a:pt x="21605" y="10418"/>
                </a:cubicBezTo>
                <a:cubicBezTo>
                  <a:pt x="21625" y="10478"/>
                  <a:pt x="21624" y="10492"/>
                  <a:pt x="21654" y="10517"/>
                </a:cubicBezTo>
                <a:cubicBezTo>
                  <a:pt x="21654" y="10275"/>
                  <a:pt x="21650" y="10036"/>
                  <a:pt x="21679" y="9798"/>
                </a:cubicBezTo>
                <a:cubicBezTo>
                  <a:pt x="21687" y="9736"/>
                  <a:pt x="21709" y="9699"/>
                  <a:pt x="21754" y="9649"/>
                </a:cubicBezTo>
                <a:cubicBezTo>
                  <a:pt x="21814" y="9583"/>
                  <a:pt x="21865" y="9599"/>
                  <a:pt x="21952" y="9599"/>
                </a:cubicBezTo>
                <a:cubicBezTo>
                  <a:pt x="22097" y="9599"/>
                  <a:pt x="22237" y="9592"/>
                  <a:pt x="22374" y="9575"/>
                </a:cubicBezTo>
                <a:cubicBezTo>
                  <a:pt x="22432" y="9575"/>
                  <a:pt x="22440" y="9575"/>
                  <a:pt x="22473" y="9575"/>
                </a:cubicBezTo>
              </a:path>
              <a:path w="3449" h="4614">
                <a:moveTo>
                  <a:pt x="22027" y="9823"/>
                </a:moveTo>
                <a:cubicBezTo>
                  <a:pt x="22057" y="9912"/>
                  <a:pt x="22094" y="9862"/>
                  <a:pt x="22175" y="9847"/>
                </a:cubicBezTo>
                <a:cubicBezTo>
                  <a:pt x="22234" y="9836"/>
                  <a:pt x="22331" y="9850"/>
                  <a:pt x="22374" y="9897"/>
                </a:cubicBezTo>
                <a:cubicBezTo>
                  <a:pt x="22442" y="9970"/>
                  <a:pt x="22344" y="10033"/>
                  <a:pt x="22299" y="10071"/>
                </a:cubicBezTo>
                <a:cubicBezTo>
                  <a:pt x="22254" y="10109"/>
                  <a:pt x="22227" y="10140"/>
                  <a:pt x="22175" y="10170"/>
                </a:cubicBezTo>
                <a:cubicBezTo>
                  <a:pt x="22239" y="10132"/>
                  <a:pt x="22313" y="10138"/>
                  <a:pt x="22374" y="10145"/>
                </a:cubicBezTo>
                <a:cubicBezTo>
                  <a:pt x="22469" y="10156"/>
                  <a:pt x="22542" y="10168"/>
                  <a:pt x="22572" y="10269"/>
                </a:cubicBezTo>
                <a:cubicBezTo>
                  <a:pt x="22594" y="10343"/>
                  <a:pt x="22492" y="10406"/>
                  <a:pt x="22448" y="10443"/>
                </a:cubicBezTo>
                <a:cubicBezTo>
                  <a:pt x="22393" y="10489"/>
                  <a:pt x="22388" y="10494"/>
                  <a:pt x="22324" y="10517"/>
                </a:cubicBezTo>
                <a:cubicBezTo>
                  <a:pt x="22276" y="10541"/>
                  <a:pt x="22262" y="10550"/>
                  <a:pt x="22225" y="10542"/>
                </a:cubicBezTo>
              </a:path>
              <a:path w="3449" h="4614">
                <a:moveTo>
                  <a:pt x="21605" y="10716"/>
                </a:moveTo>
                <a:cubicBezTo>
                  <a:pt x="21665" y="10749"/>
                  <a:pt x="21752" y="10786"/>
                  <a:pt x="21828" y="10765"/>
                </a:cubicBezTo>
                <a:cubicBezTo>
                  <a:pt x="21905" y="10743"/>
                  <a:pt x="21969" y="10740"/>
                  <a:pt x="22051" y="10740"/>
                </a:cubicBezTo>
                <a:cubicBezTo>
                  <a:pt x="22158" y="10740"/>
                  <a:pt x="22249" y="10744"/>
                  <a:pt x="22349" y="10765"/>
                </a:cubicBezTo>
                <a:cubicBezTo>
                  <a:pt x="22357" y="10765"/>
                  <a:pt x="22366" y="10765"/>
                  <a:pt x="22374" y="10765"/>
                </a:cubicBezTo>
              </a:path>
              <a:path w="3449" h="4614">
                <a:moveTo>
                  <a:pt x="21704" y="11212"/>
                </a:moveTo>
                <a:cubicBezTo>
                  <a:pt x="21746" y="11170"/>
                  <a:pt x="21793" y="11102"/>
                  <a:pt x="21853" y="11088"/>
                </a:cubicBezTo>
                <a:cubicBezTo>
                  <a:pt x="21911" y="11075"/>
                  <a:pt x="22001" y="11082"/>
                  <a:pt x="22051" y="11112"/>
                </a:cubicBezTo>
                <a:cubicBezTo>
                  <a:pt x="22111" y="11149"/>
                  <a:pt x="22123" y="11227"/>
                  <a:pt x="22126" y="11286"/>
                </a:cubicBezTo>
                <a:cubicBezTo>
                  <a:pt x="22129" y="11352"/>
                  <a:pt x="22121" y="11425"/>
                  <a:pt x="22101" y="11485"/>
                </a:cubicBezTo>
                <a:cubicBezTo>
                  <a:pt x="22079" y="11551"/>
                  <a:pt x="22056" y="11627"/>
                  <a:pt x="22027" y="11683"/>
                </a:cubicBezTo>
                <a:cubicBezTo>
                  <a:pt x="21989" y="11756"/>
                  <a:pt x="21976" y="11793"/>
                  <a:pt x="21903" y="11832"/>
                </a:cubicBezTo>
                <a:cubicBezTo>
                  <a:pt x="21855" y="11856"/>
                  <a:pt x="21840" y="11864"/>
                  <a:pt x="21803" y="11857"/>
                </a:cubicBezTo>
                <a:cubicBezTo>
                  <a:pt x="21808" y="11819"/>
                  <a:pt x="21838" y="11706"/>
                  <a:pt x="21878" y="11683"/>
                </a:cubicBezTo>
                <a:cubicBezTo>
                  <a:pt x="21924" y="11657"/>
                  <a:pt x="22014" y="11679"/>
                  <a:pt x="22051" y="11683"/>
                </a:cubicBezTo>
                <a:cubicBezTo>
                  <a:pt x="22130" y="11692"/>
                  <a:pt x="22179" y="11685"/>
                  <a:pt x="22250" y="11733"/>
                </a:cubicBezTo>
                <a:cubicBezTo>
                  <a:pt x="22294" y="11763"/>
                  <a:pt x="22412" y="11870"/>
                  <a:pt x="22374" y="11832"/>
                </a:cubicBezTo>
                <a:cubicBezTo>
                  <a:pt x="22344" y="11802"/>
                  <a:pt x="22333" y="11788"/>
                  <a:pt x="22324" y="11757"/>
                </a:cubicBezTo>
              </a:path>
              <a:path w="3449" h="4614">
                <a:moveTo>
                  <a:pt x="19124" y="12774"/>
                </a:moveTo>
                <a:cubicBezTo>
                  <a:pt x="19176" y="12793"/>
                  <a:pt x="19265" y="12821"/>
                  <a:pt x="19323" y="12799"/>
                </a:cubicBezTo>
                <a:cubicBezTo>
                  <a:pt x="19368" y="12781"/>
                  <a:pt x="19462" y="12751"/>
                  <a:pt x="19521" y="12774"/>
                </a:cubicBezTo>
                <a:cubicBezTo>
                  <a:pt x="19556" y="12787"/>
                  <a:pt x="19579" y="12816"/>
                  <a:pt x="19621" y="12824"/>
                </a:cubicBezTo>
              </a:path>
              <a:path w="3449" h="4614">
                <a:moveTo>
                  <a:pt x="19943" y="12278"/>
                </a:moveTo>
                <a:cubicBezTo>
                  <a:pt x="19991" y="12310"/>
                  <a:pt x="19947" y="12341"/>
                  <a:pt x="19943" y="12402"/>
                </a:cubicBezTo>
                <a:cubicBezTo>
                  <a:pt x="19939" y="12473"/>
                  <a:pt x="19920" y="12532"/>
                  <a:pt x="19918" y="12601"/>
                </a:cubicBezTo>
                <a:cubicBezTo>
                  <a:pt x="19916" y="12667"/>
                  <a:pt x="19918" y="12733"/>
                  <a:pt x="19918" y="12799"/>
                </a:cubicBezTo>
              </a:path>
              <a:path w="3449" h="4614">
                <a:moveTo>
                  <a:pt x="19621" y="13122"/>
                </a:moveTo>
                <a:cubicBezTo>
                  <a:pt x="19704" y="13091"/>
                  <a:pt x="19778" y="13097"/>
                  <a:pt x="19869" y="13097"/>
                </a:cubicBezTo>
                <a:cubicBezTo>
                  <a:pt x="19975" y="13097"/>
                  <a:pt x="20075" y="13094"/>
                  <a:pt x="20166" y="13122"/>
                </a:cubicBezTo>
                <a:cubicBezTo>
                  <a:pt x="20174" y="13122"/>
                  <a:pt x="20183" y="13122"/>
                  <a:pt x="20191" y="13122"/>
                </a:cubicBezTo>
              </a:path>
              <a:path w="3449" h="4614">
                <a:moveTo>
                  <a:pt x="19869" y="13271"/>
                </a:moveTo>
                <a:cubicBezTo>
                  <a:pt x="19823" y="13315"/>
                  <a:pt x="19823" y="13346"/>
                  <a:pt x="19794" y="13395"/>
                </a:cubicBezTo>
                <a:cubicBezTo>
                  <a:pt x="19794" y="13348"/>
                  <a:pt x="19780" y="13264"/>
                  <a:pt x="19844" y="13246"/>
                </a:cubicBezTo>
                <a:cubicBezTo>
                  <a:pt x="19907" y="13228"/>
                  <a:pt x="19954" y="13280"/>
                  <a:pt x="19993" y="13320"/>
                </a:cubicBezTo>
                <a:cubicBezTo>
                  <a:pt x="20028" y="13355"/>
                  <a:pt x="20032" y="13492"/>
                  <a:pt x="20017" y="13543"/>
                </a:cubicBezTo>
                <a:cubicBezTo>
                  <a:pt x="20002" y="13593"/>
                  <a:pt x="19956" y="13666"/>
                  <a:pt x="19943" y="13717"/>
                </a:cubicBezTo>
                <a:cubicBezTo>
                  <a:pt x="19924" y="13795"/>
                  <a:pt x="19916" y="13860"/>
                  <a:pt x="19844" y="13915"/>
                </a:cubicBezTo>
                <a:cubicBezTo>
                  <a:pt x="19788" y="13958"/>
                  <a:pt x="19775" y="14025"/>
                  <a:pt x="19720" y="14064"/>
                </a:cubicBezTo>
                <a:cubicBezTo>
                  <a:pt x="19687" y="14088"/>
                  <a:pt x="19568" y="14120"/>
                  <a:pt x="19546" y="14064"/>
                </a:cubicBezTo>
                <a:cubicBezTo>
                  <a:pt x="19518" y="13993"/>
                  <a:pt x="19566" y="13930"/>
                  <a:pt x="19621" y="13891"/>
                </a:cubicBezTo>
                <a:cubicBezTo>
                  <a:pt x="19682" y="13848"/>
                  <a:pt x="19739" y="13862"/>
                  <a:pt x="19794" y="13891"/>
                </a:cubicBezTo>
                <a:cubicBezTo>
                  <a:pt x="19881" y="13936"/>
                  <a:pt x="19883" y="13985"/>
                  <a:pt x="19893" y="14089"/>
                </a:cubicBezTo>
                <a:cubicBezTo>
                  <a:pt x="19893" y="14150"/>
                  <a:pt x="19884" y="14166"/>
                  <a:pt x="19918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Ink 10"/>
          <p:cNvSpPr/>
          <p:nvPr/>
        </p:nvSpPr>
        <p:spPr>
          <a:xfrm>
            <a:off x="6966000" y="4197240"/>
            <a:ext cx="1401840" cy="990720"/>
          </a:xfrm>
          <a:custGeom>
            <a:avLst/>
            <a:gdLst/>
            <a:ahLst/>
            <a:rect l="l" t="t" r="r" b="b"/>
            <a:pathLst>
              <a:path w="3895" h="2755">
                <a:moveTo>
                  <a:pt x="20489" y="12973"/>
                </a:moveTo>
                <a:cubicBezTo>
                  <a:pt x="20518" y="13122"/>
                  <a:pt x="20499" y="12894"/>
                  <a:pt x="20464" y="12998"/>
                </a:cubicBezTo>
                <a:cubicBezTo>
                  <a:pt x="20444" y="13058"/>
                  <a:pt x="20448" y="13065"/>
                  <a:pt x="20464" y="13122"/>
                </a:cubicBezTo>
                <a:cubicBezTo>
                  <a:pt x="20513" y="13072"/>
                  <a:pt x="20525" y="13059"/>
                  <a:pt x="20489" y="12998"/>
                </a:cubicBezTo>
                <a:cubicBezTo>
                  <a:pt x="20483" y="13014"/>
                  <a:pt x="20414" y="13143"/>
                  <a:pt x="20414" y="13146"/>
                </a:cubicBezTo>
                <a:cubicBezTo>
                  <a:pt x="20439" y="13171"/>
                  <a:pt x="20447" y="13179"/>
                  <a:pt x="20464" y="13196"/>
                </a:cubicBezTo>
                <a:cubicBezTo>
                  <a:pt x="20490" y="13170"/>
                  <a:pt x="20573" y="13067"/>
                  <a:pt x="20464" y="13097"/>
                </a:cubicBezTo>
                <a:cubicBezTo>
                  <a:pt x="20456" y="13105"/>
                  <a:pt x="20447" y="13114"/>
                  <a:pt x="20439" y="13122"/>
                </a:cubicBezTo>
              </a:path>
              <a:path w="3895" h="2755">
                <a:moveTo>
                  <a:pt x="21034" y="12254"/>
                </a:moveTo>
                <a:cubicBezTo>
                  <a:pt x="21040" y="12212"/>
                  <a:pt x="21068" y="12108"/>
                  <a:pt x="21109" y="12080"/>
                </a:cubicBezTo>
                <a:cubicBezTo>
                  <a:pt x="21178" y="12033"/>
                  <a:pt x="21262" y="12042"/>
                  <a:pt x="21282" y="12129"/>
                </a:cubicBezTo>
                <a:cubicBezTo>
                  <a:pt x="21298" y="12197"/>
                  <a:pt x="21307" y="12252"/>
                  <a:pt x="21307" y="12328"/>
                </a:cubicBezTo>
                <a:cubicBezTo>
                  <a:pt x="21307" y="12418"/>
                  <a:pt x="21306" y="12487"/>
                  <a:pt x="21282" y="12576"/>
                </a:cubicBezTo>
                <a:cubicBezTo>
                  <a:pt x="21261" y="12652"/>
                  <a:pt x="21262" y="12715"/>
                  <a:pt x="21208" y="12774"/>
                </a:cubicBezTo>
                <a:cubicBezTo>
                  <a:pt x="21171" y="12814"/>
                  <a:pt x="21121" y="12868"/>
                  <a:pt x="21059" y="12849"/>
                </a:cubicBezTo>
                <a:cubicBezTo>
                  <a:pt x="21029" y="12840"/>
                  <a:pt x="20935" y="12754"/>
                  <a:pt x="20935" y="12725"/>
                </a:cubicBezTo>
                <a:cubicBezTo>
                  <a:pt x="20935" y="12681"/>
                  <a:pt x="20980" y="12651"/>
                  <a:pt x="21010" y="12626"/>
                </a:cubicBezTo>
                <a:cubicBezTo>
                  <a:pt x="21070" y="12656"/>
                  <a:pt x="21133" y="12680"/>
                  <a:pt x="21183" y="12725"/>
                </a:cubicBezTo>
                <a:cubicBezTo>
                  <a:pt x="21237" y="12774"/>
                  <a:pt x="21288" y="12790"/>
                  <a:pt x="21357" y="12799"/>
                </a:cubicBezTo>
              </a:path>
              <a:path w="3895" h="2755">
                <a:moveTo>
                  <a:pt x="20786" y="12948"/>
                </a:moveTo>
                <a:cubicBezTo>
                  <a:pt x="20874" y="12948"/>
                  <a:pt x="20953" y="12957"/>
                  <a:pt x="21034" y="12923"/>
                </a:cubicBezTo>
                <a:cubicBezTo>
                  <a:pt x="21102" y="12894"/>
                  <a:pt x="21169" y="12922"/>
                  <a:pt x="21233" y="12898"/>
                </a:cubicBezTo>
                <a:cubicBezTo>
                  <a:pt x="21281" y="12880"/>
                  <a:pt x="21339" y="12898"/>
                  <a:pt x="21406" y="12898"/>
                </a:cubicBezTo>
              </a:path>
              <a:path w="3895" h="2755">
                <a:moveTo>
                  <a:pt x="20811" y="13618"/>
                </a:moveTo>
                <a:cubicBezTo>
                  <a:pt x="20852" y="13739"/>
                  <a:pt x="20861" y="13811"/>
                  <a:pt x="20861" y="13940"/>
                </a:cubicBezTo>
                <a:cubicBezTo>
                  <a:pt x="20861" y="14031"/>
                  <a:pt x="20861" y="14122"/>
                  <a:pt x="20861" y="14213"/>
                </a:cubicBezTo>
                <a:cubicBezTo>
                  <a:pt x="20849" y="14132"/>
                  <a:pt x="20820" y="14056"/>
                  <a:pt x="20811" y="13965"/>
                </a:cubicBezTo>
                <a:cubicBezTo>
                  <a:pt x="20801" y="13866"/>
                  <a:pt x="20824" y="13788"/>
                  <a:pt x="20836" y="13692"/>
                </a:cubicBezTo>
                <a:cubicBezTo>
                  <a:pt x="20847" y="13604"/>
                  <a:pt x="20863" y="13471"/>
                  <a:pt x="20910" y="13395"/>
                </a:cubicBezTo>
                <a:cubicBezTo>
                  <a:pt x="20938" y="13349"/>
                  <a:pt x="20995" y="13329"/>
                  <a:pt x="21034" y="13295"/>
                </a:cubicBezTo>
                <a:cubicBezTo>
                  <a:pt x="21112" y="13226"/>
                  <a:pt x="21171" y="13233"/>
                  <a:pt x="21258" y="13196"/>
                </a:cubicBezTo>
                <a:cubicBezTo>
                  <a:pt x="21339" y="13161"/>
                  <a:pt x="21361" y="13182"/>
                  <a:pt x="21431" y="13196"/>
                </a:cubicBezTo>
                <a:cubicBezTo>
                  <a:pt x="21473" y="13196"/>
                  <a:pt x="21489" y="13204"/>
                  <a:pt x="21481" y="13171"/>
                </a:cubicBezTo>
              </a:path>
              <a:path w="3895" h="2755">
                <a:moveTo>
                  <a:pt x="21109" y="13717"/>
                </a:moveTo>
                <a:cubicBezTo>
                  <a:pt x="21101" y="13742"/>
                  <a:pt x="21092" y="13766"/>
                  <a:pt x="21084" y="13791"/>
                </a:cubicBezTo>
                <a:cubicBezTo>
                  <a:pt x="21114" y="13739"/>
                  <a:pt x="21153" y="13693"/>
                  <a:pt x="21183" y="13643"/>
                </a:cubicBezTo>
                <a:cubicBezTo>
                  <a:pt x="21204" y="13608"/>
                  <a:pt x="21279" y="13516"/>
                  <a:pt x="21332" y="13519"/>
                </a:cubicBezTo>
                <a:cubicBezTo>
                  <a:pt x="21397" y="13523"/>
                  <a:pt x="21444" y="13611"/>
                  <a:pt x="21431" y="13667"/>
                </a:cubicBezTo>
                <a:cubicBezTo>
                  <a:pt x="21417" y="13728"/>
                  <a:pt x="21376" y="13809"/>
                  <a:pt x="21357" y="13866"/>
                </a:cubicBezTo>
                <a:cubicBezTo>
                  <a:pt x="21333" y="13937"/>
                  <a:pt x="21282" y="13966"/>
                  <a:pt x="21382" y="13891"/>
                </a:cubicBezTo>
                <a:cubicBezTo>
                  <a:pt x="21411" y="13861"/>
                  <a:pt x="21425" y="13849"/>
                  <a:pt x="21456" y="13841"/>
                </a:cubicBezTo>
                <a:cubicBezTo>
                  <a:pt x="21520" y="13905"/>
                  <a:pt x="21533" y="13893"/>
                  <a:pt x="21506" y="13990"/>
                </a:cubicBezTo>
                <a:cubicBezTo>
                  <a:pt x="21472" y="14111"/>
                  <a:pt x="21476" y="14119"/>
                  <a:pt x="21382" y="14213"/>
                </a:cubicBezTo>
                <a:cubicBezTo>
                  <a:pt x="21326" y="14269"/>
                  <a:pt x="21278" y="14323"/>
                  <a:pt x="21208" y="14362"/>
                </a:cubicBezTo>
                <a:cubicBezTo>
                  <a:pt x="21148" y="14395"/>
                  <a:pt x="21046" y="14449"/>
                  <a:pt x="20985" y="14387"/>
                </a:cubicBezTo>
                <a:cubicBezTo>
                  <a:pt x="20961" y="14339"/>
                  <a:pt x="20953" y="14325"/>
                  <a:pt x="20960" y="14288"/>
                </a:cubicBezTo>
              </a:path>
              <a:path w="3895" h="2755">
                <a:moveTo>
                  <a:pt x="19348" y="14114"/>
                </a:moveTo>
                <a:cubicBezTo>
                  <a:pt x="19348" y="14106"/>
                  <a:pt x="19348" y="14097"/>
                  <a:pt x="19348" y="14089"/>
                </a:cubicBezTo>
              </a:path>
              <a:path w="3895" h="2755">
                <a:moveTo>
                  <a:pt x="20042" y="13494"/>
                </a:moveTo>
                <a:cubicBezTo>
                  <a:pt x="20119" y="13424"/>
                  <a:pt x="20174" y="13391"/>
                  <a:pt x="20265" y="13345"/>
                </a:cubicBezTo>
              </a:path>
              <a:path w="3895" h="2755">
                <a:moveTo>
                  <a:pt x="20861" y="12675"/>
                </a:moveTo>
                <a:cubicBezTo>
                  <a:pt x="20793" y="12698"/>
                  <a:pt x="20851" y="12607"/>
                  <a:pt x="20886" y="12576"/>
                </a:cubicBezTo>
                <a:cubicBezTo>
                  <a:pt x="20961" y="12511"/>
                  <a:pt x="21039" y="12443"/>
                  <a:pt x="21109" y="12378"/>
                </a:cubicBezTo>
                <a:cubicBezTo>
                  <a:pt x="21217" y="12279"/>
                  <a:pt x="21302" y="12159"/>
                  <a:pt x="21406" y="12055"/>
                </a:cubicBezTo>
                <a:cubicBezTo>
                  <a:pt x="21459" y="12002"/>
                  <a:pt x="21490" y="11950"/>
                  <a:pt x="21555" y="11906"/>
                </a:cubicBezTo>
                <a:cubicBezTo>
                  <a:pt x="21596" y="11886"/>
                  <a:pt x="21602" y="11877"/>
                  <a:pt x="21630" y="11881"/>
                </a:cubicBezTo>
              </a:path>
              <a:path w="3895" h="2755">
                <a:moveTo>
                  <a:pt x="19571" y="14039"/>
                </a:moveTo>
                <a:cubicBezTo>
                  <a:pt x="19585" y="13944"/>
                  <a:pt x="19641" y="13950"/>
                  <a:pt x="19720" y="13891"/>
                </a:cubicBezTo>
                <a:cubicBezTo>
                  <a:pt x="19790" y="13839"/>
                  <a:pt x="19859" y="13755"/>
                  <a:pt x="19918" y="13692"/>
                </a:cubicBezTo>
                <a:cubicBezTo>
                  <a:pt x="19968" y="13638"/>
                  <a:pt x="20039" y="13616"/>
                  <a:pt x="20092" y="13568"/>
                </a:cubicBezTo>
                <a:cubicBezTo>
                  <a:pt x="20135" y="13529"/>
                  <a:pt x="20189" y="13533"/>
                  <a:pt x="20241" y="13494"/>
                </a:cubicBezTo>
                <a:cubicBezTo>
                  <a:pt x="20265" y="13469"/>
                  <a:pt x="20273" y="13460"/>
                  <a:pt x="20290" y="13444"/>
                </a:cubicBezTo>
              </a:path>
              <a:path w="3895" h="2755">
                <a:moveTo>
                  <a:pt x="21903" y="12750"/>
                </a:moveTo>
                <a:cubicBezTo>
                  <a:pt x="21880" y="12727"/>
                  <a:pt x="21876" y="12719"/>
                  <a:pt x="21853" y="12725"/>
                </a:cubicBezTo>
              </a:path>
              <a:path w="3895" h="2755">
                <a:moveTo>
                  <a:pt x="21903" y="12750"/>
                </a:moveTo>
                <a:lnTo>
                  <a:pt x="21903" y="12750"/>
                </a:lnTo>
              </a:path>
              <a:path w="3895" h="2755">
                <a:moveTo>
                  <a:pt x="21878" y="12750"/>
                </a:moveTo>
                <a:cubicBezTo>
                  <a:pt x="21971" y="12750"/>
                  <a:pt x="22040" y="12758"/>
                  <a:pt x="22126" y="12774"/>
                </a:cubicBezTo>
              </a:path>
              <a:path w="3895" h="2755">
                <a:moveTo>
                  <a:pt x="21828" y="12948"/>
                </a:moveTo>
                <a:cubicBezTo>
                  <a:pt x="21883" y="12976"/>
                  <a:pt x="21982" y="12988"/>
                  <a:pt x="22051" y="12998"/>
                </a:cubicBezTo>
                <a:cubicBezTo>
                  <a:pt x="22104" y="13006"/>
                  <a:pt x="22147" y="13016"/>
                  <a:pt x="22200" y="13022"/>
                </a:cubicBezTo>
              </a:path>
              <a:path w="3895" h="2755">
                <a:moveTo>
                  <a:pt x="22498" y="12477"/>
                </a:moveTo>
                <a:cubicBezTo>
                  <a:pt x="22576" y="12487"/>
                  <a:pt x="22638" y="12502"/>
                  <a:pt x="22721" y="12502"/>
                </a:cubicBezTo>
              </a:path>
              <a:path w="3895" h="2755">
                <a:moveTo>
                  <a:pt x="23242" y="11658"/>
                </a:moveTo>
                <a:cubicBezTo>
                  <a:pt x="23218" y="11744"/>
                  <a:pt x="23211" y="11822"/>
                  <a:pt x="23192" y="11906"/>
                </a:cubicBezTo>
                <a:cubicBezTo>
                  <a:pt x="23172" y="11995"/>
                  <a:pt x="23168" y="12061"/>
                  <a:pt x="23168" y="12154"/>
                </a:cubicBezTo>
                <a:cubicBezTo>
                  <a:pt x="23168" y="12264"/>
                  <a:pt x="23155" y="12375"/>
                  <a:pt x="23192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Ink 11"/>
          <p:cNvSpPr/>
          <p:nvPr/>
        </p:nvSpPr>
        <p:spPr>
          <a:xfrm>
            <a:off x="7277040" y="4000680"/>
            <a:ext cx="1644840" cy="2428560"/>
          </a:xfrm>
          <a:custGeom>
            <a:avLst/>
            <a:gdLst/>
            <a:ahLst/>
            <a:rect l="l" t="t" r="r" b="b"/>
            <a:pathLst>
              <a:path w="4565" h="6748">
                <a:moveTo>
                  <a:pt x="22771" y="12700"/>
                </a:moveTo>
                <a:cubicBezTo>
                  <a:pt x="22860" y="12666"/>
                  <a:pt x="22946" y="12675"/>
                  <a:pt x="23044" y="12675"/>
                </a:cubicBezTo>
                <a:cubicBezTo>
                  <a:pt x="23115" y="12675"/>
                  <a:pt x="23153" y="12654"/>
                  <a:pt x="23217" y="12650"/>
                </a:cubicBezTo>
                <a:cubicBezTo>
                  <a:pt x="23274" y="12647"/>
                  <a:pt x="23319" y="12630"/>
                  <a:pt x="23366" y="12601"/>
                </a:cubicBezTo>
              </a:path>
              <a:path w="4565" h="6748">
                <a:moveTo>
                  <a:pt x="22622" y="13196"/>
                </a:moveTo>
                <a:cubicBezTo>
                  <a:pt x="22622" y="13406"/>
                  <a:pt x="22621" y="13612"/>
                  <a:pt x="22597" y="13816"/>
                </a:cubicBezTo>
                <a:cubicBezTo>
                  <a:pt x="22597" y="13884"/>
                  <a:pt x="22600" y="13903"/>
                  <a:pt x="22572" y="13940"/>
                </a:cubicBezTo>
                <a:cubicBezTo>
                  <a:pt x="22537" y="13881"/>
                  <a:pt x="22532" y="13791"/>
                  <a:pt x="22547" y="13717"/>
                </a:cubicBezTo>
                <a:cubicBezTo>
                  <a:pt x="22563" y="13636"/>
                  <a:pt x="22587" y="13548"/>
                  <a:pt x="22597" y="13469"/>
                </a:cubicBezTo>
                <a:cubicBezTo>
                  <a:pt x="22608" y="13382"/>
                  <a:pt x="22612" y="13301"/>
                  <a:pt x="22647" y="13221"/>
                </a:cubicBezTo>
                <a:cubicBezTo>
                  <a:pt x="22678" y="13149"/>
                  <a:pt x="22745" y="13079"/>
                  <a:pt x="22796" y="13022"/>
                </a:cubicBezTo>
                <a:cubicBezTo>
                  <a:pt x="22849" y="12963"/>
                  <a:pt x="22947" y="12934"/>
                  <a:pt x="23019" y="12898"/>
                </a:cubicBezTo>
                <a:cubicBezTo>
                  <a:pt x="23077" y="12869"/>
                  <a:pt x="23178" y="12834"/>
                  <a:pt x="23242" y="12824"/>
                </a:cubicBezTo>
                <a:cubicBezTo>
                  <a:pt x="23306" y="12814"/>
                  <a:pt x="23407" y="12856"/>
                  <a:pt x="23366" y="12774"/>
                </a:cubicBezTo>
              </a:path>
              <a:path w="4565" h="6748">
                <a:moveTo>
                  <a:pt x="22845" y="13295"/>
                </a:moveTo>
                <a:cubicBezTo>
                  <a:pt x="22888" y="13261"/>
                  <a:pt x="22930" y="13236"/>
                  <a:pt x="22969" y="13196"/>
                </a:cubicBezTo>
                <a:cubicBezTo>
                  <a:pt x="23007" y="13158"/>
                  <a:pt x="23085" y="13105"/>
                  <a:pt x="23143" y="13122"/>
                </a:cubicBezTo>
                <a:cubicBezTo>
                  <a:pt x="23151" y="13130"/>
                  <a:pt x="23160" y="13138"/>
                  <a:pt x="23168" y="13146"/>
                </a:cubicBezTo>
                <a:cubicBezTo>
                  <a:pt x="23156" y="13239"/>
                  <a:pt x="23133" y="13285"/>
                  <a:pt x="23068" y="13345"/>
                </a:cubicBezTo>
                <a:cubicBezTo>
                  <a:pt x="23043" y="13369"/>
                  <a:pt x="23019" y="13395"/>
                  <a:pt x="22994" y="13419"/>
                </a:cubicBezTo>
                <a:cubicBezTo>
                  <a:pt x="23030" y="13356"/>
                  <a:pt x="23081" y="13295"/>
                  <a:pt x="23168" y="13320"/>
                </a:cubicBezTo>
                <a:cubicBezTo>
                  <a:pt x="23255" y="13345"/>
                  <a:pt x="23256" y="13440"/>
                  <a:pt x="23242" y="13519"/>
                </a:cubicBezTo>
                <a:cubicBezTo>
                  <a:pt x="23221" y="13640"/>
                  <a:pt x="23182" y="13789"/>
                  <a:pt x="23118" y="13891"/>
                </a:cubicBezTo>
                <a:cubicBezTo>
                  <a:pt x="23068" y="13970"/>
                  <a:pt x="23004" y="14080"/>
                  <a:pt x="22920" y="14114"/>
                </a:cubicBezTo>
              </a:path>
              <a:path w="4565" h="6748">
                <a:moveTo>
                  <a:pt x="23664" y="13345"/>
                </a:moveTo>
                <a:cubicBezTo>
                  <a:pt x="23679" y="13431"/>
                  <a:pt x="23684" y="13492"/>
                  <a:pt x="23713" y="13568"/>
                </a:cubicBezTo>
              </a:path>
              <a:path w="4565" h="6748">
                <a:moveTo>
                  <a:pt x="23713" y="13667"/>
                </a:moveTo>
                <a:cubicBezTo>
                  <a:pt x="23680" y="13570"/>
                  <a:pt x="23688" y="13475"/>
                  <a:pt x="23688" y="13370"/>
                </a:cubicBezTo>
                <a:cubicBezTo>
                  <a:pt x="23688" y="13288"/>
                  <a:pt x="23703" y="13221"/>
                  <a:pt x="23713" y="13146"/>
                </a:cubicBezTo>
                <a:cubicBezTo>
                  <a:pt x="23725" y="13054"/>
                  <a:pt x="23713" y="12938"/>
                  <a:pt x="23738" y="12849"/>
                </a:cubicBezTo>
                <a:cubicBezTo>
                  <a:pt x="23758" y="12778"/>
                  <a:pt x="23838" y="12716"/>
                  <a:pt x="23887" y="12675"/>
                </a:cubicBezTo>
                <a:cubicBezTo>
                  <a:pt x="23943" y="12628"/>
                  <a:pt x="23955" y="12592"/>
                  <a:pt x="24036" y="12576"/>
                </a:cubicBezTo>
                <a:cubicBezTo>
                  <a:pt x="24101" y="12563"/>
                  <a:pt x="24195" y="12532"/>
                  <a:pt x="24259" y="12502"/>
                </a:cubicBezTo>
                <a:cubicBezTo>
                  <a:pt x="24281" y="12492"/>
                  <a:pt x="24315" y="12463"/>
                  <a:pt x="24333" y="12452"/>
                </a:cubicBezTo>
              </a:path>
              <a:path w="4565" h="6748">
                <a:moveTo>
                  <a:pt x="23961" y="13022"/>
                </a:moveTo>
                <a:cubicBezTo>
                  <a:pt x="24048" y="12994"/>
                  <a:pt x="24101" y="12953"/>
                  <a:pt x="24185" y="12923"/>
                </a:cubicBezTo>
                <a:cubicBezTo>
                  <a:pt x="24237" y="12904"/>
                  <a:pt x="24287" y="12886"/>
                  <a:pt x="24333" y="12923"/>
                </a:cubicBezTo>
                <a:cubicBezTo>
                  <a:pt x="24384" y="12964"/>
                  <a:pt x="24349" y="13069"/>
                  <a:pt x="24333" y="13122"/>
                </a:cubicBezTo>
                <a:cubicBezTo>
                  <a:pt x="24313" y="13186"/>
                  <a:pt x="24248" y="13224"/>
                  <a:pt x="24209" y="13271"/>
                </a:cubicBezTo>
                <a:cubicBezTo>
                  <a:pt x="24201" y="13279"/>
                  <a:pt x="24193" y="13287"/>
                  <a:pt x="24185" y="13295"/>
                </a:cubicBezTo>
                <a:cubicBezTo>
                  <a:pt x="24259" y="13254"/>
                  <a:pt x="24303" y="13213"/>
                  <a:pt x="24358" y="13221"/>
                </a:cubicBezTo>
                <a:cubicBezTo>
                  <a:pt x="24434" y="13232"/>
                  <a:pt x="24447" y="13264"/>
                  <a:pt x="24457" y="13345"/>
                </a:cubicBezTo>
                <a:cubicBezTo>
                  <a:pt x="24469" y="13443"/>
                  <a:pt x="24414" y="13529"/>
                  <a:pt x="24383" y="13618"/>
                </a:cubicBezTo>
                <a:cubicBezTo>
                  <a:pt x="24352" y="13707"/>
                  <a:pt x="24317" y="13834"/>
                  <a:pt x="24234" y="13891"/>
                </a:cubicBezTo>
                <a:cubicBezTo>
                  <a:pt x="24209" y="13899"/>
                  <a:pt x="24185" y="13907"/>
                  <a:pt x="24160" y="13915"/>
                </a:cubicBezTo>
              </a:path>
              <a:path w="4565" h="6748">
                <a:moveTo>
                  <a:pt x="23912" y="12080"/>
                </a:moveTo>
                <a:cubicBezTo>
                  <a:pt x="23912" y="12153"/>
                  <a:pt x="23934" y="12208"/>
                  <a:pt x="23937" y="12278"/>
                </a:cubicBezTo>
                <a:cubicBezTo>
                  <a:pt x="23941" y="12359"/>
                  <a:pt x="23976" y="12410"/>
                  <a:pt x="23937" y="12477"/>
                </a:cubicBezTo>
                <a:cubicBezTo>
                  <a:pt x="23929" y="12375"/>
                  <a:pt x="23912" y="12282"/>
                  <a:pt x="23912" y="12179"/>
                </a:cubicBezTo>
                <a:cubicBezTo>
                  <a:pt x="23912" y="11996"/>
                  <a:pt x="23840" y="11618"/>
                  <a:pt x="23937" y="11460"/>
                </a:cubicBezTo>
                <a:cubicBezTo>
                  <a:pt x="23959" y="11424"/>
                  <a:pt x="24095" y="11296"/>
                  <a:pt x="24135" y="11286"/>
                </a:cubicBezTo>
                <a:cubicBezTo>
                  <a:pt x="24205" y="11268"/>
                  <a:pt x="24291" y="11224"/>
                  <a:pt x="24358" y="11212"/>
                </a:cubicBezTo>
                <a:cubicBezTo>
                  <a:pt x="24441" y="11197"/>
                  <a:pt x="24501" y="11155"/>
                  <a:pt x="24581" y="11137"/>
                </a:cubicBezTo>
                <a:cubicBezTo>
                  <a:pt x="24649" y="11122"/>
                  <a:pt x="24703" y="11112"/>
                  <a:pt x="24780" y="11112"/>
                </a:cubicBezTo>
              </a:path>
              <a:path w="4565" h="6748">
                <a:moveTo>
                  <a:pt x="24185" y="11559"/>
                </a:moveTo>
                <a:cubicBezTo>
                  <a:pt x="24235" y="11585"/>
                  <a:pt x="24239" y="11553"/>
                  <a:pt x="24284" y="11509"/>
                </a:cubicBezTo>
                <a:cubicBezTo>
                  <a:pt x="24325" y="11469"/>
                  <a:pt x="24392" y="11473"/>
                  <a:pt x="24433" y="11509"/>
                </a:cubicBezTo>
                <a:cubicBezTo>
                  <a:pt x="24488" y="11557"/>
                  <a:pt x="24478" y="11601"/>
                  <a:pt x="24433" y="11658"/>
                </a:cubicBezTo>
                <a:cubicBezTo>
                  <a:pt x="24400" y="11700"/>
                  <a:pt x="24367" y="11740"/>
                  <a:pt x="24333" y="11782"/>
                </a:cubicBezTo>
                <a:cubicBezTo>
                  <a:pt x="24423" y="11771"/>
                  <a:pt x="24487" y="11733"/>
                  <a:pt x="24581" y="11733"/>
                </a:cubicBezTo>
                <a:cubicBezTo>
                  <a:pt x="24652" y="11733"/>
                  <a:pt x="24732" y="11767"/>
                  <a:pt x="24705" y="11857"/>
                </a:cubicBezTo>
                <a:cubicBezTo>
                  <a:pt x="24678" y="11947"/>
                  <a:pt x="24642" y="12011"/>
                  <a:pt x="24581" y="12080"/>
                </a:cubicBezTo>
                <a:cubicBezTo>
                  <a:pt x="24520" y="12150"/>
                  <a:pt x="24492" y="12187"/>
                  <a:pt x="24408" y="12229"/>
                </a:cubicBezTo>
                <a:cubicBezTo>
                  <a:pt x="24357" y="12255"/>
                  <a:pt x="24308" y="12339"/>
                  <a:pt x="24259" y="12353"/>
                </a:cubicBezTo>
                <a:cubicBezTo>
                  <a:pt x="24205" y="12369"/>
                  <a:pt x="24197" y="12372"/>
                  <a:pt x="24160" y="12353"/>
                </a:cubicBezTo>
              </a:path>
              <a:path w="4565" h="6748">
                <a:moveTo>
                  <a:pt x="21134" y="15429"/>
                </a:moveTo>
                <a:cubicBezTo>
                  <a:pt x="21188" y="15461"/>
                  <a:pt x="21240" y="15453"/>
                  <a:pt x="21307" y="15453"/>
                </a:cubicBezTo>
                <a:cubicBezTo>
                  <a:pt x="21385" y="15453"/>
                  <a:pt x="21455" y="15418"/>
                  <a:pt x="21530" y="15429"/>
                </a:cubicBezTo>
                <a:cubicBezTo>
                  <a:pt x="21596" y="15450"/>
                  <a:pt x="21611" y="15458"/>
                  <a:pt x="21654" y="15453"/>
                </a:cubicBezTo>
              </a:path>
              <a:path w="4565" h="6748">
                <a:moveTo>
                  <a:pt x="21952" y="15056"/>
                </a:moveTo>
                <a:cubicBezTo>
                  <a:pt x="21986" y="15156"/>
                  <a:pt x="21958" y="15251"/>
                  <a:pt x="21977" y="15354"/>
                </a:cubicBezTo>
                <a:cubicBezTo>
                  <a:pt x="21994" y="15449"/>
                  <a:pt x="22002" y="15529"/>
                  <a:pt x="22002" y="15627"/>
                </a:cubicBezTo>
                <a:cubicBezTo>
                  <a:pt x="22002" y="15703"/>
                  <a:pt x="22001" y="15733"/>
                  <a:pt x="22027" y="15801"/>
                </a:cubicBezTo>
                <a:cubicBezTo>
                  <a:pt x="21996" y="15732"/>
                  <a:pt x="21961" y="15641"/>
                  <a:pt x="21952" y="15577"/>
                </a:cubicBezTo>
                <a:cubicBezTo>
                  <a:pt x="21940" y="15494"/>
                  <a:pt x="21927" y="15414"/>
                  <a:pt x="21927" y="15329"/>
                </a:cubicBezTo>
                <a:cubicBezTo>
                  <a:pt x="21927" y="15249"/>
                  <a:pt x="21920" y="15195"/>
                  <a:pt x="21927" y="15131"/>
                </a:cubicBezTo>
                <a:cubicBezTo>
                  <a:pt x="21934" y="15069"/>
                  <a:pt x="21957" y="15031"/>
                  <a:pt x="22002" y="14982"/>
                </a:cubicBezTo>
                <a:cubicBezTo>
                  <a:pt x="22062" y="14917"/>
                  <a:pt x="22104" y="14908"/>
                  <a:pt x="22175" y="14883"/>
                </a:cubicBezTo>
                <a:cubicBezTo>
                  <a:pt x="22294" y="14841"/>
                  <a:pt x="22407" y="14773"/>
                  <a:pt x="22523" y="14734"/>
                </a:cubicBezTo>
                <a:cubicBezTo>
                  <a:pt x="22594" y="14710"/>
                  <a:pt x="22645" y="14709"/>
                  <a:pt x="22721" y="14709"/>
                </a:cubicBezTo>
                <a:cubicBezTo>
                  <a:pt x="22738" y="14709"/>
                  <a:pt x="22754" y="14709"/>
                  <a:pt x="22771" y="14709"/>
                </a:cubicBezTo>
              </a:path>
              <a:path w="4565" h="6748">
                <a:moveTo>
                  <a:pt x="22349" y="14883"/>
                </a:moveTo>
                <a:cubicBezTo>
                  <a:pt x="22303" y="14920"/>
                  <a:pt x="22284" y="14934"/>
                  <a:pt x="22250" y="14982"/>
                </a:cubicBezTo>
                <a:cubicBezTo>
                  <a:pt x="22291" y="14940"/>
                  <a:pt x="22321" y="14911"/>
                  <a:pt x="22374" y="14883"/>
                </a:cubicBezTo>
                <a:cubicBezTo>
                  <a:pt x="22442" y="14847"/>
                  <a:pt x="22530" y="14841"/>
                  <a:pt x="22597" y="14883"/>
                </a:cubicBezTo>
                <a:cubicBezTo>
                  <a:pt x="22671" y="14929"/>
                  <a:pt x="22643" y="14995"/>
                  <a:pt x="22622" y="15056"/>
                </a:cubicBezTo>
                <a:cubicBezTo>
                  <a:pt x="22596" y="15131"/>
                  <a:pt x="22577" y="15175"/>
                  <a:pt x="22523" y="15230"/>
                </a:cubicBezTo>
                <a:cubicBezTo>
                  <a:pt x="22495" y="15258"/>
                  <a:pt x="22481" y="15267"/>
                  <a:pt x="22448" y="15255"/>
                </a:cubicBezTo>
                <a:cubicBezTo>
                  <a:pt x="22487" y="15186"/>
                  <a:pt x="22533" y="15148"/>
                  <a:pt x="22622" y="15180"/>
                </a:cubicBezTo>
                <a:cubicBezTo>
                  <a:pt x="22690" y="15204"/>
                  <a:pt x="22731" y="15299"/>
                  <a:pt x="22746" y="15354"/>
                </a:cubicBezTo>
                <a:cubicBezTo>
                  <a:pt x="22774" y="15457"/>
                  <a:pt x="22782" y="15532"/>
                  <a:pt x="22721" y="15627"/>
                </a:cubicBezTo>
                <a:cubicBezTo>
                  <a:pt x="22670" y="15706"/>
                  <a:pt x="22644" y="15764"/>
                  <a:pt x="22572" y="15825"/>
                </a:cubicBezTo>
                <a:cubicBezTo>
                  <a:pt x="22540" y="15852"/>
                  <a:pt x="22536" y="15865"/>
                  <a:pt x="22498" y="15875"/>
                </a:cubicBezTo>
              </a:path>
              <a:path w="4565" h="6748">
                <a:moveTo>
                  <a:pt x="21034" y="16272"/>
                </a:moveTo>
                <a:cubicBezTo>
                  <a:pt x="21107" y="16375"/>
                  <a:pt x="21109" y="16371"/>
                  <a:pt x="21233" y="16371"/>
                </a:cubicBezTo>
                <a:cubicBezTo>
                  <a:pt x="21315" y="16371"/>
                  <a:pt x="21377" y="16357"/>
                  <a:pt x="21456" y="16346"/>
                </a:cubicBezTo>
                <a:cubicBezTo>
                  <a:pt x="21590" y="16327"/>
                  <a:pt x="21718" y="16267"/>
                  <a:pt x="21853" y="16247"/>
                </a:cubicBezTo>
                <a:cubicBezTo>
                  <a:pt x="21976" y="16229"/>
                  <a:pt x="22101" y="16201"/>
                  <a:pt x="22225" y="16197"/>
                </a:cubicBezTo>
                <a:cubicBezTo>
                  <a:pt x="22385" y="16192"/>
                  <a:pt x="22544" y="16198"/>
                  <a:pt x="22696" y="16222"/>
                </a:cubicBezTo>
                <a:cubicBezTo>
                  <a:pt x="22794" y="16238"/>
                  <a:pt x="22847" y="16233"/>
                  <a:pt x="22870" y="16346"/>
                </a:cubicBezTo>
                <a:cubicBezTo>
                  <a:pt x="22870" y="16396"/>
                  <a:pt x="22870" y="16413"/>
                  <a:pt x="22820" y="16396"/>
                </a:cubicBezTo>
              </a:path>
              <a:path w="4565" h="6748">
                <a:moveTo>
                  <a:pt x="21853" y="16669"/>
                </a:moveTo>
                <a:cubicBezTo>
                  <a:pt x="21928" y="16688"/>
                  <a:pt x="21877" y="16616"/>
                  <a:pt x="21952" y="16594"/>
                </a:cubicBezTo>
                <a:cubicBezTo>
                  <a:pt x="21985" y="16584"/>
                  <a:pt x="22108" y="16518"/>
                  <a:pt x="22126" y="16520"/>
                </a:cubicBezTo>
                <a:cubicBezTo>
                  <a:pt x="22158" y="16523"/>
                  <a:pt x="22227" y="16558"/>
                  <a:pt x="22250" y="16594"/>
                </a:cubicBezTo>
                <a:cubicBezTo>
                  <a:pt x="22286" y="16649"/>
                  <a:pt x="22291" y="16777"/>
                  <a:pt x="22275" y="16842"/>
                </a:cubicBezTo>
                <a:cubicBezTo>
                  <a:pt x="22262" y="16896"/>
                  <a:pt x="22250" y="16958"/>
                  <a:pt x="22200" y="16991"/>
                </a:cubicBezTo>
                <a:cubicBezTo>
                  <a:pt x="22184" y="16999"/>
                  <a:pt x="22167" y="17008"/>
                  <a:pt x="22151" y="17016"/>
                </a:cubicBezTo>
                <a:cubicBezTo>
                  <a:pt x="22131" y="16937"/>
                  <a:pt x="22141" y="16926"/>
                  <a:pt x="22200" y="16867"/>
                </a:cubicBezTo>
                <a:cubicBezTo>
                  <a:pt x="22252" y="16814"/>
                  <a:pt x="22302" y="16850"/>
                  <a:pt x="22349" y="16892"/>
                </a:cubicBezTo>
                <a:cubicBezTo>
                  <a:pt x="22412" y="16949"/>
                  <a:pt x="22453" y="16944"/>
                  <a:pt x="22473" y="17041"/>
                </a:cubicBezTo>
                <a:cubicBezTo>
                  <a:pt x="22492" y="17133"/>
                  <a:pt x="22482" y="17282"/>
                  <a:pt x="22448" y="17363"/>
                </a:cubicBezTo>
                <a:cubicBezTo>
                  <a:pt x="22408" y="17458"/>
                  <a:pt x="22308" y="17515"/>
                  <a:pt x="22250" y="17587"/>
                </a:cubicBezTo>
                <a:cubicBezTo>
                  <a:pt x="22203" y="17645"/>
                  <a:pt x="22129" y="17739"/>
                  <a:pt x="22051" y="17760"/>
                </a:cubicBezTo>
                <a:cubicBezTo>
                  <a:pt x="22022" y="17768"/>
                  <a:pt x="21902" y="17793"/>
                  <a:pt x="21878" y="17785"/>
                </a:cubicBezTo>
                <a:cubicBezTo>
                  <a:pt x="21844" y="17774"/>
                  <a:pt x="21811" y="17754"/>
                  <a:pt x="21779" y="17735"/>
                </a:cubicBezTo>
                <a:cubicBezTo>
                  <a:pt x="21787" y="17665"/>
                  <a:pt x="21808" y="17608"/>
                  <a:pt x="21828" y="17537"/>
                </a:cubicBezTo>
              </a:path>
              <a:path w="4565" h="6748">
                <a:moveTo>
                  <a:pt x="23168" y="14536"/>
                </a:moveTo>
                <a:cubicBezTo>
                  <a:pt x="23038" y="14470"/>
                  <a:pt x="22995" y="14466"/>
                  <a:pt x="22870" y="14436"/>
                </a:cubicBezTo>
                <a:cubicBezTo>
                  <a:pt x="22775" y="14414"/>
                  <a:pt x="22689" y="14386"/>
                  <a:pt x="22597" y="14362"/>
                </a:cubicBezTo>
                <a:cubicBezTo>
                  <a:pt x="22506" y="14338"/>
                  <a:pt x="22420" y="14319"/>
                  <a:pt x="22324" y="14312"/>
                </a:cubicBezTo>
                <a:cubicBezTo>
                  <a:pt x="22212" y="14303"/>
                  <a:pt x="22109" y="14319"/>
                  <a:pt x="22002" y="14337"/>
                </a:cubicBezTo>
                <a:cubicBezTo>
                  <a:pt x="21791" y="14373"/>
                  <a:pt x="21602" y="14471"/>
                  <a:pt x="21431" y="14585"/>
                </a:cubicBezTo>
                <a:cubicBezTo>
                  <a:pt x="21290" y="14679"/>
                  <a:pt x="21129" y="14786"/>
                  <a:pt x="21010" y="14908"/>
                </a:cubicBezTo>
                <a:cubicBezTo>
                  <a:pt x="20868" y="15054"/>
                  <a:pt x="20786" y="15224"/>
                  <a:pt x="20662" y="15379"/>
                </a:cubicBezTo>
                <a:cubicBezTo>
                  <a:pt x="20531" y="15542"/>
                  <a:pt x="20415" y="15723"/>
                  <a:pt x="20340" y="15925"/>
                </a:cubicBezTo>
                <a:cubicBezTo>
                  <a:pt x="20263" y="16132"/>
                  <a:pt x="20221" y="16497"/>
                  <a:pt x="20216" y="16694"/>
                </a:cubicBezTo>
                <a:cubicBezTo>
                  <a:pt x="20213" y="16819"/>
                  <a:pt x="20274" y="17018"/>
                  <a:pt x="20315" y="17140"/>
                </a:cubicBezTo>
                <a:cubicBezTo>
                  <a:pt x="20356" y="17260"/>
                  <a:pt x="20428" y="17347"/>
                  <a:pt x="20513" y="17438"/>
                </a:cubicBezTo>
                <a:cubicBezTo>
                  <a:pt x="20613" y="17545"/>
                  <a:pt x="20726" y="17669"/>
                  <a:pt x="20861" y="17735"/>
                </a:cubicBezTo>
                <a:cubicBezTo>
                  <a:pt x="20963" y="17785"/>
                  <a:pt x="21076" y="17787"/>
                  <a:pt x="21183" y="17810"/>
                </a:cubicBezTo>
                <a:cubicBezTo>
                  <a:pt x="21299" y="17835"/>
                  <a:pt x="21412" y="17849"/>
                  <a:pt x="21530" y="17859"/>
                </a:cubicBezTo>
                <a:cubicBezTo>
                  <a:pt x="21689" y="17872"/>
                  <a:pt x="21872" y="17847"/>
                  <a:pt x="22027" y="17810"/>
                </a:cubicBezTo>
                <a:cubicBezTo>
                  <a:pt x="22197" y="17769"/>
                  <a:pt x="22331" y="17712"/>
                  <a:pt x="22473" y="17611"/>
                </a:cubicBezTo>
                <a:cubicBezTo>
                  <a:pt x="22575" y="17539"/>
                  <a:pt x="22753" y="17432"/>
                  <a:pt x="22820" y="17338"/>
                </a:cubicBezTo>
                <a:cubicBezTo>
                  <a:pt x="22930" y="17183"/>
                  <a:pt x="23016" y="16966"/>
                  <a:pt x="23093" y="16793"/>
                </a:cubicBezTo>
                <a:cubicBezTo>
                  <a:pt x="23163" y="16637"/>
                  <a:pt x="23227" y="16469"/>
                  <a:pt x="23242" y="16297"/>
                </a:cubicBezTo>
                <a:cubicBezTo>
                  <a:pt x="23257" y="16132"/>
                  <a:pt x="23281" y="15965"/>
                  <a:pt x="23292" y="15801"/>
                </a:cubicBezTo>
                <a:cubicBezTo>
                  <a:pt x="23303" y="15642"/>
                  <a:pt x="23272" y="15508"/>
                  <a:pt x="23242" y="15354"/>
                </a:cubicBezTo>
                <a:cubicBezTo>
                  <a:pt x="23213" y="15208"/>
                  <a:pt x="23212" y="15100"/>
                  <a:pt x="23118" y="14982"/>
                </a:cubicBezTo>
                <a:cubicBezTo>
                  <a:pt x="23065" y="14915"/>
                  <a:pt x="22994" y="14849"/>
                  <a:pt x="22920" y="14808"/>
                </a:cubicBezTo>
                <a:cubicBezTo>
                  <a:pt x="22817" y="14750"/>
                  <a:pt x="22757" y="14779"/>
                  <a:pt x="22647" y="147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Ink 12"/>
          <p:cNvSpPr/>
          <p:nvPr/>
        </p:nvSpPr>
        <p:spPr>
          <a:xfrm>
            <a:off x="1714680" y="901800"/>
            <a:ext cx="304560" cy="428400"/>
          </a:xfrm>
          <a:custGeom>
            <a:avLst/>
            <a:gdLst/>
            <a:ahLst/>
            <a:rect l="l" t="t" r="r" b="b"/>
            <a:pathLst>
              <a:path w="845" h="1192">
                <a:moveTo>
                  <a:pt x="5283" y="2530"/>
                </a:moveTo>
                <a:cubicBezTo>
                  <a:pt x="5367" y="2530"/>
                  <a:pt x="5370" y="2562"/>
                  <a:pt x="5432" y="2580"/>
                </a:cubicBezTo>
                <a:cubicBezTo>
                  <a:pt x="5486" y="2595"/>
                  <a:pt x="5500" y="2562"/>
                  <a:pt x="5531" y="2530"/>
                </a:cubicBezTo>
                <a:cubicBezTo>
                  <a:pt x="5492" y="2517"/>
                  <a:pt x="5358" y="2514"/>
                  <a:pt x="5358" y="2604"/>
                </a:cubicBezTo>
                <a:cubicBezTo>
                  <a:pt x="5358" y="2692"/>
                  <a:pt x="5418" y="2763"/>
                  <a:pt x="5507" y="2753"/>
                </a:cubicBezTo>
                <a:cubicBezTo>
                  <a:pt x="5578" y="2745"/>
                  <a:pt x="5599" y="2655"/>
                  <a:pt x="5606" y="2604"/>
                </a:cubicBezTo>
                <a:cubicBezTo>
                  <a:pt x="5539" y="2539"/>
                  <a:pt x="5540" y="2566"/>
                  <a:pt x="5457" y="2580"/>
                </a:cubicBezTo>
                <a:cubicBezTo>
                  <a:pt x="5390" y="2591"/>
                  <a:pt x="5344" y="2596"/>
                  <a:pt x="5358" y="2654"/>
                </a:cubicBezTo>
                <a:cubicBezTo>
                  <a:pt x="5407" y="2541"/>
                  <a:pt x="5356" y="2606"/>
                  <a:pt x="5383" y="2679"/>
                </a:cubicBezTo>
                <a:cubicBezTo>
                  <a:pt x="5413" y="2761"/>
                  <a:pt x="5396" y="2794"/>
                  <a:pt x="5383" y="2877"/>
                </a:cubicBezTo>
                <a:cubicBezTo>
                  <a:pt x="5366" y="2982"/>
                  <a:pt x="5397" y="3073"/>
                  <a:pt x="5358" y="3175"/>
                </a:cubicBezTo>
                <a:cubicBezTo>
                  <a:pt x="5328" y="3254"/>
                  <a:pt x="5273" y="3324"/>
                  <a:pt x="5234" y="3398"/>
                </a:cubicBezTo>
                <a:cubicBezTo>
                  <a:pt x="5204" y="3456"/>
                  <a:pt x="5181" y="3501"/>
                  <a:pt x="5135" y="3547"/>
                </a:cubicBezTo>
                <a:cubicBezTo>
                  <a:pt x="5086" y="3597"/>
                  <a:pt x="5051" y="3597"/>
                  <a:pt x="4986" y="3621"/>
                </a:cubicBezTo>
                <a:cubicBezTo>
                  <a:pt x="5004" y="3591"/>
                  <a:pt x="5047" y="3496"/>
                  <a:pt x="4986" y="3473"/>
                </a:cubicBezTo>
                <a:cubicBezTo>
                  <a:pt x="4901" y="3441"/>
                  <a:pt x="4856" y="3537"/>
                  <a:pt x="4812" y="3572"/>
                </a:cubicBezTo>
                <a:cubicBezTo>
                  <a:pt x="4764" y="3596"/>
                  <a:pt x="4747" y="3602"/>
                  <a:pt x="4762" y="3646"/>
                </a:cubicBezTo>
                <a:cubicBezTo>
                  <a:pt x="4823" y="3694"/>
                  <a:pt x="4863" y="3716"/>
                  <a:pt x="4936" y="3671"/>
                </a:cubicBezTo>
                <a:cubicBezTo>
                  <a:pt x="5010" y="3625"/>
                  <a:pt x="5001" y="3566"/>
                  <a:pt x="4986" y="3497"/>
                </a:cubicBezTo>
                <a:cubicBezTo>
                  <a:pt x="4936" y="3497"/>
                  <a:pt x="4812" y="3478"/>
                  <a:pt x="4787" y="3547"/>
                </a:cubicBezTo>
                <a:cubicBezTo>
                  <a:pt x="4761" y="3621"/>
                  <a:pt x="4818" y="3615"/>
                  <a:pt x="4862" y="36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the sin, cos, tan of t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172200" y="1676520"/>
          <a:ext cx="73980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676520"/>
                    <a:ext cx="7398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Ink 5"/>
          <p:cNvSpPr/>
          <p:nvPr/>
        </p:nvSpPr>
        <p:spPr>
          <a:xfrm>
            <a:off x="677880" y="250920"/>
            <a:ext cx="1206360" cy="1312920"/>
          </a:xfrm>
          <a:custGeom>
            <a:avLst/>
            <a:gdLst/>
            <a:ahLst/>
            <a:rect l="l" t="t" r="r" b="b"/>
            <a:pathLst>
              <a:path w="3350" h="3647">
                <a:moveTo>
                  <a:pt x="3845" y="943"/>
                </a:moveTo>
                <a:cubicBezTo>
                  <a:pt x="3646" y="872"/>
                  <a:pt x="3533" y="827"/>
                  <a:pt x="3324" y="868"/>
                </a:cubicBezTo>
                <a:cubicBezTo>
                  <a:pt x="3120" y="908"/>
                  <a:pt x="2965" y="1075"/>
                  <a:pt x="2803" y="1191"/>
                </a:cubicBezTo>
                <a:cubicBezTo>
                  <a:pt x="2606" y="1332"/>
                  <a:pt x="2463" y="1528"/>
                  <a:pt x="2332" y="1736"/>
                </a:cubicBezTo>
                <a:cubicBezTo>
                  <a:pt x="2188" y="1965"/>
                  <a:pt x="2081" y="2221"/>
                  <a:pt x="2009" y="2480"/>
                </a:cubicBezTo>
                <a:cubicBezTo>
                  <a:pt x="1929" y="2768"/>
                  <a:pt x="1871" y="3077"/>
                  <a:pt x="1935" y="3373"/>
                </a:cubicBezTo>
                <a:cubicBezTo>
                  <a:pt x="1976" y="3563"/>
                  <a:pt x="2068" y="3829"/>
                  <a:pt x="2208" y="3969"/>
                </a:cubicBezTo>
                <a:cubicBezTo>
                  <a:pt x="2343" y="4104"/>
                  <a:pt x="2576" y="4203"/>
                  <a:pt x="2753" y="4266"/>
                </a:cubicBezTo>
                <a:cubicBezTo>
                  <a:pt x="3247" y="4442"/>
                  <a:pt x="3895" y="4316"/>
                  <a:pt x="4316" y="4018"/>
                </a:cubicBezTo>
                <a:cubicBezTo>
                  <a:pt x="4493" y="3893"/>
                  <a:pt x="4709" y="3665"/>
                  <a:pt x="4812" y="3473"/>
                </a:cubicBezTo>
                <a:cubicBezTo>
                  <a:pt x="4944" y="3226"/>
                  <a:pt x="5036" y="2956"/>
                  <a:pt x="5085" y="2679"/>
                </a:cubicBezTo>
                <a:cubicBezTo>
                  <a:pt x="5131" y="2419"/>
                  <a:pt x="5171" y="2198"/>
                  <a:pt x="5135" y="1935"/>
                </a:cubicBezTo>
                <a:cubicBezTo>
                  <a:pt x="5098" y="1662"/>
                  <a:pt x="5000" y="1464"/>
                  <a:pt x="4887" y="1215"/>
                </a:cubicBezTo>
                <a:cubicBezTo>
                  <a:pt x="4870" y="1174"/>
                  <a:pt x="4854" y="1132"/>
                  <a:pt x="4837" y="1091"/>
                </a:cubicBezTo>
              </a:path>
              <a:path w="3350" h="3647">
                <a:moveTo>
                  <a:pt x="3820" y="695"/>
                </a:moveTo>
                <a:cubicBezTo>
                  <a:pt x="3678" y="776"/>
                  <a:pt x="3641" y="778"/>
                  <a:pt x="3597" y="868"/>
                </a:cubicBezTo>
              </a:path>
              <a:path w="3350" h="3647">
                <a:moveTo>
                  <a:pt x="5234" y="2232"/>
                </a:moveTo>
                <a:cubicBezTo>
                  <a:pt x="5219" y="2281"/>
                  <a:pt x="5210" y="2255"/>
                  <a:pt x="5209" y="2307"/>
                </a:cubicBezTo>
                <a:cubicBezTo>
                  <a:pt x="5202" y="2559"/>
                  <a:pt x="5243" y="2833"/>
                  <a:pt x="5184" y="3076"/>
                </a:cubicBezTo>
                <a:cubicBezTo>
                  <a:pt x="5145" y="3237"/>
                  <a:pt x="5035" y="3370"/>
                  <a:pt x="4936" y="3497"/>
                </a:cubicBezTo>
                <a:cubicBezTo>
                  <a:pt x="4815" y="3652"/>
                  <a:pt x="4676" y="3805"/>
                  <a:pt x="4514" y="3919"/>
                </a:cubicBezTo>
                <a:cubicBezTo>
                  <a:pt x="4354" y="4032"/>
                  <a:pt x="4183" y="4121"/>
                  <a:pt x="3994" y="4167"/>
                </a:cubicBezTo>
                <a:cubicBezTo>
                  <a:pt x="3814" y="4210"/>
                  <a:pt x="3633" y="4229"/>
                  <a:pt x="3448" y="4217"/>
                </a:cubicBezTo>
                <a:cubicBezTo>
                  <a:pt x="3247" y="4204"/>
                  <a:pt x="2965" y="4196"/>
                  <a:pt x="2778" y="4093"/>
                </a:cubicBezTo>
                <a:cubicBezTo>
                  <a:pt x="2623" y="4007"/>
                  <a:pt x="2507" y="3921"/>
                  <a:pt x="2381" y="3795"/>
                </a:cubicBezTo>
                <a:cubicBezTo>
                  <a:pt x="2255" y="3669"/>
                  <a:pt x="2147" y="3554"/>
                  <a:pt x="2059" y="3398"/>
                </a:cubicBezTo>
                <a:cubicBezTo>
                  <a:pt x="1992" y="3280"/>
                  <a:pt x="1909" y="3084"/>
                  <a:pt x="1885" y="2952"/>
                </a:cubicBezTo>
                <a:cubicBezTo>
                  <a:pt x="1845" y="2728"/>
                  <a:pt x="1919" y="2465"/>
                  <a:pt x="1984" y="2257"/>
                </a:cubicBezTo>
                <a:cubicBezTo>
                  <a:pt x="2042" y="2071"/>
                  <a:pt x="2180" y="1858"/>
                  <a:pt x="2307" y="1712"/>
                </a:cubicBezTo>
                <a:cubicBezTo>
                  <a:pt x="2505" y="1484"/>
                  <a:pt x="2763" y="1338"/>
                  <a:pt x="3001" y="1166"/>
                </a:cubicBezTo>
                <a:cubicBezTo>
                  <a:pt x="3208" y="1016"/>
                  <a:pt x="3417" y="950"/>
                  <a:pt x="3671" y="893"/>
                </a:cubicBezTo>
                <a:cubicBezTo>
                  <a:pt x="3862" y="850"/>
                  <a:pt x="4070" y="823"/>
                  <a:pt x="4266" y="843"/>
                </a:cubicBezTo>
                <a:cubicBezTo>
                  <a:pt x="4422" y="859"/>
                  <a:pt x="4544" y="881"/>
                  <a:pt x="4688" y="943"/>
                </a:cubicBezTo>
                <a:cubicBezTo>
                  <a:pt x="4710" y="952"/>
                  <a:pt x="4914" y="1028"/>
                  <a:pt x="4936" y="1091"/>
                </a:cubicBezTo>
                <a:cubicBezTo>
                  <a:pt x="5023" y="1338"/>
                  <a:pt x="4888" y="1151"/>
                  <a:pt x="5011" y="1240"/>
                </a:cubicBezTo>
                <a:cubicBezTo>
                  <a:pt x="4961" y="1185"/>
                  <a:pt x="4947" y="1086"/>
                  <a:pt x="4862" y="1067"/>
                </a:cubicBezTo>
                <a:cubicBezTo>
                  <a:pt x="4749" y="1041"/>
                  <a:pt x="4716" y="1114"/>
                  <a:pt x="4638" y="1166"/>
                </a:cubicBezTo>
                <a:cubicBezTo>
                  <a:pt x="4738" y="1232"/>
                  <a:pt x="4726" y="1269"/>
                  <a:pt x="4887" y="1265"/>
                </a:cubicBezTo>
                <a:cubicBezTo>
                  <a:pt x="5018" y="1262"/>
                  <a:pt x="4981" y="1202"/>
                  <a:pt x="5035" y="1166"/>
                </a:cubicBezTo>
                <a:cubicBezTo>
                  <a:pt x="4910" y="1060"/>
                  <a:pt x="4976" y="1076"/>
                  <a:pt x="4787" y="1141"/>
                </a:cubicBezTo>
                <a:cubicBezTo>
                  <a:pt x="4686" y="1176"/>
                  <a:pt x="4657" y="1231"/>
                  <a:pt x="4589" y="12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Ink 6"/>
          <p:cNvSpPr/>
          <p:nvPr/>
        </p:nvSpPr>
        <p:spPr>
          <a:xfrm>
            <a:off x="1231920" y="2125800"/>
            <a:ext cx="1349280" cy="768240"/>
          </a:xfrm>
          <a:custGeom>
            <a:avLst/>
            <a:gdLst/>
            <a:ahLst/>
            <a:rect l="l" t="t" r="r" b="b"/>
            <a:pathLst>
              <a:path w="3747" h="2134">
                <a:moveTo>
                  <a:pt x="3770" y="6028"/>
                </a:moveTo>
                <a:cubicBezTo>
                  <a:pt x="3683" y="6126"/>
                  <a:pt x="3635" y="6236"/>
                  <a:pt x="3572" y="6350"/>
                </a:cubicBezTo>
                <a:cubicBezTo>
                  <a:pt x="3489" y="6498"/>
                  <a:pt x="3469" y="6608"/>
                  <a:pt x="3448" y="6772"/>
                </a:cubicBezTo>
                <a:cubicBezTo>
                  <a:pt x="3428" y="6929"/>
                  <a:pt x="3422" y="7063"/>
                  <a:pt x="3448" y="7218"/>
                </a:cubicBezTo>
                <a:cubicBezTo>
                  <a:pt x="3470" y="7350"/>
                  <a:pt x="3564" y="7463"/>
                  <a:pt x="3646" y="7565"/>
                </a:cubicBezTo>
                <a:cubicBezTo>
                  <a:pt x="3706" y="7640"/>
                  <a:pt x="3691" y="7605"/>
                  <a:pt x="3795" y="7565"/>
                </a:cubicBezTo>
              </a:path>
              <a:path w="3747" h="2134">
                <a:moveTo>
                  <a:pt x="4142" y="6424"/>
                </a:moveTo>
                <a:cubicBezTo>
                  <a:pt x="4137" y="6520"/>
                  <a:pt x="4126" y="6581"/>
                  <a:pt x="4118" y="6672"/>
                </a:cubicBezTo>
                <a:cubicBezTo>
                  <a:pt x="4118" y="6809"/>
                  <a:pt x="4118" y="6553"/>
                  <a:pt x="4118" y="6524"/>
                </a:cubicBezTo>
                <a:cubicBezTo>
                  <a:pt x="4118" y="6423"/>
                  <a:pt x="4060" y="6293"/>
                  <a:pt x="4068" y="6201"/>
                </a:cubicBezTo>
                <a:cubicBezTo>
                  <a:pt x="4077" y="6104"/>
                  <a:pt x="4140" y="6066"/>
                  <a:pt x="4217" y="6028"/>
                </a:cubicBezTo>
                <a:cubicBezTo>
                  <a:pt x="4299" y="5987"/>
                  <a:pt x="4421" y="5981"/>
                  <a:pt x="4514" y="5978"/>
                </a:cubicBezTo>
                <a:cubicBezTo>
                  <a:pt x="4589" y="5978"/>
                  <a:pt x="4613" y="5978"/>
                  <a:pt x="4663" y="5978"/>
                </a:cubicBezTo>
              </a:path>
              <a:path w="3747" h="2134">
                <a:moveTo>
                  <a:pt x="4415" y="6226"/>
                </a:moveTo>
                <a:cubicBezTo>
                  <a:pt x="4507" y="6203"/>
                  <a:pt x="4599" y="6177"/>
                  <a:pt x="4688" y="6226"/>
                </a:cubicBezTo>
                <a:cubicBezTo>
                  <a:pt x="4846" y="6313"/>
                  <a:pt x="4695" y="6418"/>
                  <a:pt x="4614" y="6499"/>
                </a:cubicBezTo>
                <a:cubicBezTo>
                  <a:pt x="4539" y="6573"/>
                  <a:pt x="4452" y="6616"/>
                  <a:pt x="4390" y="6697"/>
                </a:cubicBezTo>
                <a:cubicBezTo>
                  <a:pt x="4440" y="6747"/>
                  <a:pt x="4490" y="6761"/>
                  <a:pt x="4564" y="6772"/>
                </a:cubicBezTo>
                <a:cubicBezTo>
                  <a:pt x="4670" y="6787"/>
                  <a:pt x="4786" y="6776"/>
                  <a:pt x="4887" y="6747"/>
                </a:cubicBezTo>
                <a:cubicBezTo>
                  <a:pt x="4912" y="6739"/>
                  <a:pt x="4936" y="6730"/>
                  <a:pt x="4961" y="6722"/>
                </a:cubicBezTo>
              </a:path>
              <a:path w="3747" h="2134">
                <a:moveTo>
                  <a:pt x="4167" y="6871"/>
                </a:moveTo>
                <a:cubicBezTo>
                  <a:pt x="4325" y="6849"/>
                  <a:pt x="4481" y="6865"/>
                  <a:pt x="4638" y="6846"/>
                </a:cubicBezTo>
                <a:cubicBezTo>
                  <a:pt x="4743" y="6833"/>
                  <a:pt x="4830" y="6821"/>
                  <a:pt x="4936" y="6821"/>
                </a:cubicBezTo>
              </a:path>
              <a:path w="3747" h="2134">
                <a:moveTo>
                  <a:pt x="4316" y="7144"/>
                </a:moveTo>
                <a:cubicBezTo>
                  <a:pt x="4416" y="7107"/>
                  <a:pt x="4481" y="7094"/>
                  <a:pt x="4589" y="7094"/>
                </a:cubicBezTo>
                <a:cubicBezTo>
                  <a:pt x="4678" y="7094"/>
                  <a:pt x="4682" y="7088"/>
                  <a:pt x="4738" y="7144"/>
                </a:cubicBezTo>
                <a:cubicBezTo>
                  <a:pt x="4691" y="7217"/>
                  <a:pt x="4632" y="7286"/>
                  <a:pt x="4564" y="7342"/>
                </a:cubicBezTo>
                <a:cubicBezTo>
                  <a:pt x="4474" y="7416"/>
                  <a:pt x="4342" y="7478"/>
                  <a:pt x="4266" y="7565"/>
                </a:cubicBezTo>
                <a:cubicBezTo>
                  <a:pt x="4258" y="7582"/>
                  <a:pt x="4250" y="7598"/>
                  <a:pt x="4242" y="7615"/>
                </a:cubicBezTo>
                <a:cubicBezTo>
                  <a:pt x="4259" y="7674"/>
                  <a:pt x="4323" y="7729"/>
                  <a:pt x="4390" y="7764"/>
                </a:cubicBezTo>
                <a:cubicBezTo>
                  <a:pt x="4518" y="7831"/>
                  <a:pt x="4671" y="7786"/>
                  <a:pt x="4787" y="7739"/>
                </a:cubicBezTo>
              </a:path>
              <a:path w="3747" h="2134">
                <a:moveTo>
                  <a:pt x="5283" y="6772"/>
                </a:moveTo>
                <a:cubicBezTo>
                  <a:pt x="5303" y="6886"/>
                  <a:pt x="5264" y="6969"/>
                  <a:pt x="5283" y="7069"/>
                </a:cubicBezTo>
                <a:cubicBezTo>
                  <a:pt x="5303" y="7110"/>
                  <a:pt x="5301" y="7126"/>
                  <a:pt x="5333" y="7119"/>
                </a:cubicBezTo>
              </a:path>
              <a:path w="3747" h="2134">
                <a:moveTo>
                  <a:pt x="5705" y="6375"/>
                </a:moveTo>
                <a:cubicBezTo>
                  <a:pt x="5705" y="6490"/>
                  <a:pt x="5684" y="6582"/>
                  <a:pt x="5680" y="6697"/>
                </a:cubicBezTo>
                <a:cubicBezTo>
                  <a:pt x="5680" y="6742"/>
                  <a:pt x="5677" y="6755"/>
                  <a:pt x="5705" y="6772"/>
                </a:cubicBezTo>
                <a:cubicBezTo>
                  <a:pt x="5696" y="6685"/>
                  <a:pt x="5682" y="6604"/>
                  <a:pt x="5655" y="6524"/>
                </a:cubicBezTo>
                <a:cubicBezTo>
                  <a:pt x="5614" y="6404"/>
                  <a:pt x="5606" y="6329"/>
                  <a:pt x="5606" y="6201"/>
                </a:cubicBezTo>
                <a:cubicBezTo>
                  <a:pt x="5606" y="6145"/>
                  <a:pt x="5700" y="6059"/>
                  <a:pt x="5755" y="6028"/>
                </a:cubicBezTo>
                <a:cubicBezTo>
                  <a:pt x="5866" y="5965"/>
                  <a:pt x="6028" y="6003"/>
                  <a:pt x="6152" y="6003"/>
                </a:cubicBezTo>
                <a:cubicBezTo>
                  <a:pt x="6177" y="6003"/>
                  <a:pt x="6201" y="6003"/>
                  <a:pt x="6226" y="6003"/>
                </a:cubicBezTo>
              </a:path>
              <a:path w="3747" h="2134">
                <a:moveTo>
                  <a:pt x="5953" y="6400"/>
                </a:moveTo>
                <a:cubicBezTo>
                  <a:pt x="6014" y="6377"/>
                  <a:pt x="6088" y="6339"/>
                  <a:pt x="6152" y="6325"/>
                </a:cubicBezTo>
                <a:cubicBezTo>
                  <a:pt x="6218" y="6310"/>
                  <a:pt x="6239" y="6310"/>
                  <a:pt x="6300" y="6325"/>
                </a:cubicBezTo>
                <a:cubicBezTo>
                  <a:pt x="6325" y="6376"/>
                  <a:pt x="6301" y="6421"/>
                  <a:pt x="6251" y="6474"/>
                </a:cubicBezTo>
                <a:cubicBezTo>
                  <a:pt x="6171" y="6559"/>
                  <a:pt x="6108" y="6641"/>
                  <a:pt x="6028" y="6722"/>
                </a:cubicBezTo>
                <a:cubicBezTo>
                  <a:pt x="6020" y="6730"/>
                  <a:pt x="6011" y="6739"/>
                  <a:pt x="6003" y="6747"/>
                </a:cubicBezTo>
                <a:cubicBezTo>
                  <a:pt x="6080" y="6798"/>
                  <a:pt x="6134" y="6796"/>
                  <a:pt x="6226" y="6796"/>
                </a:cubicBezTo>
                <a:cubicBezTo>
                  <a:pt x="6340" y="6796"/>
                  <a:pt x="6420" y="6752"/>
                  <a:pt x="6524" y="6722"/>
                </a:cubicBezTo>
                <a:cubicBezTo>
                  <a:pt x="6532" y="6722"/>
                  <a:pt x="6540" y="6722"/>
                  <a:pt x="6548" y="6722"/>
                </a:cubicBezTo>
              </a:path>
              <a:path w="3747" h="2134">
                <a:moveTo>
                  <a:pt x="5829" y="6945"/>
                </a:moveTo>
                <a:cubicBezTo>
                  <a:pt x="5938" y="6945"/>
                  <a:pt x="6045" y="6936"/>
                  <a:pt x="6152" y="6921"/>
                </a:cubicBezTo>
                <a:cubicBezTo>
                  <a:pt x="6280" y="6904"/>
                  <a:pt x="6407" y="6845"/>
                  <a:pt x="6524" y="6871"/>
                </a:cubicBezTo>
              </a:path>
              <a:path w="3747" h="2134">
                <a:moveTo>
                  <a:pt x="5953" y="7317"/>
                </a:moveTo>
                <a:cubicBezTo>
                  <a:pt x="6038" y="7275"/>
                  <a:pt x="6192" y="7167"/>
                  <a:pt x="6300" y="7193"/>
                </a:cubicBezTo>
                <a:cubicBezTo>
                  <a:pt x="6374" y="7211"/>
                  <a:pt x="6339" y="7283"/>
                  <a:pt x="6325" y="7317"/>
                </a:cubicBezTo>
                <a:cubicBezTo>
                  <a:pt x="6267" y="7462"/>
                  <a:pt x="6230" y="7457"/>
                  <a:pt x="6127" y="7565"/>
                </a:cubicBezTo>
                <a:cubicBezTo>
                  <a:pt x="6076" y="7618"/>
                  <a:pt x="6059" y="7645"/>
                  <a:pt x="6003" y="7689"/>
                </a:cubicBezTo>
                <a:cubicBezTo>
                  <a:pt x="6064" y="7797"/>
                  <a:pt x="6111" y="7842"/>
                  <a:pt x="6226" y="7888"/>
                </a:cubicBezTo>
                <a:cubicBezTo>
                  <a:pt x="6337" y="7933"/>
                  <a:pt x="6458" y="7963"/>
                  <a:pt x="6573" y="7913"/>
                </a:cubicBezTo>
                <a:cubicBezTo>
                  <a:pt x="6598" y="7896"/>
                  <a:pt x="6623" y="7880"/>
                  <a:pt x="6648" y="7863"/>
                </a:cubicBezTo>
              </a:path>
              <a:path w="3747" h="2134">
                <a:moveTo>
                  <a:pt x="6548" y="5904"/>
                </a:moveTo>
                <a:cubicBezTo>
                  <a:pt x="6718" y="6037"/>
                  <a:pt x="6863" y="6140"/>
                  <a:pt x="6945" y="6350"/>
                </a:cubicBezTo>
                <a:cubicBezTo>
                  <a:pt x="7110" y="6770"/>
                  <a:pt x="7244" y="6980"/>
                  <a:pt x="7119" y="7367"/>
                </a:cubicBezTo>
                <a:cubicBezTo>
                  <a:pt x="7053" y="7572"/>
                  <a:pt x="6993" y="7726"/>
                  <a:pt x="6821" y="7863"/>
                </a:cubicBezTo>
                <a:cubicBezTo>
                  <a:pt x="6703" y="7934"/>
                  <a:pt x="6666" y="7954"/>
                  <a:pt x="6623" y="80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the sin, cos, tan of t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6248520" y="1523880"/>
          <a:ext cx="74592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523880"/>
                    <a:ext cx="74592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the sin, cos, tan of t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248520" y="1600200"/>
          <a:ext cx="792000" cy="9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600200"/>
                    <a:ext cx="79200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Ink 5"/>
          <p:cNvSpPr/>
          <p:nvPr/>
        </p:nvSpPr>
        <p:spPr>
          <a:xfrm>
            <a:off x="1401840" y="2116080"/>
            <a:ext cx="500040" cy="482760"/>
          </a:xfrm>
          <a:custGeom>
            <a:avLst/>
            <a:gdLst/>
            <a:ahLst/>
            <a:rect l="l" t="t" r="r" b="b"/>
            <a:pathLst>
              <a:path w="1390" h="1340">
                <a:moveTo>
                  <a:pt x="4192" y="5879"/>
                </a:moveTo>
                <a:cubicBezTo>
                  <a:pt x="4157" y="5922"/>
                  <a:pt x="4088" y="6005"/>
                  <a:pt x="4068" y="6052"/>
                </a:cubicBezTo>
                <a:cubicBezTo>
                  <a:pt x="4025" y="6153"/>
                  <a:pt x="3981" y="6274"/>
                  <a:pt x="3944" y="6375"/>
                </a:cubicBezTo>
                <a:cubicBezTo>
                  <a:pt x="3901" y="6493"/>
                  <a:pt x="3894" y="6598"/>
                  <a:pt x="3894" y="6722"/>
                </a:cubicBezTo>
                <a:cubicBezTo>
                  <a:pt x="3894" y="6851"/>
                  <a:pt x="3935" y="6935"/>
                  <a:pt x="3994" y="7045"/>
                </a:cubicBezTo>
                <a:cubicBezTo>
                  <a:pt x="4040" y="7129"/>
                  <a:pt x="4068" y="7207"/>
                  <a:pt x="4167" y="7218"/>
                </a:cubicBezTo>
                <a:cubicBezTo>
                  <a:pt x="4184" y="7218"/>
                  <a:pt x="4200" y="7218"/>
                  <a:pt x="4217" y="7218"/>
                </a:cubicBezTo>
              </a:path>
              <a:path w="1390" h="1340">
                <a:moveTo>
                  <a:pt x="4738" y="6226"/>
                </a:moveTo>
                <a:cubicBezTo>
                  <a:pt x="4684" y="6310"/>
                  <a:pt x="4653" y="6383"/>
                  <a:pt x="4614" y="6474"/>
                </a:cubicBezTo>
                <a:cubicBezTo>
                  <a:pt x="4581" y="6553"/>
                  <a:pt x="4568" y="6635"/>
                  <a:pt x="4564" y="6722"/>
                </a:cubicBezTo>
                <a:cubicBezTo>
                  <a:pt x="4560" y="6806"/>
                  <a:pt x="4575" y="6907"/>
                  <a:pt x="4638" y="6970"/>
                </a:cubicBezTo>
                <a:cubicBezTo>
                  <a:pt x="4692" y="7024"/>
                  <a:pt x="4793" y="7042"/>
                  <a:pt x="4862" y="7045"/>
                </a:cubicBezTo>
                <a:cubicBezTo>
                  <a:pt x="4962" y="7049"/>
                  <a:pt x="5054" y="7002"/>
                  <a:pt x="5135" y="6945"/>
                </a:cubicBezTo>
                <a:cubicBezTo>
                  <a:pt x="5190" y="6906"/>
                  <a:pt x="5229" y="6806"/>
                  <a:pt x="5259" y="6747"/>
                </a:cubicBezTo>
                <a:cubicBezTo>
                  <a:pt x="5309" y="6650"/>
                  <a:pt x="5266" y="6570"/>
                  <a:pt x="5234" y="6474"/>
                </a:cubicBezTo>
                <a:cubicBezTo>
                  <a:pt x="5198" y="6367"/>
                  <a:pt x="5129" y="6257"/>
                  <a:pt x="5011" y="6226"/>
                </a:cubicBezTo>
                <a:cubicBezTo>
                  <a:pt x="4917" y="6201"/>
                  <a:pt x="4832" y="6192"/>
                  <a:pt x="4738" y="6226"/>
                </a:cubicBezTo>
                <a:cubicBezTo>
                  <a:pt x="4663" y="6254"/>
                  <a:pt x="4663" y="6278"/>
                  <a:pt x="4663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Ink 6"/>
          <p:cNvSpPr/>
          <p:nvPr/>
        </p:nvSpPr>
        <p:spPr>
          <a:xfrm>
            <a:off x="1820880" y="3116160"/>
            <a:ext cx="19080" cy="500040"/>
          </a:xfrm>
          <a:custGeom>
            <a:avLst/>
            <a:gdLst/>
            <a:ahLst/>
            <a:rect l="l" t="t" r="r" b="b"/>
            <a:pathLst>
              <a:path w="51" h="1390">
                <a:moveTo>
                  <a:pt x="5060" y="8657"/>
                </a:moveTo>
                <a:cubicBezTo>
                  <a:pt x="5107" y="8734"/>
                  <a:pt x="5106" y="8776"/>
                  <a:pt x="5110" y="8880"/>
                </a:cubicBezTo>
                <a:cubicBezTo>
                  <a:pt x="5125" y="9267"/>
                  <a:pt x="5110" y="9658"/>
                  <a:pt x="5110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Ink 7"/>
          <p:cNvSpPr/>
          <p:nvPr/>
        </p:nvSpPr>
        <p:spPr>
          <a:xfrm>
            <a:off x="2027160" y="2098800"/>
            <a:ext cx="554040" cy="571320"/>
          </a:xfrm>
          <a:custGeom>
            <a:avLst/>
            <a:gdLst/>
            <a:ahLst/>
            <a:rect l="l" t="t" r="r" b="b"/>
            <a:pathLst>
              <a:path w="1539" h="1589">
                <a:moveTo>
                  <a:pt x="5705" y="6945"/>
                </a:moveTo>
                <a:cubicBezTo>
                  <a:pt x="5681" y="7085"/>
                  <a:pt x="5637" y="7233"/>
                  <a:pt x="5631" y="7367"/>
                </a:cubicBezTo>
                <a:cubicBezTo>
                  <a:pt x="5631" y="7384"/>
                  <a:pt x="5631" y="7400"/>
                  <a:pt x="5631" y="7417"/>
                </a:cubicBezTo>
              </a:path>
              <a:path w="1539" h="1589">
                <a:moveTo>
                  <a:pt x="6325" y="6077"/>
                </a:moveTo>
                <a:cubicBezTo>
                  <a:pt x="6325" y="6188"/>
                  <a:pt x="6339" y="6296"/>
                  <a:pt x="6350" y="6400"/>
                </a:cubicBezTo>
                <a:cubicBezTo>
                  <a:pt x="6360" y="6499"/>
                  <a:pt x="6364" y="6600"/>
                  <a:pt x="6375" y="6697"/>
                </a:cubicBezTo>
                <a:cubicBezTo>
                  <a:pt x="6384" y="6777"/>
                  <a:pt x="6444" y="6891"/>
                  <a:pt x="6424" y="6970"/>
                </a:cubicBezTo>
                <a:cubicBezTo>
                  <a:pt x="6396" y="6999"/>
                  <a:pt x="6388" y="7002"/>
                  <a:pt x="6400" y="6945"/>
                </a:cubicBezTo>
              </a:path>
              <a:path w="1539" h="1589">
                <a:moveTo>
                  <a:pt x="6573" y="5829"/>
                </a:moveTo>
                <a:cubicBezTo>
                  <a:pt x="6665" y="5879"/>
                  <a:pt x="6778" y="5961"/>
                  <a:pt x="6846" y="6052"/>
                </a:cubicBezTo>
                <a:cubicBezTo>
                  <a:pt x="6970" y="6217"/>
                  <a:pt x="7082" y="6449"/>
                  <a:pt x="7144" y="6648"/>
                </a:cubicBezTo>
                <a:cubicBezTo>
                  <a:pt x="7185" y="6781"/>
                  <a:pt x="7174" y="6913"/>
                  <a:pt x="7144" y="7045"/>
                </a:cubicBezTo>
                <a:cubicBezTo>
                  <a:pt x="7117" y="7160"/>
                  <a:pt x="7069" y="7279"/>
                  <a:pt x="6970" y="7342"/>
                </a:cubicBezTo>
                <a:cubicBezTo>
                  <a:pt x="6937" y="7359"/>
                  <a:pt x="6904" y="7375"/>
                  <a:pt x="6871" y="73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Ink 8"/>
          <p:cNvSpPr/>
          <p:nvPr/>
        </p:nvSpPr>
        <p:spPr>
          <a:xfrm>
            <a:off x="4429080" y="3044880"/>
            <a:ext cx="322200" cy="519120"/>
          </a:xfrm>
          <a:custGeom>
            <a:avLst/>
            <a:gdLst/>
            <a:ahLst/>
            <a:rect l="l" t="t" r="r" b="b"/>
            <a:pathLst>
              <a:path w="894" h="1440">
                <a:moveTo>
                  <a:pt x="12650" y="8533"/>
                </a:moveTo>
                <a:cubicBezTo>
                  <a:pt x="12604" y="8556"/>
                  <a:pt x="12503" y="8583"/>
                  <a:pt x="12477" y="8632"/>
                </a:cubicBezTo>
                <a:cubicBezTo>
                  <a:pt x="12432" y="8717"/>
                  <a:pt x="12414" y="8817"/>
                  <a:pt x="12378" y="8905"/>
                </a:cubicBezTo>
                <a:cubicBezTo>
                  <a:pt x="12343" y="8988"/>
                  <a:pt x="12313" y="9062"/>
                  <a:pt x="12303" y="9153"/>
                </a:cubicBezTo>
                <a:cubicBezTo>
                  <a:pt x="12286" y="9302"/>
                  <a:pt x="12275" y="9558"/>
                  <a:pt x="12328" y="9699"/>
                </a:cubicBezTo>
                <a:cubicBezTo>
                  <a:pt x="12349" y="9756"/>
                  <a:pt x="12417" y="9798"/>
                  <a:pt x="12452" y="9847"/>
                </a:cubicBezTo>
                <a:cubicBezTo>
                  <a:pt x="12504" y="9920"/>
                  <a:pt x="12556" y="9897"/>
                  <a:pt x="12650" y="9897"/>
                </a:cubicBezTo>
                <a:cubicBezTo>
                  <a:pt x="12736" y="9897"/>
                  <a:pt x="12813" y="9831"/>
                  <a:pt x="12874" y="9773"/>
                </a:cubicBezTo>
                <a:cubicBezTo>
                  <a:pt x="12951" y="9700"/>
                  <a:pt x="13025" y="9644"/>
                  <a:pt x="13072" y="9550"/>
                </a:cubicBezTo>
                <a:cubicBezTo>
                  <a:pt x="13132" y="9431"/>
                  <a:pt x="13178" y="9340"/>
                  <a:pt x="13196" y="9203"/>
                </a:cubicBezTo>
                <a:cubicBezTo>
                  <a:pt x="13209" y="9104"/>
                  <a:pt x="13203" y="8995"/>
                  <a:pt x="13171" y="8905"/>
                </a:cubicBezTo>
                <a:cubicBezTo>
                  <a:pt x="13142" y="8821"/>
                  <a:pt x="13089" y="8788"/>
                  <a:pt x="13047" y="8706"/>
                </a:cubicBezTo>
                <a:cubicBezTo>
                  <a:pt x="13011" y="8634"/>
                  <a:pt x="12933" y="8613"/>
                  <a:pt x="12874" y="8558"/>
                </a:cubicBezTo>
                <a:cubicBezTo>
                  <a:pt x="12808" y="8497"/>
                  <a:pt x="12722" y="8431"/>
                  <a:pt x="12626" y="8458"/>
                </a:cubicBezTo>
                <a:cubicBezTo>
                  <a:pt x="12555" y="8478"/>
                  <a:pt x="12488" y="8519"/>
                  <a:pt x="12427" y="8558"/>
                </a:cubicBezTo>
                <a:cubicBezTo>
                  <a:pt x="12382" y="8587"/>
                  <a:pt x="12341" y="8619"/>
                  <a:pt x="12303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Ink 9"/>
          <p:cNvSpPr/>
          <p:nvPr/>
        </p:nvSpPr>
        <p:spPr>
          <a:xfrm>
            <a:off x="7027920" y="2919240"/>
            <a:ext cx="465120" cy="1009800"/>
          </a:xfrm>
          <a:custGeom>
            <a:avLst/>
            <a:gdLst/>
            <a:ahLst/>
            <a:rect l="l" t="t" r="r" b="b"/>
            <a:pathLst>
              <a:path w="1291" h="2804">
                <a:moveTo>
                  <a:pt x="20042" y="8111"/>
                </a:moveTo>
                <a:cubicBezTo>
                  <a:pt x="20032" y="8184"/>
                  <a:pt x="20017" y="8227"/>
                  <a:pt x="20017" y="8310"/>
                </a:cubicBezTo>
                <a:cubicBezTo>
                  <a:pt x="20017" y="8397"/>
                  <a:pt x="20055" y="8474"/>
                  <a:pt x="20067" y="8558"/>
                </a:cubicBezTo>
                <a:cubicBezTo>
                  <a:pt x="20079" y="8638"/>
                  <a:pt x="20083" y="8727"/>
                  <a:pt x="20092" y="8806"/>
                </a:cubicBezTo>
                <a:cubicBezTo>
                  <a:pt x="20102" y="8896"/>
                  <a:pt x="20082" y="8979"/>
                  <a:pt x="20067" y="9054"/>
                </a:cubicBezTo>
                <a:cubicBezTo>
                  <a:pt x="20067" y="9098"/>
                  <a:pt x="20064" y="9112"/>
                  <a:pt x="20092" y="9128"/>
                </a:cubicBezTo>
              </a:path>
              <a:path w="1291" h="2804">
                <a:moveTo>
                  <a:pt x="19596" y="9451"/>
                </a:moveTo>
                <a:cubicBezTo>
                  <a:pt x="19551" y="9451"/>
                  <a:pt x="19538" y="9447"/>
                  <a:pt x="19521" y="9475"/>
                </a:cubicBezTo>
                <a:cubicBezTo>
                  <a:pt x="19614" y="9475"/>
                  <a:pt x="19706" y="9471"/>
                  <a:pt x="19794" y="9451"/>
                </a:cubicBezTo>
                <a:cubicBezTo>
                  <a:pt x="19908" y="9425"/>
                  <a:pt x="20028" y="9424"/>
                  <a:pt x="20141" y="9401"/>
                </a:cubicBezTo>
                <a:cubicBezTo>
                  <a:pt x="20238" y="9382"/>
                  <a:pt x="20345" y="9398"/>
                  <a:pt x="20439" y="9376"/>
                </a:cubicBezTo>
                <a:cubicBezTo>
                  <a:pt x="20512" y="9359"/>
                  <a:pt x="20588" y="9366"/>
                  <a:pt x="20662" y="9351"/>
                </a:cubicBezTo>
                <a:cubicBezTo>
                  <a:pt x="20722" y="9338"/>
                  <a:pt x="20751" y="9327"/>
                  <a:pt x="20811" y="9327"/>
                </a:cubicBezTo>
              </a:path>
              <a:path w="1291" h="2804">
                <a:moveTo>
                  <a:pt x="20216" y="9599"/>
                </a:moveTo>
                <a:cubicBezTo>
                  <a:pt x="20134" y="9640"/>
                  <a:pt x="20115" y="9668"/>
                  <a:pt x="20067" y="9748"/>
                </a:cubicBezTo>
                <a:cubicBezTo>
                  <a:pt x="20025" y="9818"/>
                  <a:pt x="19952" y="9888"/>
                  <a:pt x="19918" y="9947"/>
                </a:cubicBezTo>
                <a:cubicBezTo>
                  <a:pt x="19880" y="10012"/>
                  <a:pt x="19887" y="10101"/>
                  <a:pt x="19869" y="10170"/>
                </a:cubicBezTo>
                <a:cubicBezTo>
                  <a:pt x="19841" y="10279"/>
                  <a:pt x="19844" y="10379"/>
                  <a:pt x="19844" y="10492"/>
                </a:cubicBezTo>
                <a:cubicBezTo>
                  <a:pt x="19844" y="10594"/>
                  <a:pt x="19886" y="10732"/>
                  <a:pt x="19943" y="10815"/>
                </a:cubicBezTo>
                <a:cubicBezTo>
                  <a:pt x="19978" y="10866"/>
                  <a:pt x="20076" y="10929"/>
                  <a:pt x="20141" y="10914"/>
                </a:cubicBezTo>
                <a:cubicBezTo>
                  <a:pt x="20265" y="10886"/>
                  <a:pt x="20288" y="10802"/>
                  <a:pt x="20365" y="10716"/>
                </a:cubicBezTo>
                <a:cubicBezTo>
                  <a:pt x="20426" y="10648"/>
                  <a:pt x="20462" y="10557"/>
                  <a:pt x="20489" y="10468"/>
                </a:cubicBezTo>
                <a:cubicBezTo>
                  <a:pt x="20516" y="10378"/>
                  <a:pt x="20580" y="10240"/>
                  <a:pt x="20563" y="10145"/>
                </a:cubicBezTo>
                <a:cubicBezTo>
                  <a:pt x="20550" y="10074"/>
                  <a:pt x="20533" y="9986"/>
                  <a:pt x="20489" y="9922"/>
                </a:cubicBezTo>
                <a:cubicBezTo>
                  <a:pt x="20442" y="9854"/>
                  <a:pt x="20441" y="9813"/>
                  <a:pt x="20365" y="9773"/>
                </a:cubicBezTo>
                <a:cubicBezTo>
                  <a:pt x="20312" y="9745"/>
                  <a:pt x="20245" y="9687"/>
                  <a:pt x="20191" y="9674"/>
                </a:cubicBezTo>
                <a:cubicBezTo>
                  <a:pt x="20141" y="9662"/>
                  <a:pt x="19828" y="9710"/>
                  <a:pt x="19869" y="9624"/>
                </a:cubicBezTo>
                <a:cubicBezTo>
                  <a:pt x="19877" y="9624"/>
                  <a:pt x="19885" y="9624"/>
                  <a:pt x="19893" y="96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Ink 10"/>
          <p:cNvSpPr/>
          <p:nvPr/>
        </p:nvSpPr>
        <p:spPr>
          <a:xfrm>
            <a:off x="7724880" y="3125880"/>
            <a:ext cx="1347840" cy="490320"/>
          </a:xfrm>
          <a:custGeom>
            <a:avLst/>
            <a:gdLst/>
            <a:ahLst/>
            <a:rect l="l" t="t" r="r" b="b"/>
            <a:pathLst>
              <a:path w="3747" h="1365">
                <a:moveTo>
                  <a:pt x="21456" y="9203"/>
                </a:moveTo>
                <a:cubicBezTo>
                  <a:pt x="21524" y="9319"/>
                  <a:pt x="21530" y="9413"/>
                  <a:pt x="21530" y="9550"/>
                </a:cubicBezTo>
                <a:cubicBezTo>
                  <a:pt x="21530" y="9631"/>
                  <a:pt x="21524" y="9698"/>
                  <a:pt x="21555" y="9773"/>
                </a:cubicBezTo>
                <a:cubicBezTo>
                  <a:pt x="21599" y="9878"/>
                  <a:pt x="21721" y="9795"/>
                  <a:pt x="21754" y="9723"/>
                </a:cubicBezTo>
                <a:cubicBezTo>
                  <a:pt x="21791" y="9643"/>
                  <a:pt x="21818" y="9556"/>
                  <a:pt x="21853" y="9475"/>
                </a:cubicBezTo>
                <a:cubicBezTo>
                  <a:pt x="21884" y="9403"/>
                  <a:pt x="21895" y="9354"/>
                  <a:pt x="21903" y="9277"/>
                </a:cubicBezTo>
                <a:cubicBezTo>
                  <a:pt x="21932" y="9327"/>
                  <a:pt x="21949" y="9388"/>
                  <a:pt x="21952" y="9451"/>
                </a:cubicBezTo>
                <a:cubicBezTo>
                  <a:pt x="21956" y="9539"/>
                  <a:pt x="21972" y="9615"/>
                  <a:pt x="21977" y="9699"/>
                </a:cubicBezTo>
                <a:cubicBezTo>
                  <a:pt x="21981" y="9777"/>
                  <a:pt x="22004" y="9788"/>
                  <a:pt x="22076" y="9798"/>
                </a:cubicBezTo>
              </a:path>
              <a:path w="3747" h="1365">
                <a:moveTo>
                  <a:pt x="22175" y="9426"/>
                </a:moveTo>
                <a:cubicBezTo>
                  <a:pt x="22181" y="9563"/>
                  <a:pt x="22204" y="9650"/>
                  <a:pt x="22225" y="9773"/>
                </a:cubicBezTo>
                <a:cubicBezTo>
                  <a:pt x="22225" y="9790"/>
                  <a:pt x="22225" y="9806"/>
                  <a:pt x="22225" y="9823"/>
                </a:cubicBezTo>
                <a:cubicBezTo>
                  <a:pt x="22251" y="9746"/>
                  <a:pt x="22250" y="9681"/>
                  <a:pt x="22250" y="9599"/>
                </a:cubicBezTo>
                <a:cubicBezTo>
                  <a:pt x="22250" y="9523"/>
                  <a:pt x="22273" y="9457"/>
                  <a:pt x="22324" y="9401"/>
                </a:cubicBezTo>
                <a:cubicBezTo>
                  <a:pt x="22374" y="9346"/>
                  <a:pt x="22400" y="9351"/>
                  <a:pt x="22473" y="9351"/>
                </a:cubicBezTo>
                <a:cubicBezTo>
                  <a:pt x="22539" y="9351"/>
                  <a:pt x="22552" y="9382"/>
                  <a:pt x="22597" y="9426"/>
                </a:cubicBezTo>
                <a:cubicBezTo>
                  <a:pt x="22632" y="9460"/>
                  <a:pt x="22711" y="9551"/>
                  <a:pt x="22721" y="9599"/>
                </a:cubicBezTo>
                <a:cubicBezTo>
                  <a:pt x="22740" y="9692"/>
                  <a:pt x="22726" y="9734"/>
                  <a:pt x="22771" y="9823"/>
                </a:cubicBezTo>
              </a:path>
              <a:path w="3747" h="1365">
                <a:moveTo>
                  <a:pt x="23093" y="9376"/>
                </a:moveTo>
                <a:cubicBezTo>
                  <a:pt x="23093" y="9335"/>
                  <a:pt x="23093" y="9293"/>
                  <a:pt x="23093" y="9252"/>
                </a:cubicBezTo>
                <a:cubicBezTo>
                  <a:pt x="22967" y="9268"/>
                  <a:pt x="23006" y="9320"/>
                  <a:pt x="22920" y="9401"/>
                </a:cubicBezTo>
                <a:cubicBezTo>
                  <a:pt x="22859" y="9458"/>
                  <a:pt x="22825" y="9507"/>
                  <a:pt x="22820" y="9599"/>
                </a:cubicBezTo>
                <a:cubicBezTo>
                  <a:pt x="22815" y="9689"/>
                  <a:pt x="22828" y="9707"/>
                  <a:pt x="22870" y="9773"/>
                </a:cubicBezTo>
                <a:cubicBezTo>
                  <a:pt x="22914" y="9841"/>
                  <a:pt x="22891" y="9836"/>
                  <a:pt x="22969" y="9847"/>
                </a:cubicBezTo>
                <a:cubicBezTo>
                  <a:pt x="23130" y="9832"/>
                  <a:pt x="23127" y="9712"/>
                  <a:pt x="23168" y="9550"/>
                </a:cubicBezTo>
                <a:cubicBezTo>
                  <a:pt x="23199" y="9427"/>
                  <a:pt x="23217" y="9331"/>
                  <a:pt x="23217" y="9203"/>
                </a:cubicBezTo>
                <a:cubicBezTo>
                  <a:pt x="23217" y="9097"/>
                  <a:pt x="23230" y="9006"/>
                  <a:pt x="23242" y="8905"/>
                </a:cubicBezTo>
                <a:cubicBezTo>
                  <a:pt x="23263" y="8723"/>
                  <a:pt x="23242" y="8759"/>
                  <a:pt x="23242" y="8930"/>
                </a:cubicBezTo>
                <a:cubicBezTo>
                  <a:pt x="23242" y="9043"/>
                  <a:pt x="23252" y="9137"/>
                  <a:pt x="23242" y="9252"/>
                </a:cubicBezTo>
                <a:cubicBezTo>
                  <a:pt x="23228" y="9411"/>
                  <a:pt x="23245" y="9570"/>
                  <a:pt x="23267" y="9723"/>
                </a:cubicBezTo>
                <a:cubicBezTo>
                  <a:pt x="23276" y="9785"/>
                  <a:pt x="23269" y="9812"/>
                  <a:pt x="23292" y="9872"/>
                </a:cubicBezTo>
              </a:path>
              <a:path w="3747" h="1365">
                <a:moveTo>
                  <a:pt x="23416" y="9550"/>
                </a:moveTo>
                <a:cubicBezTo>
                  <a:pt x="23498" y="9550"/>
                  <a:pt x="23522" y="9541"/>
                  <a:pt x="23589" y="9500"/>
                </a:cubicBezTo>
                <a:cubicBezTo>
                  <a:pt x="23633" y="9473"/>
                  <a:pt x="23702" y="9432"/>
                  <a:pt x="23713" y="9376"/>
                </a:cubicBezTo>
                <a:cubicBezTo>
                  <a:pt x="23713" y="9310"/>
                  <a:pt x="23713" y="9293"/>
                  <a:pt x="23713" y="9252"/>
                </a:cubicBezTo>
                <a:cubicBezTo>
                  <a:pt x="23652" y="9261"/>
                  <a:pt x="23602" y="9302"/>
                  <a:pt x="23564" y="9351"/>
                </a:cubicBezTo>
                <a:cubicBezTo>
                  <a:pt x="23509" y="9420"/>
                  <a:pt x="23498" y="9505"/>
                  <a:pt x="23465" y="9575"/>
                </a:cubicBezTo>
                <a:cubicBezTo>
                  <a:pt x="23429" y="9652"/>
                  <a:pt x="23442" y="9692"/>
                  <a:pt x="23465" y="9773"/>
                </a:cubicBezTo>
                <a:cubicBezTo>
                  <a:pt x="23502" y="9902"/>
                  <a:pt x="23519" y="9948"/>
                  <a:pt x="23639" y="9996"/>
                </a:cubicBezTo>
              </a:path>
              <a:path w="3747" h="1365">
                <a:moveTo>
                  <a:pt x="24309" y="8731"/>
                </a:moveTo>
                <a:cubicBezTo>
                  <a:pt x="24301" y="8715"/>
                  <a:pt x="24292" y="8698"/>
                  <a:pt x="24284" y="8682"/>
                </a:cubicBezTo>
                <a:cubicBezTo>
                  <a:pt x="24195" y="8770"/>
                  <a:pt x="24118" y="8845"/>
                  <a:pt x="24061" y="8954"/>
                </a:cubicBezTo>
                <a:cubicBezTo>
                  <a:pt x="24020" y="9034"/>
                  <a:pt x="23996" y="9118"/>
                  <a:pt x="23986" y="9203"/>
                </a:cubicBezTo>
                <a:cubicBezTo>
                  <a:pt x="23966" y="9366"/>
                  <a:pt x="24023" y="9545"/>
                  <a:pt x="24011" y="9699"/>
                </a:cubicBezTo>
                <a:cubicBezTo>
                  <a:pt x="24005" y="9782"/>
                  <a:pt x="23986" y="9859"/>
                  <a:pt x="23986" y="9947"/>
                </a:cubicBezTo>
                <a:cubicBezTo>
                  <a:pt x="23986" y="9991"/>
                  <a:pt x="23989" y="10005"/>
                  <a:pt x="23961" y="10021"/>
                </a:cubicBezTo>
              </a:path>
              <a:path w="3747" h="1365">
                <a:moveTo>
                  <a:pt x="23837" y="9649"/>
                </a:moveTo>
                <a:cubicBezTo>
                  <a:pt x="23908" y="9608"/>
                  <a:pt x="23967" y="9614"/>
                  <a:pt x="24036" y="9575"/>
                </a:cubicBezTo>
                <a:cubicBezTo>
                  <a:pt x="24104" y="9537"/>
                  <a:pt x="24185" y="9512"/>
                  <a:pt x="24259" y="9475"/>
                </a:cubicBezTo>
                <a:cubicBezTo>
                  <a:pt x="24312" y="9541"/>
                  <a:pt x="24325" y="9612"/>
                  <a:pt x="24309" y="9699"/>
                </a:cubicBezTo>
                <a:cubicBezTo>
                  <a:pt x="24294" y="9780"/>
                  <a:pt x="24301" y="9868"/>
                  <a:pt x="24284" y="9947"/>
                </a:cubicBezTo>
                <a:cubicBezTo>
                  <a:pt x="24283" y="9951"/>
                  <a:pt x="24247" y="10095"/>
                  <a:pt x="24284" y="10021"/>
                </a:cubicBezTo>
              </a:path>
              <a:path w="3747" h="1365">
                <a:moveTo>
                  <a:pt x="24383" y="9227"/>
                </a:moveTo>
                <a:cubicBezTo>
                  <a:pt x="24400" y="9219"/>
                  <a:pt x="24416" y="9211"/>
                  <a:pt x="24433" y="9203"/>
                </a:cubicBezTo>
              </a:path>
              <a:path w="3747" h="1365">
                <a:moveTo>
                  <a:pt x="24507" y="9723"/>
                </a:moveTo>
                <a:cubicBezTo>
                  <a:pt x="24501" y="9813"/>
                  <a:pt x="24482" y="9882"/>
                  <a:pt x="24482" y="9971"/>
                </a:cubicBezTo>
                <a:cubicBezTo>
                  <a:pt x="24469" y="9892"/>
                  <a:pt x="24462" y="9784"/>
                  <a:pt x="24482" y="9699"/>
                </a:cubicBezTo>
                <a:cubicBezTo>
                  <a:pt x="24501" y="9621"/>
                  <a:pt x="24524" y="9583"/>
                  <a:pt x="24581" y="9525"/>
                </a:cubicBezTo>
                <a:cubicBezTo>
                  <a:pt x="24653" y="9628"/>
                  <a:pt x="24656" y="9696"/>
                  <a:pt x="24656" y="9823"/>
                </a:cubicBezTo>
                <a:cubicBezTo>
                  <a:pt x="24656" y="9905"/>
                  <a:pt x="24667" y="9904"/>
                  <a:pt x="24705" y="9971"/>
                </a:cubicBezTo>
                <a:cubicBezTo>
                  <a:pt x="24837" y="9971"/>
                  <a:pt x="24809" y="9944"/>
                  <a:pt x="24829" y="9823"/>
                </a:cubicBezTo>
                <a:cubicBezTo>
                  <a:pt x="24845" y="9724"/>
                  <a:pt x="24854" y="9425"/>
                  <a:pt x="24854" y="9525"/>
                </a:cubicBezTo>
                <a:cubicBezTo>
                  <a:pt x="24854" y="9602"/>
                  <a:pt x="24807" y="9667"/>
                  <a:pt x="24829" y="9748"/>
                </a:cubicBezTo>
                <a:cubicBezTo>
                  <a:pt x="24857" y="9854"/>
                  <a:pt x="24905" y="9872"/>
                  <a:pt x="25003" y="9872"/>
                </a:cubicBezTo>
              </a:path>
              <a:path w="3747" h="1365">
                <a:moveTo>
                  <a:pt x="25202" y="9599"/>
                </a:moveTo>
                <a:cubicBezTo>
                  <a:pt x="25126" y="9675"/>
                  <a:pt x="25089" y="9721"/>
                  <a:pt x="25053" y="9823"/>
                </a:cubicBezTo>
                <a:cubicBezTo>
                  <a:pt x="25027" y="9899"/>
                  <a:pt x="25016" y="9911"/>
                  <a:pt x="25053" y="9971"/>
                </a:cubicBezTo>
                <a:cubicBezTo>
                  <a:pt x="25128" y="9960"/>
                  <a:pt x="25140" y="9942"/>
                  <a:pt x="25177" y="9872"/>
                </a:cubicBezTo>
                <a:cubicBezTo>
                  <a:pt x="25215" y="9802"/>
                  <a:pt x="25202" y="9727"/>
                  <a:pt x="25202" y="9649"/>
                </a:cubicBezTo>
                <a:cubicBezTo>
                  <a:pt x="25202" y="9511"/>
                  <a:pt x="25183" y="9383"/>
                  <a:pt x="25177" y="9252"/>
                </a:cubicBezTo>
                <a:cubicBezTo>
                  <a:pt x="25174" y="9186"/>
                  <a:pt x="25140" y="9078"/>
                  <a:pt x="25102" y="9029"/>
                </a:cubicBezTo>
                <a:cubicBezTo>
                  <a:pt x="25073" y="8999"/>
                  <a:pt x="25068" y="8997"/>
                  <a:pt x="25102" y="90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Ink 11"/>
          <p:cNvSpPr/>
          <p:nvPr/>
        </p:nvSpPr>
        <p:spPr>
          <a:xfrm>
            <a:off x="7634160" y="2955960"/>
            <a:ext cx="1492200" cy="857160"/>
          </a:xfrm>
          <a:custGeom>
            <a:avLst/>
            <a:gdLst/>
            <a:ahLst/>
            <a:rect l="l" t="t" r="r" b="b"/>
            <a:pathLst>
              <a:path w="4143" h="2383">
                <a:moveTo>
                  <a:pt x="25202" y="8682"/>
                </a:moveTo>
                <a:cubicBezTo>
                  <a:pt x="25176" y="8622"/>
                  <a:pt x="25176" y="8557"/>
                  <a:pt x="25127" y="8508"/>
                </a:cubicBezTo>
                <a:cubicBezTo>
                  <a:pt x="25069" y="8450"/>
                  <a:pt x="24994" y="8455"/>
                  <a:pt x="24929" y="8434"/>
                </a:cubicBezTo>
                <a:cubicBezTo>
                  <a:pt x="24692" y="8357"/>
                  <a:pt x="24458" y="8282"/>
                  <a:pt x="24209" y="8260"/>
                </a:cubicBezTo>
                <a:cubicBezTo>
                  <a:pt x="24038" y="8245"/>
                  <a:pt x="23860" y="8238"/>
                  <a:pt x="23688" y="8235"/>
                </a:cubicBezTo>
                <a:cubicBezTo>
                  <a:pt x="23496" y="8231"/>
                  <a:pt x="23311" y="8210"/>
                  <a:pt x="23118" y="8210"/>
                </a:cubicBezTo>
                <a:cubicBezTo>
                  <a:pt x="22836" y="8210"/>
                  <a:pt x="22557" y="8230"/>
                  <a:pt x="22275" y="8235"/>
                </a:cubicBezTo>
                <a:cubicBezTo>
                  <a:pt x="22109" y="8238"/>
                  <a:pt x="21942" y="8235"/>
                  <a:pt x="21779" y="8260"/>
                </a:cubicBezTo>
                <a:cubicBezTo>
                  <a:pt x="21649" y="8280"/>
                  <a:pt x="21533" y="8302"/>
                  <a:pt x="21406" y="8334"/>
                </a:cubicBezTo>
                <a:cubicBezTo>
                  <a:pt x="21348" y="8349"/>
                  <a:pt x="21276" y="8361"/>
                  <a:pt x="21233" y="8409"/>
                </a:cubicBezTo>
                <a:cubicBezTo>
                  <a:pt x="21192" y="8455"/>
                  <a:pt x="21203" y="8550"/>
                  <a:pt x="21208" y="8607"/>
                </a:cubicBezTo>
                <a:cubicBezTo>
                  <a:pt x="21218" y="8720"/>
                  <a:pt x="21267" y="8817"/>
                  <a:pt x="21282" y="8930"/>
                </a:cubicBezTo>
                <a:cubicBezTo>
                  <a:pt x="21303" y="9094"/>
                  <a:pt x="21343" y="9261"/>
                  <a:pt x="21357" y="9426"/>
                </a:cubicBezTo>
                <a:cubicBezTo>
                  <a:pt x="21367" y="9540"/>
                  <a:pt x="21374" y="9660"/>
                  <a:pt x="21382" y="9773"/>
                </a:cubicBezTo>
                <a:cubicBezTo>
                  <a:pt x="21390" y="9881"/>
                  <a:pt x="21398" y="9995"/>
                  <a:pt x="21406" y="10096"/>
                </a:cubicBezTo>
                <a:cubicBezTo>
                  <a:pt x="21412" y="10172"/>
                  <a:pt x="21400" y="10190"/>
                  <a:pt x="21456" y="10244"/>
                </a:cubicBezTo>
                <a:cubicBezTo>
                  <a:pt x="21518" y="10304"/>
                  <a:pt x="21638" y="10334"/>
                  <a:pt x="21729" y="10344"/>
                </a:cubicBezTo>
                <a:cubicBezTo>
                  <a:pt x="21830" y="10355"/>
                  <a:pt x="21927" y="10348"/>
                  <a:pt x="22027" y="10368"/>
                </a:cubicBezTo>
                <a:cubicBezTo>
                  <a:pt x="22145" y="10391"/>
                  <a:pt x="22258" y="10437"/>
                  <a:pt x="22374" y="10468"/>
                </a:cubicBezTo>
                <a:cubicBezTo>
                  <a:pt x="22502" y="10503"/>
                  <a:pt x="22640" y="10532"/>
                  <a:pt x="22771" y="10542"/>
                </a:cubicBezTo>
                <a:cubicBezTo>
                  <a:pt x="22977" y="10557"/>
                  <a:pt x="23186" y="10580"/>
                  <a:pt x="23391" y="10592"/>
                </a:cubicBezTo>
                <a:cubicBezTo>
                  <a:pt x="23577" y="10603"/>
                  <a:pt x="23753" y="10571"/>
                  <a:pt x="23937" y="10567"/>
                </a:cubicBezTo>
                <a:cubicBezTo>
                  <a:pt x="24112" y="10563"/>
                  <a:pt x="24280" y="10542"/>
                  <a:pt x="24457" y="10542"/>
                </a:cubicBezTo>
                <a:cubicBezTo>
                  <a:pt x="24650" y="10542"/>
                  <a:pt x="24841" y="10531"/>
                  <a:pt x="25028" y="10517"/>
                </a:cubicBezTo>
                <a:cubicBezTo>
                  <a:pt x="25106" y="10511"/>
                  <a:pt x="25157" y="10515"/>
                  <a:pt x="25226" y="10468"/>
                </a:cubicBezTo>
                <a:cubicBezTo>
                  <a:pt x="25327" y="10400"/>
                  <a:pt x="25340" y="10282"/>
                  <a:pt x="25350" y="10170"/>
                </a:cubicBezTo>
                <a:cubicBezTo>
                  <a:pt x="25375" y="9900"/>
                  <a:pt x="25344" y="9615"/>
                  <a:pt x="25326" y="9351"/>
                </a:cubicBezTo>
                <a:cubicBezTo>
                  <a:pt x="25316" y="9208"/>
                  <a:pt x="25261" y="9093"/>
                  <a:pt x="25226" y="8954"/>
                </a:cubicBezTo>
                <a:cubicBezTo>
                  <a:pt x="25207" y="8879"/>
                  <a:pt x="25219" y="8801"/>
                  <a:pt x="25177" y="8731"/>
                </a:cubicBezTo>
                <a:cubicBezTo>
                  <a:pt x="25142" y="8673"/>
                  <a:pt x="25089" y="8685"/>
                  <a:pt x="25053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the six trigonometric functions of the real number (if poss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c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t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1066680" y="2438280"/>
          <a:ext cx="61452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145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Ink 5"/>
          <p:cNvSpPr/>
          <p:nvPr/>
        </p:nvSpPr>
        <p:spPr>
          <a:xfrm>
            <a:off x="2170080" y="2428920"/>
            <a:ext cx="1411200" cy="768240"/>
          </a:xfrm>
          <a:custGeom>
            <a:avLst/>
            <a:gdLst/>
            <a:ahLst/>
            <a:rect l="l" t="t" r="r" b="b"/>
            <a:pathLst>
              <a:path w="3920" h="2134">
                <a:moveTo>
                  <a:pt x="6077" y="7689"/>
                </a:moveTo>
                <a:cubicBezTo>
                  <a:pt x="6153" y="7661"/>
                  <a:pt x="6217" y="7665"/>
                  <a:pt x="6300" y="7665"/>
                </a:cubicBezTo>
                <a:cubicBezTo>
                  <a:pt x="6398" y="7665"/>
                  <a:pt x="6473" y="7654"/>
                  <a:pt x="6573" y="7640"/>
                </a:cubicBezTo>
              </a:path>
              <a:path w="3920" h="2134">
                <a:moveTo>
                  <a:pt x="6945" y="7342"/>
                </a:moveTo>
                <a:cubicBezTo>
                  <a:pt x="6951" y="7413"/>
                  <a:pt x="6986" y="7492"/>
                  <a:pt x="6970" y="7565"/>
                </a:cubicBezTo>
                <a:cubicBezTo>
                  <a:pt x="6946" y="7676"/>
                  <a:pt x="6929" y="7740"/>
                  <a:pt x="6995" y="7838"/>
                </a:cubicBezTo>
                <a:cubicBezTo>
                  <a:pt x="6995" y="7717"/>
                  <a:pt x="7003" y="7608"/>
                  <a:pt x="7020" y="7491"/>
                </a:cubicBezTo>
                <a:cubicBezTo>
                  <a:pt x="7031" y="7416"/>
                  <a:pt x="7014" y="7365"/>
                  <a:pt x="7045" y="7293"/>
                </a:cubicBezTo>
                <a:cubicBezTo>
                  <a:pt x="7083" y="7206"/>
                  <a:pt x="7109" y="7186"/>
                  <a:pt x="7193" y="7144"/>
                </a:cubicBezTo>
                <a:cubicBezTo>
                  <a:pt x="7276" y="7102"/>
                  <a:pt x="7374" y="7119"/>
                  <a:pt x="7466" y="7119"/>
                </a:cubicBezTo>
              </a:path>
              <a:path w="3920" h="2134">
                <a:moveTo>
                  <a:pt x="7293" y="7317"/>
                </a:moveTo>
                <a:cubicBezTo>
                  <a:pt x="7393" y="7317"/>
                  <a:pt x="7484" y="7300"/>
                  <a:pt x="7565" y="7367"/>
                </a:cubicBezTo>
                <a:cubicBezTo>
                  <a:pt x="7622" y="7414"/>
                  <a:pt x="7548" y="7486"/>
                  <a:pt x="7516" y="7516"/>
                </a:cubicBezTo>
                <a:cubicBezTo>
                  <a:pt x="7478" y="7551"/>
                  <a:pt x="7381" y="7639"/>
                  <a:pt x="7367" y="7689"/>
                </a:cubicBezTo>
                <a:cubicBezTo>
                  <a:pt x="7367" y="7706"/>
                  <a:pt x="7367" y="7722"/>
                  <a:pt x="7367" y="7739"/>
                </a:cubicBezTo>
                <a:cubicBezTo>
                  <a:pt x="7508" y="7739"/>
                  <a:pt x="7648" y="7739"/>
                  <a:pt x="7789" y="7739"/>
                </a:cubicBezTo>
              </a:path>
              <a:path w="3920" h="2134">
                <a:moveTo>
                  <a:pt x="6970" y="7913"/>
                </a:moveTo>
                <a:cubicBezTo>
                  <a:pt x="7073" y="7913"/>
                  <a:pt x="7166" y="7891"/>
                  <a:pt x="7268" y="7888"/>
                </a:cubicBezTo>
                <a:cubicBezTo>
                  <a:pt x="7400" y="7885"/>
                  <a:pt x="7533" y="7888"/>
                  <a:pt x="7665" y="7888"/>
                </a:cubicBezTo>
              </a:path>
              <a:path w="3920" h="2134">
                <a:moveTo>
                  <a:pt x="7243" y="8161"/>
                </a:moveTo>
                <a:cubicBezTo>
                  <a:pt x="7324" y="8139"/>
                  <a:pt x="7383" y="8136"/>
                  <a:pt x="7466" y="8136"/>
                </a:cubicBezTo>
                <a:cubicBezTo>
                  <a:pt x="7560" y="8136"/>
                  <a:pt x="7609" y="8164"/>
                  <a:pt x="7565" y="8260"/>
                </a:cubicBezTo>
                <a:cubicBezTo>
                  <a:pt x="7534" y="8327"/>
                  <a:pt x="7436" y="8373"/>
                  <a:pt x="7392" y="8434"/>
                </a:cubicBezTo>
                <a:cubicBezTo>
                  <a:pt x="7360" y="8479"/>
                  <a:pt x="7333" y="8517"/>
                  <a:pt x="7293" y="8558"/>
                </a:cubicBezTo>
                <a:cubicBezTo>
                  <a:pt x="7350" y="8627"/>
                  <a:pt x="7394" y="8607"/>
                  <a:pt x="7491" y="8607"/>
                </a:cubicBezTo>
                <a:cubicBezTo>
                  <a:pt x="7571" y="8607"/>
                  <a:pt x="7614" y="8585"/>
                  <a:pt x="7689" y="8558"/>
                </a:cubicBezTo>
              </a:path>
              <a:path w="3920" h="2134">
                <a:moveTo>
                  <a:pt x="8111" y="7888"/>
                </a:moveTo>
                <a:cubicBezTo>
                  <a:pt x="8111" y="7965"/>
                  <a:pt x="8079" y="8123"/>
                  <a:pt x="8136" y="8161"/>
                </a:cubicBezTo>
              </a:path>
              <a:path w="3920" h="2134">
                <a:moveTo>
                  <a:pt x="8434" y="7491"/>
                </a:moveTo>
                <a:cubicBezTo>
                  <a:pt x="8434" y="7571"/>
                  <a:pt x="8414" y="7679"/>
                  <a:pt x="8434" y="7739"/>
                </a:cubicBezTo>
                <a:cubicBezTo>
                  <a:pt x="8434" y="7642"/>
                  <a:pt x="8424" y="7557"/>
                  <a:pt x="8409" y="7466"/>
                </a:cubicBezTo>
                <a:cubicBezTo>
                  <a:pt x="8390" y="7350"/>
                  <a:pt x="8435" y="7282"/>
                  <a:pt x="8508" y="7218"/>
                </a:cubicBezTo>
                <a:cubicBezTo>
                  <a:pt x="8598" y="7140"/>
                  <a:pt x="8648" y="7149"/>
                  <a:pt x="8756" y="7119"/>
                </a:cubicBezTo>
                <a:cubicBezTo>
                  <a:pt x="8837" y="7097"/>
                  <a:pt x="8849" y="7103"/>
                  <a:pt x="8930" y="7119"/>
                </a:cubicBezTo>
              </a:path>
              <a:path w="3920" h="2134">
                <a:moveTo>
                  <a:pt x="8756" y="7293"/>
                </a:moveTo>
                <a:cubicBezTo>
                  <a:pt x="8826" y="7267"/>
                  <a:pt x="8906" y="7266"/>
                  <a:pt x="8979" y="7293"/>
                </a:cubicBezTo>
                <a:cubicBezTo>
                  <a:pt x="9090" y="7334"/>
                  <a:pt x="8981" y="7425"/>
                  <a:pt x="8954" y="7466"/>
                </a:cubicBezTo>
                <a:cubicBezTo>
                  <a:pt x="8896" y="7554"/>
                  <a:pt x="8819" y="7628"/>
                  <a:pt x="8731" y="7689"/>
                </a:cubicBezTo>
                <a:cubicBezTo>
                  <a:pt x="8715" y="7697"/>
                  <a:pt x="8698" y="7706"/>
                  <a:pt x="8682" y="7714"/>
                </a:cubicBezTo>
                <a:cubicBezTo>
                  <a:pt x="8752" y="7797"/>
                  <a:pt x="8838" y="7807"/>
                  <a:pt x="8954" y="7789"/>
                </a:cubicBezTo>
                <a:cubicBezTo>
                  <a:pt x="9046" y="7775"/>
                  <a:pt x="9131" y="7772"/>
                  <a:pt x="9203" y="7714"/>
                </a:cubicBezTo>
              </a:path>
              <a:path w="3920" h="2134">
                <a:moveTo>
                  <a:pt x="8508" y="7888"/>
                </a:moveTo>
                <a:cubicBezTo>
                  <a:pt x="8684" y="7868"/>
                  <a:pt x="8854" y="7878"/>
                  <a:pt x="9029" y="7863"/>
                </a:cubicBezTo>
                <a:cubicBezTo>
                  <a:pt x="9095" y="7855"/>
                  <a:pt x="9161" y="7846"/>
                  <a:pt x="9227" y="7838"/>
                </a:cubicBezTo>
              </a:path>
              <a:path w="3920" h="2134">
                <a:moveTo>
                  <a:pt x="8731" y="8235"/>
                </a:moveTo>
                <a:cubicBezTo>
                  <a:pt x="8825" y="8181"/>
                  <a:pt x="8896" y="8140"/>
                  <a:pt x="9004" y="8136"/>
                </a:cubicBezTo>
                <a:cubicBezTo>
                  <a:pt x="9087" y="8133"/>
                  <a:pt x="9079" y="8136"/>
                  <a:pt x="9128" y="8186"/>
                </a:cubicBezTo>
                <a:cubicBezTo>
                  <a:pt x="9100" y="8368"/>
                  <a:pt x="9050" y="8402"/>
                  <a:pt x="8954" y="8533"/>
                </a:cubicBezTo>
                <a:cubicBezTo>
                  <a:pt x="8893" y="8616"/>
                  <a:pt x="8867" y="8632"/>
                  <a:pt x="8781" y="8607"/>
                </a:cubicBezTo>
                <a:cubicBezTo>
                  <a:pt x="8798" y="8561"/>
                  <a:pt x="8833" y="8431"/>
                  <a:pt x="8905" y="8434"/>
                </a:cubicBezTo>
                <a:cubicBezTo>
                  <a:pt x="9015" y="8438"/>
                  <a:pt x="9099" y="8517"/>
                  <a:pt x="9203" y="8533"/>
                </a:cubicBezTo>
                <a:cubicBezTo>
                  <a:pt x="9228" y="8533"/>
                  <a:pt x="9252" y="8533"/>
                  <a:pt x="9277" y="8533"/>
                </a:cubicBezTo>
              </a:path>
              <a:path w="3920" h="2134">
                <a:moveTo>
                  <a:pt x="9599" y="6995"/>
                </a:moveTo>
                <a:cubicBezTo>
                  <a:pt x="9841" y="7319"/>
                  <a:pt x="9959" y="7531"/>
                  <a:pt x="9947" y="7962"/>
                </a:cubicBezTo>
                <a:cubicBezTo>
                  <a:pt x="9942" y="8137"/>
                  <a:pt x="9898" y="8365"/>
                  <a:pt x="9847" y="8533"/>
                </a:cubicBezTo>
                <a:cubicBezTo>
                  <a:pt x="9807" y="8664"/>
                  <a:pt x="9725" y="8792"/>
                  <a:pt x="9599" y="8855"/>
                </a:cubicBezTo>
                <a:cubicBezTo>
                  <a:pt x="9513" y="8898"/>
                  <a:pt x="9461" y="8876"/>
                  <a:pt x="9376" y="8855"/>
                </a:cubicBezTo>
              </a:path>
              <a:path w="3920" h="2134">
                <a:moveTo>
                  <a:pt x="6499" y="6747"/>
                </a:moveTo>
                <a:cubicBezTo>
                  <a:pt x="6355" y="6930"/>
                  <a:pt x="6182" y="7153"/>
                  <a:pt x="6102" y="7367"/>
                </a:cubicBezTo>
                <a:cubicBezTo>
                  <a:pt x="6048" y="7513"/>
                  <a:pt x="5991" y="7755"/>
                  <a:pt x="6028" y="7913"/>
                </a:cubicBezTo>
                <a:cubicBezTo>
                  <a:pt x="6084" y="8152"/>
                  <a:pt x="6168" y="8301"/>
                  <a:pt x="6276" y="85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Ink 6"/>
          <p:cNvSpPr/>
          <p:nvPr/>
        </p:nvSpPr>
        <p:spPr>
          <a:xfrm>
            <a:off x="1571760" y="3705120"/>
            <a:ext cx="411120" cy="696960"/>
          </a:xfrm>
          <a:custGeom>
            <a:avLst/>
            <a:gdLst/>
            <a:ahLst/>
            <a:rect l="l" t="t" r="r" b="b"/>
            <a:pathLst>
              <a:path w="1142" h="1936">
                <a:moveTo>
                  <a:pt x="4366" y="10840"/>
                </a:moveTo>
                <a:cubicBezTo>
                  <a:pt x="4366" y="10939"/>
                  <a:pt x="4366" y="11038"/>
                  <a:pt x="4366" y="11137"/>
                </a:cubicBezTo>
                <a:cubicBezTo>
                  <a:pt x="4366" y="11290"/>
                  <a:pt x="4393" y="11008"/>
                  <a:pt x="4390" y="10988"/>
                </a:cubicBezTo>
                <a:cubicBezTo>
                  <a:pt x="4373" y="10886"/>
                  <a:pt x="4366" y="10797"/>
                  <a:pt x="4366" y="10691"/>
                </a:cubicBezTo>
                <a:cubicBezTo>
                  <a:pt x="4366" y="10616"/>
                  <a:pt x="4367" y="10537"/>
                  <a:pt x="4390" y="10468"/>
                </a:cubicBezTo>
                <a:cubicBezTo>
                  <a:pt x="4417" y="10386"/>
                  <a:pt x="4483" y="10318"/>
                  <a:pt x="4564" y="10294"/>
                </a:cubicBezTo>
                <a:cubicBezTo>
                  <a:pt x="4641" y="10271"/>
                  <a:pt x="4718" y="10307"/>
                  <a:pt x="4787" y="10319"/>
                </a:cubicBezTo>
                <a:cubicBezTo>
                  <a:pt x="4839" y="10319"/>
                  <a:pt x="4857" y="10320"/>
                  <a:pt x="4887" y="10344"/>
                </a:cubicBezTo>
              </a:path>
              <a:path w="1142" h="1936">
                <a:moveTo>
                  <a:pt x="4713" y="10666"/>
                </a:moveTo>
                <a:cubicBezTo>
                  <a:pt x="4762" y="10666"/>
                  <a:pt x="4985" y="10633"/>
                  <a:pt x="5011" y="10691"/>
                </a:cubicBezTo>
                <a:cubicBezTo>
                  <a:pt x="5039" y="10753"/>
                  <a:pt x="4972" y="10845"/>
                  <a:pt x="4936" y="10889"/>
                </a:cubicBezTo>
                <a:cubicBezTo>
                  <a:pt x="4892" y="10943"/>
                  <a:pt x="4836" y="10989"/>
                  <a:pt x="4787" y="11038"/>
                </a:cubicBezTo>
                <a:cubicBezTo>
                  <a:pt x="4856" y="11107"/>
                  <a:pt x="4912" y="11088"/>
                  <a:pt x="5011" y="11088"/>
                </a:cubicBezTo>
                <a:cubicBezTo>
                  <a:pt x="5077" y="11088"/>
                  <a:pt x="5143" y="11088"/>
                  <a:pt x="5209" y="11088"/>
                </a:cubicBezTo>
              </a:path>
              <a:path w="1142" h="1936">
                <a:moveTo>
                  <a:pt x="4490" y="11261"/>
                </a:moveTo>
                <a:cubicBezTo>
                  <a:pt x="4633" y="11273"/>
                  <a:pt x="4762" y="11286"/>
                  <a:pt x="4911" y="11286"/>
                </a:cubicBezTo>
                <a:cubicBezTo>
                  <a:pt x="5001" y="11286"/>
                  <a:pt x="5076" y="11278"/>
                  <a:pt x="5159" y="11261"/>
                </a:cubicBezTo>
              </a:path>
              <a:path w="1142" h="1936">
                <a:moveTo>
                  <a:pt x="4713" y="11633"/>
                </a:moveTo>
                <a:cubicBezTo>
                  <a:pt x="4779" y="11596"/>
                  <a:pt x="4879" y="11546"/>
                  <a:pt x="4961" y="11559"/>
                </a:cubicBezTo>
                <a:cubicBezTo>
                  <a:pt x="5059" y="11574"/>
                  <a:pt x="5097" y="11584"/>
                  <a:pt x="5110" y="11683"/>
                </a:cubicBezTo>
                <a:cubicBezTo>
                  <a:pt x="5122" y="11774"/>
                  <a:pt x="5107" y="11903"/>
                  <a:pt x="5060" y="11981"/>
                </a:cubicBezTo>
                <a:cubicBezTo>
                  <a:pt x="5015" y="12056"/>
                  <a:pt x="4963" y="12151"/>
                  <a:pt x="4887" y="12204"/>
                </a:cubicBezTo>
                <a:cubicBezTo>
                  <a:pt x="4831" y="12243"/>
                  <a:pt x="4810" y="12233"/>
                  <a:pt x="4762" y="12204"/>
                </a:cubicBezTo>
                <a:cubicBezTo>
                  <a:pt x="4772" y="12123"/>
                  <a:pt x="4775" y="12085"/>
                  <a:pt x="4862" y="12080"/>
                </a:cubicBezTo>
                <a:cubicBezTo>
                  <a:pt x="4927" y="12076"/>
                  <a:pt x="5027" y="12084"/>
                  <a:pt x="5085" y="12105"/>
                </a:cubicBezTo>
                <a:cubicBezTo>
                  <a:pt x="5151" y="12129"/>
                  <a:pt x="5237" y="12132"/>
                  <a:pt x="5308" y="12154"/>
                </a:cubicBezTo>
                <a:cubicBezTo>
                  <a:pt x="5429" y="12191"/>
                  <a:pt x="5450" y="12192"/>
                  <a:pt x="5507" y="120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Ink 7"/>
          <p:cNvSpPr/>
          <p:nvPr/>
        </p:nvSpPr>
        <p:spPr>
          <a:xfrm>
            <a:off x="1401840" y="4830840"/>
            <a:ext cx="750960" cy="893520"/>
          </a:xfrm>
          <a:custGeom>
            <a:avLst/>
            <a:gdLst/>
            <a:ahLst/>
            <a:rect l="l" t="t" r="r" b="b"/>
            <a:pathLst>
              <a:path w="2085" h="2482">
                <a:moveTo>
                  <a:pt x="4068" y="14387"/>
                </a:moveTo>
                <a:lnTo>
                  <a:pt x="4068" y="14387"/>
                </a:lnTo>
              </a:path>
              <a:path w="2085" h="2482">
                <a:moveTo>
                  <a:pt x="4068" y="14387"/>
                </a:moveTo>
                <a:cubicBezTo>
                  <a:pt x="4060" y="14379"/>
                  <a:pt x="4051" y="14370"/>
                  <a:pt x="4043" y="14362"/>
                </a:cubicBezTo>
              </a:path>
              <a:path w="2085" h="2482">
                <a:moveTo>
                  <a:pt x="4043" y="14362"/>
                </a:moveTo>
                <a:cubicBezTo>
                  <a:pt x="4066" y="14301"/>
                  <a:pt x="4104" y="14227"/>
                  <a:pt x="4118" y="14163"/>
                </a:cubicBezTo>
                <a:cubicBezTo>
                  <a:pt x="4133" y="14097"/>
                  <a:pt x="4145" y="14015"/>
                  <a:pt x="4242" y="14015"/>
                </a:cubicBezTo>
                <a:cubicBezTo>
                  <a:pt x="4346" y="14015"/>
                  <a:pt x="4316" y="14154"/>
                  <a:pt x="4316" y="14213"/>
                </a:cubicBezTo>
                <a:cubicBezTo>
                  <a:pt x="4316" y="14293"/>
                  <a:pt x="4318" y="14346"/>
                  <a:pt x="4291" y="14412"/>
                </a:cubicBezTo>
                <a:cubicBezTo>
                  <a:pt x="4265" y="14477"/>
                  <a:pt x="4281" y="14544"/>
                  <a:pt x="4217" y="14585"/>
                </a:cubicBezTo>
                <a:cubicBezTo>
                  <a:pt x="4143" y="14633"/>
                  <a:pt x="4134" y="14676"/>
                  <a:pt x="4068" y="14734"/>
                </a:cubicBezTo>
                <a:cubicBezTo>
                  <a:pt x="4027" y="14770"/>
                  <a:pt x="3938" y="14774"/>
                  <a:pt x="3919" y="14709"/>
                </a:cubicBezTo>
                <a:cubicBezTo>
                  <a:pt x="3900" y="14642"/>
                  <a:pt x="3892" y="14616"/>
                  <a:pt x="3944" y="14560"/>
                </a:cubicBezTo>
                <a:cubicBezTo>
                  <a:pt x="3986" y="14514"/>
                  <a:pt x="4069" y="14530"/>
                  <a:pt x="4118" y="14560"/>
                </a:cubicBezTo>
                <a:cubicBezTo>
                  <a:pt x="4170" y="14592"/>
                  <a:pt x="4209" y="14703"/>
                  <a:pt x="4242" y="14759"/>
                </a:cubicBezTo>
                <a:cubicBezTo>
                  <a:pt x="4250" y="14775"/>
                  <a:pt x="4258" y="14792"/>
                  <a:pt x="4266" y="14808"/>
                </a:cubicBezTo>
              </a:path>
              <a:path w="2085" h="2482">
                <a:moveTo>
                  <a:pt x="3894" y="14957"/>
                </a:moveTo>
                <a:cubicBezTo>
                  <a:pt x="3961" y="14950"/>
                  <a:pt x="4032" y="14945"/>
                  <a:pt x="4093" y="14908"/>
                </a:cubicBezTo>
                <a:cubicBezTo>
                  <a:pt x="4140" y="14880"/>
                  <a:pt x="4232" y="14843"/>
                  <a:pt x="4291" y="14833"/>
                </a:cubicBezTo>
                <a:cubicBezTo>
                  <a:pt x="4357" y="14833"/>
                  <a:pt x="4374" y="14833"/>
                  <a:pt x="4415" y="14833"/>
                </a:cubicBezTo>
              </a:path>
              <a:path w="2085" h="2482">
                <a:moveTo>
                  <a:pt x="4142" y="15131"/>
                </a:moveTo>
                <a:cubicBezTo>
                  <a:pt x="4104" y="15259"/>
                  <a:pt x="4074" y="15369"/>
                  <a:pt x="4068" y="15503"/>
                </a:cubicBezTo>
                <a:cubicBezTo>
                  <a:pt x="4065" y="15580"/>
                  <a:pt x="4043" y="15647"/>
                  <a:pt x="4043" y="15726"/>
                </a:cubicBezTo>
                <a:cubicBezTo>
                  <a:pt x="4043" y="15794"/>
                  <a:pt x="4051" y="15845"/>
                  <a:pt x="4018" y="15900"/>
                </a:cubicBezTo>
                <a:cubicBezTo>
                  <a:pt x="3987" y="15846"/>
                  <a:pt x="3992" y="15762"/>
                  <a:pt x="4018" y="15701"/>
                </a:cubicBezTo>
                <a:cubicBezTo>
                  <a:pt x="4045" y="15639"/>
                  <a:pt x="4053" y="15569"/>
                  <a:pt x="4093" y="15503"/>
                </a:cubicBezTo>
                <a:cubicBezTo>
                  <a:pt x="4133" y="15438"/>
                  <a:pt x="4130" y="15409"/>
                  <a:pt x="4192" y="15354"/>
                </a:cubicBezTo>
                <a:cubicBezTo>
                  <a:pt x="4257" y="15296"/>
                  <a:pt x="4298" y="15176"/>
                  <a:pt x="4366" y="15131"/>
                </a:cubicBezTo>
                <a:cubicBezTo>
                  <a:pt x="4411" y="15101"/>
                  <a:pt x="4531" y="15019"/>
                  <a:pt x="4589" y="15032"/>
                </a:cubicBezTo>
                <a:cubicBezTo>
                  <a:pt x="4629" y="15052"/>
                  <a:pt x="4636" y="15060"/>
                  <a:pt x="4663" y="15056"/>
                </a:cubicBezTo>
              </a:path>
              <a:path w="2085" h="2482">
                <a:moveTo>
                  <a:pt x="4440" y="15304"/>
                </a:moveTo>
                <a:cubicBezTo>
                  <a:pt x="4434" y="15292"/>
                  <a:pt x="4442" y="15195"/>
                  <a:pt x="4465" y="15180"/>
                </a:cubicBezTo>
                <a:cubicBezTo>
                  <a:pt x="4530" y="15138"/>
                  <a:pt x="4608" y="15196"/>
                  <a:pt x="4638" y="15230"/>
                </a:cubicBezTo>
                <a:cubicBezTo>
                  <a:pt x="4686" y="15283"/>
                  <a:pt x="4663" y="15382"/>
                  <a:pt x="4663" y="15453"/>
                </a:cubicBezTo>
                <a:cubicBezTo>
                  <a:pt x="4663" y="15511"/>
                  <a:pt x="4638" y="15572"/>
                  <a:pt x="4614" y="15627"/>
                </a:cubicBezTo>
                <a:cubicBezTo>
                  <a:pt x="4595" y="15671"/>
                  <a:pt x="4556" y="15724"/>
                  <a:pt x="4514" y="15751"/>
                </a:cubicBezTo>
                <a:cubicBezTo>
                  <a:pt x="4466" y="15775"/>
                  <a:pt x="4452" y="15784"/>
                  <a:pt x="4415" y="15776"/>
                </a:cubicBezTo>
                <a:cubicBezTo>
                  <a:pt x="4393" y="15721"/>
                  <a:pt x="4430" y="15619"/>
                  <a:pt x="4465" y="15553"/>
                </a:cubicBezTo>
                <a:cubicBezTo>
                  <a:pt x="4492" y="15502"/>
                  <a:pt x="4538" y="15481"/>
                  <a:pt x="4589" y="15478"/>
                </a:cubicBezTo>
                <a:cubicBezTo>
                  <a:pt x="4683" y="15472"/>
                  <a:pt x="4659" y="15520"/>
                  <a:pt x="4688" y="15577"/>
                </a:cubicBezTo>
                <a:cubicBezTo>
                  <a:pt x="4714" y="15628"/>
                  <a:pt x="4708" y="15677"/>
                  <a:pt x="4738" y="15726"/>
                </a:cubicBezTo>
              </a:path>
              <a:path w="2085" h="2482">
                <a:moveTo>
                  <a:pt x="5159" y="15106"/>
                </a:moveTo>
                <a:cubicBezTo>
                  <a:pt x="5195" y="15166"/>
                  <a:pt x="5199" y="15268"/>
                  <a:pt x="5209" y="15329"/>
                </a:cubicBezTo>
                <a:cubicBezTo>
                  <a:pt x="5219" y="15388"/>
                  <a:pt x="5224" y="15454"/>
                  <a:pt x="5234" y="15503"/>
                </a:cubicBezTo>
                <a:cubicBezTo>
                  <a:pt x="5247" y="15568"/>
                  <a:pt x="5255" y="15640"/>
                  <a:pt x="5259" y="15701"/>
                </a:cubicBezTo>
                <a:cubicBezTo>
                  <a:pt x="5259" y="15718"/>
                  <a:pt x="5259" y="15734"/>
                  <a:pt x="5259" y="15751"/>
                </a:cubicBezTo>
                <a:cubicBezTo>
                  <a:pt x="5249" y="15665"/>
                  <a:pt x="5234" y="15592"/>
                  <a:pt x="5234" y="15503"/>
                </a:cubicBezTo>
                <a:cubicBezTo>
                  <a:pt x="5234" y="15396"/>
                  <a:pt x="5244" y="15308"/>
                  <a:pt x="5259" y="15205"/>
                </a:cubicBezTo>
                <a:cubicBezTo>
                  <a:pt x="5271" y="15119"/>
                  <a:pt x="5334" y="15084"/>
                  <a:pt x="5383" y="15007"/>
                </a:cubicBezTo>
                <a:cubicBezTo>
                  <a:pt x="5411" y="14963"/>
                  <a:pt x="5435" y="14914"/>
                  <a:pt x="5482" y="14883"/>
                </a:cubicBezTo>
                <a:cubicBezTo>
                  <a:pt x="5531" y="14851"/>
                  <a:pt x="5596" y="14797"/>
                  <a:pt x="5655" y="14784"/>
                </a:cubicBezTo>
                <a:cubicBezTo>
                  <a:pt x="5706" y="14773"/>
                  <a:pt x="5727" y="14767"/>
                  <a:pt x="5779" y="14759"/>
                </a:cubicBezTo>
              </a:path>
              <a:path w="2085" h="2482">
                <a:moveTo>
                  <a:pt x="5606" y="14982"/>
                </a:moveTo>
                <a:cubicBezTo>
                  <a:pt x="5581" y="15007"/>
                  <a:pt x="5573" y="15015"/>
                  <a:pt x="5556" y="15032"/>
                </a:cubicBezTo>
                <a:cubicBezTo>
                  <a:pt x="5532" y="14972"/>
                  <a:pt x="5557" y="14957"/>
                  <a:pt x="5606" y="14908"/>
                </a:cubicBezTo>
                <a:cubicBezTo>
                  <a:pt x="5656" y="14859"/>
                  <a:pt x="5706" y="14895"/>
                  <a:pt x="5755" y="14932"/>
                </a:cubicBezTo>
                <a:cubicBezTo>
                  <a:pt x="5825" y="14984"/>
                  <a:pt x="5804" y="15048"/>
                  <a:pt x="5804" y="15131"/>
                </a:cubicBezTo>
                <a:cubicBezTo>
                  <a:pt x="5804" y="15212"/>
                  <a:pt x="5791" y="15279"/>
                  <a:pt x="5779" y="15354"/>
                </a:cubicBezTo>
                <a:cubicBezTo>
                  <a:pt x="5767" y="15430"/>
                  <a:pt x="5743" y="15486"/>
                  <a:pt x="5705" y="15553"/>
                </a:cubicBezTo>
                <a:cubicBezTo>
                  <a:pt x="5681" y="15596"/>
                  <a:pt x="5665" y="15617"/>
                  <a:pt x="5631" y="15652"/>
                </a:cubicBezTo>
                <a:cubicBezTo>
                  <a:pt x="5560" y="15593"/>
                  <a:pt x="5549" y="15557"/>
                  <a:pt x="5581" y="15453"/>
                </a:cubicBezTo>
                <a:cubicBezTo>
                  <a:pt x="5603" y="15410"/>
                  <a:pt x="5607" y="15398"/>
                  <a:pt x="5631" y="15379"/>
                </a:cubicBezTo>
                <a:cubicBezTo>
                  <a:pt x="5660" y="15403"/>
                  <a:pt x="5743" y="15437"/>
                  <a:pt x="5755" y="15478"/>
                </a:cubicBezTo>
                <a:cubicBezTo>
                  <a:pt x="5773" y="15540"/>
                  <a:pt x="5774" y="15612"/>
                  <a:pt x="5779" y="15677"/>
                </a:cubicBezTo>
              </a:path>
              <a:path w="2085" h="2482">
                <a:moveTo>
                  <a:pt x="4887" y="14511"/>
                </a:moveTo>
                <a:cubicBezTo>
                  <a:pt x="4859" y="14456"/>
                  <a:pt x="4896" y="14440"/>
                  <a:pt x="4961" y="14436"/>
                </a:cubicBezTo>
                <a:cubicBezTo>
                  <a:pt x="5025" y="14432"/>
                  <a:pt x="5064" y="14412"/>
                  <a:pt x="5135" y="14412"/>
                </a:cubicBezTo>
                <a:cubicBezTo>
                  <a:pt x="5302" y="14412"/>
                  <a:pt x="5480" y="14418"/>
                  <a:pt x="5631" y="14387"/>
                </a:cubicBezTo>
                <a:cubicBezTo>
                  <a:pt x="5680" y="14387"/>
                  <a:pt x="5697" y="14387"/>
                  <a:pt x="5730" y="14387"/>
                </a:cubicBezTo>
              </a:path>
              <a:path w="2085" h="2482">
                <a:moveTo>
                  <a:pt x="5308" y="14039"/>
                </a:moveTo>
                <a:cubicBezTo>
                  <a:pt x="5300" y="14127"/>
                  <a:pt x="5298" y="14223"/>
                  <a:pt x="5283" y="14312"/>
                </a:cubicBezTo>
                <a:cubicBezTo>
                  <a:pt x="5264" y="14424"/>
                  <a:pt x="5265" y="14438"/>
                  <a:pt x="5259" y="14312"/>
                </a:cubicBezTo>
                <a:cubicBezTo>
                  <a:pt x="5253" y="14199"/>
                  <a:pt x="5272" y="14095"/>
                  <a:pt x="5283" y="13990"/>
                </a:cubicBezTo>
                <a:cubicBezTo>
                  <a:pt x="5292" y="13899"/>
                  <a:pt x="5297" y="13776"/>
                  <a:pt x="5333" y="13692"/>
                </a:cubicBezTo>
                <a:cubicBezTo>
                  <a:pt x="5353" y="13646"/>
                  <a:pt x="5423" y="13624"/>
                  <a:pt x="5457" y="13593"/>
                </a:cubicBezTo>
                <a:cubicBezTo>
                  <a:pt x="5509" y="13546"/>
                  <a:pt x="5526" y="13546"/>
                  <a:pt x="5581" y="13519"/>
                </a:cubicBezTo>
                <a:cubicBezTo>
                  <a:pt x="5646" y="13487"/>
                  <a:pt x="5677" y="13448"/>
                  <a:pt x="5755" y="13444"/>
                </a:cubicBezTo>
                <a:cubicBezTo>
                  <a:pt x="5822" y="13444"/>
                  <a:pt x="5856" y="13440"/>
                  <a:pt x="5904" y="13419"/>
                </a:cubicBezTo>
              </a:path>
              <a:path w="2085" h="2482">
                <a:moveTo>
                  <a:pt x="5631" y="13742"/>
                </a:moveTo>
                <a:cubicBezTo>
                  <a:pt x="5606" y="13717"/>
                  <a:pt x="5598" y="13709"/>
                  <a:pt x="5581" y="13692"/>
                </a:cubicBezTo>
                <a:cubicBezTo>
                  <a:pt x="5627" y="13646"/>
                  <a:pt x="5639" y="13622"/>
                  <a:pt x="5705" y="13618"/>
                </a:cubicBezTo>
                <a:cubicBezTo>
                  <a:pt x="5808" y="13612"/>
                  <a:pt x="5804" y="13671"/>
                  <a:pt x="5829" y="13742"/>
                </a:cubicBezTo>
                <a:cubicBezTo>
                  <a:pt x="5859" y="13827"/>
                  <a:pt x="5832" y="13927"/>
                  <a:pt x="5804" y="14015"/>
                </a:cubicBezTo>
                <a:cubicBezTo>
                  <a:pt x="5780" y="14090"/>
                  <a:pt x="5758" y="14111"/>
                  <a:pt x="5705" y="14163"/>
                </a:cubicBezTo>
                <a:cubicBezTo>
                  <a:pt x="5675" y="14193"/>
                  <a:pt x="5661" y="14204"/>
                  <a:pt x="5631" y="14213"/>
                </a:cubicBezTo>
                <a:cubicBezTo>
                  <a:pt x="5591" y="14173"/>
                  <a:pt x="5556" y="14128"/>
                  <a:pt x="5581" y="14064"/>
                </a:cubicBezTo>
                <a:cubicBezTo>
                  <a:pt x="5606" y="14000"/>
                  <a:pt x="5677" y="13992"/>
                  <a:pt x="5730" y="13990"/>
                </a:cubicBezTo>
                <a:cubicBezTo>
                  <a:pt x="5812" y="13987"/>
                  <a:pt x="5854" y="14027"/>
                  <a:pt x="5928" y="14064"/>
                </a:cubicBezTo>
                <a:cubicBezTo>
                  <a:pt x="5945" y="14072"/>
                  <a:pt x="5961" y="14081"/>
                  <a:pt x="5978" y="140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Ink 8"/>
          <p:cNvSpPr/>
          <p:nvPr/>
        </p:nvSpPr>
        <p:spPr>
          <a:xfrm>
            <a:off x="4143240" y="3741840"/>
            <a:ext cx="706680" cy="652320"/>
          </a:xfrm>
          <a:custGeom>
            <a:avLst/>
            <a:gdLst/>
            <a:ahLst/>
            <a:rect l="l" t="t" r="r" b="b"/>
            <a:pathLst>
              <a:path w="1961" h="1812">
                <a:moveTo>
                  <a:pt x="11509" y="10840"/>
                </a:moveTo>
                <a:cubicBezTo>
                  <a:pt x="11621" y="10818"/>
                  <a:pt x="11718" y="10815"/>
                  <a:pt x="11832" y="10815"/>
                </a:cubicBezTo>
              </a:path>
              <a:path w="1961" h="1812">
                <a:moveTo>
                  <a:pt x="12278" y="10765"/>
                </a:moveTo>
                <a:cubicBezTo>
                  <a:pt x="12297" y="10880"/>
                  <a:pt x="12315" y="10999"/>
                  <a:pt x="12328" y="11112"/>
                </a:cubicBezTo>
                <a:cubicBezTo>
                  <a:pt x="12332" y="11149"/>
                  <a:pt x="12328" y="11416"/>
                  <a:pt x="12328" y="11286"/>
                </a:cubicBezTo>
                <a:cubicBezTo>
                  <a:pt x="12328" y="11071"/>
                  <a:pt x="12265" y="10740"/>
                  <a:pt x="12353" y="10542"/>
                </a:cubicBezTo>
                <a:cubicBezTo>
                  <a:pt x="12385" y="10469"/>
                  <a:pt x="12448" y="10434"/>
                  <a:pt x="12526" y="10418"/>
                </a:cubicBezTo>
                <a:cubicBezTo>
                  <a:pt x="12627" y="10397"/>
                  <a:pt x="12718" y="10393"/>
                  <a:pt x="12824" y="10393"/>
                </a:cubicBezTo>
              </a:path>
              <a:path w="1961" h="1812">
                <a:moveTo>
                  <a:pt x="12626" y="10641"/>
                </a:moveTo>
                <a:cubicBezTo>
                  <a:pt x="12680" y="10674"/>
                  <a:pt x="12731" y="10666"/>
                  <a:pt x="12799" y="10666"/>
                </a:cubicBezTo>
                <a:cubicBezTo>
                  <a:pt x="12851" y="10666"/>
                  <a:pt x="12869" y="10665"/>
                  <a:pt x="12898" y="10641"/>
                </a:cubicBezTo>
                <a:cubicBezTo>
                  <a:pt x="12921" y="10708"/>
                  <a:pt x="12888" y="10803"/>
                  <a:pt x="12824" y="10864"/>
                </a:cubicBezTo>
                <a:cubicBezTo>
                  <a:pt x="12750" y="10935"/>
                  <a:pt x="12638" y="10965"/>
                  <a:pt x="12700" y="11088"/>
                </a:cubicBezTo>
                <a:cubicBezTo>
                  <a:pt x="12742" y="11170"/>
                  <a:pt x="12858" y="11158"/>
                  <a:pt x="12923" y="11187"/>
                </a:cubicBezTo>
                <a:cubicBezTo>
                  <a:pt x="12992" y="11217"/>
                  <a:pt x="13064" y="11212"/>
                  <a:pt x="13146" y="11212"/>
                </a:cubicBezTo>
              </a:path>
              <a:path w="1961" h="1812">
                <a:moveTo>
                  <a:pt x="12353" y="11361"/>
                </a:moveTo>
                <a:cubicBezTo>
                  <a:pt x="12537" y="11361"/>
                  <a:pt x="12716" y="11360"/>
                  <a:pt x="12898" y="11385"/>
                </a:cubicBezTo>
                <a:cubicBezTo>
                  <a:pt x="13063" y="11407"/>
                  <a:pt x="13129" y="11403"/>
                  <a:pt x="13271" y="11385"/>
                </a:cubicBezTo>
              </a:path>
              <a:path w="1961" h="1812">
                <a:moveTo>
                  <a:pt x="12725" y="11658"/>
                </a:moveTo>
                <a:cubicBezTo>
                  <a:pt x="12796" y="11658"/>
                  <a:pt x="12834" y="11637"/>
                  <a:pt x="12898" y="11633"/>
                </a:cubicBezTo>
                <a:cubicBezTo>
                  <a:pt x="12949" y="11630"/>
                  <a:pt x="13038" y="11614"/>
                  <a:pt x="13072" y="11658"/>
                </a:cubicBezTo>
                <a:cubicBezTo>
                  <a:pt x="13111" y="11709"/>
                  <a:pt x="13112" y="11830"/>
                  <a:pt x="13072" y="11881"/>
                </a:cubicBezTo>
                <a:cubicBezTo>
                  <a:pt x="13024" y="11943"/>
                  <a:pt x="12895" y="12100"/>
                  <a:pt x="12824" y="12154"/>
                </a:cubicBezTo>
                <a:cubicBezTo>
                  <a:pt x="12780" y="12176"/>
                  <a:pt x="12769" y="12179"/>
                  <a:pt x="12750" y="12204"/>
                </a:cubicBezTo>
                <a:cubicBezTo>
                  <a:pt x="12870" y="12204"/>
                  <a:pt x="12981" y="12192"/>
                  <a:pt x="13097" y="12179"/>
                </a:cubicBezTo>
                <a:cubicBezTo>
                  <a:pt x="13216" y="12166"/>
                  <a:pt x="13348" y="12248"/>
                  <a:pt x="13469" y="12204"/>
                </a:cubicBezTo>
                <a:cubicBezTo>
                  <a:pt x="13461" y="12196"/>
                  <a:pt x="13452" y="12187"/>
                  <a:pt x="13444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Ink 9"/>
          <p:cNvSpPr/>
          <p:nvPr/>
        </p:nvSpPr>
        <p:spPr>
          <a:xfrm>
            <a:off x="7108920" y="3670200"/>
            <a:ext cx="490320" cy="625680"/>
          </a:xfrm>
          <a:custGeom>
            <a:avLst/>
            <a:gdLst/>
            <a:ahLst/>
            <a:rect l="l" t="t" r="r" b="b"/>
            <a:pathLst>
              <a:path w="1365" h="1737">
                <a:moveTo>
                  <a:pt x="19745" y="10889"/>
                </a:moveTo>
                <a:cubicBezTo>
                  <a:pt x="19838" y="10889"/>
                  <a:pt x="19908" y="10897"/>
                  <a:pt x="19993" y="10914"/>
                </a:cubicBezTo>
                <a:cubicBezTo>
                  <a:pt x="20089" y="10933"/>
                  <a:pt x="20206" y="10951"/>
                  <a:pt x="20290" y="10964"/>
                </a:cubicBezTo>
                <a:cubicBezTo>
                  <a:pt x="20384" y="10978"/>
                  <a:pt x="20405" y="11010"/>
                  <a:pt x="20489" y="11038"/>
                </a:cubicBezTo>
                <a:cubicBezTo>
                  <a:pt x="20497" y="11038"/>
                  <a:pt x="20505" y="11038"/>
                  <a:pt x="20513" y="11038"/>
                </a:cubicBezTo>
              </a:path>
              <a:path w="1365" h="1737">
                <a:moveTo>
                  <a:pt x="21109" y="10244"/>
                </a:moveTo>
                <a:cubicBezTo>
                  <a:pt x="21084" y="10146"/>
                  <a:pt x="21056" y="10308"/>
                  <a:pt x="21034" y="10368"/>
                </a:cubicBezTo>
                <a:cubicBezTo>
                  <a:pt x="20998" y="10466"/>
                  <a:pt x="20972" y="10569"/>
                  <a:pt x="20935" y="10666"/>
                </a:cubicBezTo>
                <a:cubicBezTo>
                  <a:pt x="20886" y="10796"/>
                  <a:pt x="20865" y="10922"/>
                  <a:pt x="20861" y="11063"/>
                </a:cubicBezTo>
                <a:cubicBezTo>
                  <a:pt x="20858" y="11179"/>
                  <a:pt x="20855" y="11320"/>
                  <a:pt x="20836" y="11435"/>
                </a:cubicBezTo>
                <a:cubicBezTo>
                  <a:pt x="20816" y="11555"/>
                  <a:pt x="20791" y="11685"/>
                  <a:pt x="20786" y="11807"/>
                </a:cubicBezTo>
                <a:cubicBezTo>
                  <a:pt x="20782" y="11897"/>
                  <a:pt x="20710" y="11937"/>
                  <a:pt x="20786" y="119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Ink 10"/>
          <p:cNvSpPr/>
          <p:nvPr/>
        </p:nvSpPr>
        <p:spPr>
          <a:xfrm>
            <a:off x="7062840" y="5027760"/>
            <a:ext cx="430200" cy="482400"/>
          </a:xfrm>
          <a:custGeom>
            <a:avLst/>
            <a:gdLst/>
            <a:ahLst/>
            <a:rect l="l" t="t" r="r" b="b"/>
            <a:pathLst>
              <a:path w="1191" h="1340">
                <a:moveTo>
                  <a:pt x="19621" y="14709"/>
                </a:moveTo>
                <a:cubicBezTo>
                  <a:pt x="19681" y="14660"/>
                  <a:pt x="19745" y="14636"/>
                  <a:pt x="19819" y="14610"/>
                </a:cubicBezTo>
                <a:cubicBezTo>
                  <a:pt x="19902" y="14581"/>
                  <a:pt x="19984" y="14564"/>
                  <a:pt x="20067" y="14560"/>
                </a:cubicBezTo>
                <a:cubicBezTo>
                  <a:pt x="20124" y="14557"/>
                  <a:pt x="20146" y="14558"/>
                  <a:pt x="20191" y="14585"/>
                </a:cubicBezTo>
              </a:path>
              <a:path w="1191" h="1340">
                <a:moveTo>
                  <a:pt x="20811" y="13965"/>
                </a:moveTo>
                <a:cubicBezTo>
                  <a:pt x="20804" y="14143"/>
                  <a:pt x="20759" y="14265"/>
                  <a:pt x="20737" y="14436"/>
                </a:cubicBezTo>
                <a:cubicBezTo>
                  <a:pt x="20720" y="14571"/>
                  <a:pt x="20698" y="14700"/>
                  <a:pt x="20662" y="14833"/>
                </a:cubicBezTo>
                <a:cubicBezTo>
                  <a:pt x="20636" y="14931"/>
                  <a:pt x="20618" y="15031"/>
                  <a:pt x="20613" y="15131"/>
                </a:cubicBezTo>
                <a:cubicBezTo>
                  <a:pt x="20610" y="15197"/>
                  <a:pt x="20606" y="15252"/>
                  <a:pt x="20638" y="153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Ink 11"/>
          <p:cNvSpPr/>
          <p:nvPr/>
        </p:nvSpPr>
        <p:spPr>
          <a:xfrm>
            <a:off x="2044800" y="4786200"/>
            <a:ext cx="965160" cy="1536840"/>
          </a:xfrm>
          <a:custGeom>
            <a:avLst/>
            <a:gdLst/>
            <a:ahLst/>
            <a:rect l="l" t="t" r="r" b="b"/>
            <a:pathLst>
              <a:path w="2680" h="4268">
                <a:moveTo>
                  <a:pt x="6201" y="14238"/>
                </a:moveTo>
                <a:cubicBezTo>
                  <a:pt x="6255" y="14246"/>
                  <a:pt x="6320" y="14247"/>
                  <a:pt x="6375" y="14263"/>
                </a:cubicBezTo>
                <a:cubicBezTo>
                  <a:pt x="6418" y="14285"/>
                  <a:pt x="6429" y="14289"/>
                  <a:pt x="6449" y="14312"/>
                </a:cubicBezTo>
              </a:path>
              <a:path w="2680" h="4268">
                <a:moveTo>
                  <a:pt x="6300" y="14536"/>
                </a:moveTo>
                <a:cubicBezTo>
                  <a:pt x="6360" y="14571"/>
                  <a:pt x="6425" y="14560"/>
                  <a:pt x="6499" y="14560"/>
                </a:cubicBezTo>
              </a:path>
              <a:path w="2680" h="4268">
                <a:moveTo>
                  <a:pt x="7069" y="13866"/>
                </a:moveTo>
                <a:cubicBezTo>
                  <a:pt x="7069" y="13917"/>
                  <a:pt x="7068" y="13935"/>
                  <a:pt x="7045" y="13965"/>
                </a:cubicBezTo>
                <a:cubicBezTo>
                  <a:pt x="7002" y="13880"/>
                  <a:pt x="7035" y="13868"/>
                  <a:pt x="7069" y="13791"/>
                </a:cubicBezTo>
                <a:cubicBezTo>
                  <a:pt x="7084" y="13758"/>
                  <a:pt x="7116" y="13654"/>
                  <a:pt x="7169" y="13643"/>
                </a:cubicBezTo>
                <a:cubicBezTo>
                  <a:pt x="7214" y="13634"/>
                  <a:pt x="7329" y="13655"/>
                  <a:pt x="7342" y="13717"/>
                </a:cubicBezTo>
                <a:cubicBezTo>
                  <a:pt x="7364" y="13820"/>
                  <a:pt x="7335" y="13941"/>
                  <a:pt x="7317" y="14039"/>
                </a:cubicBezTo>
                <a:cubicBezTo>
                  <a:pt x="7290" y="14184"/>
                  <a:pt x="7265" y="14240"/>
                  <a:pt x="7193" y="14362"/>
                </a:cubicBezTo>
                <a:cubicBezTo>
                  <a:pt x="7140" y="14452"/>
                  <a:pt x="7112" y="14493"/>
                  <a:pt x="7045" y="14560"/>
                </a:cubicBezTo>
                <a:cubicBezTo>
                  <a:pt x="7008" y="14500"/>
                  <a:pt x="7010" y="14432"/>
                  <a:pt x="7045" y="14362"/>
                </a:cubicBezTo>
                <a:cubicBezTo>
                  <a:pt x="7055" y="14341"/>
                  <a:pt x="7125" y="14223"/>
                  <a:pt x="7144" y="14213"/>
                </a:cubicBezTo>
                <a:cubicBezTo>
                  <a:pt x="7227" y="14171"/>
                  <a:pt x="7256" y="14267"/>
                  <a:pt x="7268" y="14312"/>
                </a:cubicBezTo>
                <a:cubicBezTo>
                  <a:pt x="7292" y="14399"/>
                  <a:pt x="7317" y="14443"/>
                  <a:pt x="7317" y="14536"/>
                </a:cubicBezTo>
              </a:path>
              <a:path w="2680" h="4268">
                <a:moveTo>
                  <a:pt x="7665" y="13841"/>
                </a:moveTo>
                <a:cubicBezTo>
                  <a:pt x="7665" y="13970"/>
                  <a:pt x="7669" y="14091"/>
                  <a:pt x="7689" y="14213"/>
                </a:cubicBezTo>
                <a:cubicBezTo>
                  <a:pt x="7689" y="14258"/>
                  <a:pt x="7686" y="14271"/>
                  <a:pt x="7714" y="14288"/>
                </a:cubicBezTo>
                <a:cubicBezTo>
                  <a:pt x="7705" y="14224"/>
                  <a:pt x="7689" y="14185"/>
                  <a:pt x="7689" y="14114"/>
                </a:cubicBezTo>
                <a:cubicBezTo>
                  <a:pt x="7689" y="14009"/>
                  <a:pt x="7704" y="13913"/>
                  <a:pt x="7714" y="13816"/>
                </a:cubicBezTo>
                <a:cubicBezTo>
                  <a:pt x="7724" y="13727"/>
                  <a:pt x="7749" y="13691"/>
                  <a:pt x="7764" y="13618"/>
                </a:cubicBezTo>
                <a:cubicBezTo>
                  <a:pt x="7777" y="13551"/>
                  <a:pt x="7823" y="13507"/>
                  <a:pt x="7888" y="13469"/>
                </a:cubicBezTo>
                <a:cubicBezTo>
                  <a:pt x="7952" y="13432"/>
                  <a:pt x="8027" y="13423"/>
                  <a:pt x="8086" y="13395"/>
                </a:cubicBezTo>
                <a:cubicBezTo>
                  <a:pt x="8141" y="13370"/>
                  <a:pt x="8205" y="13344"/>
                  <a:pt x="8260" y="13320"/>
                </a:cubicBezTo>
                <a:cubicBezTo>
                  <a:pt x="8298" y="13304"/>
                  <a:pt x="8313" y="13300"/>
                  <a:pt x="8359" y="13295"/>
                </a:cubicBezTo>
              </a:path>
              <a:path w="2680" h="4268">
                <a:moveTo>
                  <a:pt x="8136" y="13494"/>
                </a:moveTo>
                <a:cubicBezTo>
                  <a:pt x="8102" y="13552"/>
                  <a:pt x="8093" y="13596"/>
                  <a:pt x="8037" y="13568"/>
                </a:cubicBezTo>
                <a:cubicBezTo>
                  <a:pt x="8043" y="13546"/>
                  <a:pt x="8092" y="13442"/>
                  <a:pt x="8136" y="13444"/>
                </a:cubicBezTo>
                <a:cubicBezTo>
                  <a:pt x="8231" y="13449"/>
                  <a:pt x="8311" y="13472"/>
                  <a:pt x="8334" y="13568"/>
                </a:cubicBezTo>
                <a:cubicBezTo>
                  <a:pt x="8346" y="13619"/>
                  <a:pt x="8375" y="13684"/>
                  <a:pt x="8359" y="13742"/>
                </a:cubicBezTo>
                <a:cubicBezTo>
                  <a:pt x="8330" y="13845"/>
                  <a:pt x="8287" y="13945"/>
                  <a:pt x="8235" y="14039"/>
                </a:cubicBezTo>
                <a:cubicBezTo>
                  <a:pt x="8216" y="14073"/>
                  <a:pt x="8154" y="14151"/>
                  <a:pt x="8111" y="14163"/>
                </a:cubicBezTo>
                <a:cubicBezTo>
                  <a:pt x="8057" y="14178"/>
                  <a:pt x="8001" y="14120"/>
                  <a:pt x="7962" y="14089"/>
                </a:cubicBezTo>
                <a:cubicBezTo>
                  <a:pt x="7996" y="14030"/>
                  <a:pt x="8031" y="13985"/>
                  <a:pt x="8111" y="14015"/>
                </a:cubicBezTo>
                <a:cubicBezTo>
                  <a:pt x="8161" y="14034"/>
                  <a:pt x="8194" y="14048"/>
                  <a:pt x="8235" y="14089"/>
                </a:cubicBezTo>
                <a:cubicBezTo>
                  <a:pt x="8299" y="14154"/>
                  <a:pt x="8303" y="14226"/>
                  <a:pt x="8310" y="14312"/>
                </a:cubicBezTo>
              </a:path>
              <a:path w="2680" h="4268">
                <a:moveTo>
                  <a:pt x="7193" y="14585"/>
                </a:moveTo>
                <a:cubicBezTo>
                  <a:pt x="7226" y="14540"/>
                  <a:pt x="7284" y="14479"/>
                  <a:pt x="7342" y="14461"/>
                </a:cubicBezTo>
                <a:cubicBezTo>
                  <a:pt x="7487" y="14416"/>
                  <a:pt x="7643" y="14393"/>
                  <a:pt x="7789" y="14362"/>
                </a:cubicBezTo>
                <a:cubicBezTo>
                  <a:pt x="7891" y="14341"/>
                  <a:pt x="7983" y="14299"/>
                  <a:pt x="8086" y="14288"/>
                </a:cubicBezTo>
                <a:cubicBezTo>
                  <a:pt x="8164" y="14280"/>
                  <a:pt x="8253" y="14299"/>
                  <a:pt x="8285" y="14362"/>
                </a:cubicBezTo>
              </a:path>
              <a:path w="2680" h="4268">
                <a:moveTo>
                  <a:pt x="7590" y="14808"/>
                </a:moveTo>
                <a:cubicBezTo>
                  <a:pt x="7539" y="14758"/>
                  <a:pt x="7522" y="14730"/>
                  <a:pt x="7565" y="14660"/>
                </a:cubicBezTo>
                <a:cubicBezTo>
                  <a:pt x="7588" y="14622"/>
                  <a:pt x="7672" y="14577"/>
                  <a:pt x="7714" y="14610"/>
                </a:cubicBezTo>
                <a:cubicBezTo>
                  <a:pt x="7733" y="14625"/>
                  <a:pt x="7807" y="14737"/>
                  <a:pt x="7813" y="14759"/>
                </a:cubicBezTo>
                <a:cubicBezTo>
                  <a:pt x="7828" y="14817"/>
                  <a:pt x="7855" y="14891"/>
                  <a:pt x="7838" y="14957"/>
                </a:cubicBezTo>
                <a:cubicBezTo>
                  <a:pt x="7807" y="15076"/>
                  <a:pt x="7785" y="15210"/>
                  <a:pt x="7739" y="15329"/>
                </a:cubicBezTo>
                <a:cubicBezTo>
                  <a:pt x="7720" y="15377"/>
                  <a:pt x="7697" y="15493"/>
                  <a:pt x="7665" y="15528"/>
                </a:cubicBezTo>
                <a:cubicBezTo>
                  <a:pt x="7659" y="15534"/>
                  <a:pt x="7552" y="15624"/>
                  <a:pt x="7541" y="15627"/>
                </a:cubicBezTo>
                <a:cubicBezTo>
                  <a:pt x="7524" y="15627"/>
                  <a:pt x="7508" y="15627"/>
                  <a:pt x="7491" y="15627"/>
                </a:cubicBezTo>
                <a:cubicBezTo>
                  <a:pt x="7447" y="15554"/>
                  <a:pt x="7483" y="15484"/>
                  <a:pt x="7516" y="15404"/>
                </a:cubicBezTo>
                <a:cubicBezTo>
                  <a:pt x="7551" y="15318"/>
                  <a:pt x="7609" y="15329"/>
                  <a:pt x="7689" y="15329"/>
                </a:cubicBezTo>
                <a:cubicBezTo>
                  <a:pt x="7771" y="15329"/>
                  <a:pt x="7751" y="15386"/>
                  <a:pt x="7813" y="15404"/>
                </a:cubicBezTo>
                <a:cubicBezTo>
                  <a:pt x="7875" y="15422"/>
                  <a:pt x="7845" y="15406"/>
                  <a:pt x="7863" y="15478"/>
                </a:cubicBezTo>
              </a:path>
              <a:path w="2680" h="4268">
                <a:moveTo>
                  <a:pt x="7169" y="13469"/>
                </a:moveTo>
                <a:cubicBezTo>
                  <a:pt x="7240" y="13520"/>
                  <a:pt x="7244" y="13571"/>
                  <a:pt x="7293" y="13643"/>
                </a:cubicBezTo>
                <a:cubicBezTo>
                  <a:pt x="7333" y="13701"/>
                  <a:pt x="7350" y="13773"/>
                  <a:pt x="7367" y="13841"/>
                </a:cubicBezTo>
                <a:cubicBezTo>
                  <a:pt x="7388" y="13947"/>
                  <a:pt x="7383" y="13974"/>
                  <a:pt x="7441" y="14015"/>
                </a:cubicBezTo>
              </a:path>
              <a:path w="2680" h="4268">
                <a:moveTo>
                  <a:pt x="7491" y="14759"/>
                </a:moveTo>
                <a:cubicBezTo>
                  <a:pt x="7546" y="14814"/>
                  <a:pt x="7564" y="14873"/>
                  <a:pt x="7615" y="14932"/>
                </a:cubicBezTo>
                <a:cubicBezTo>
                  <a:pt x="7654" y="14977"/>
                  <a:pt x="7686" y="15028"/>
                  <a:pt x="7714" y="15081"/>
                </a:cubicBezTo>
                <a:cubicBezTo>
                  <a:pt x="7751" y="15150"/>
                  <a:pt x="7782" y="15210"/>
                  <a:pt x="7813" y="15280"/>
                </a:cubicBezTo>
                <a:cubicBezTo>
                  <a:pt x="7839" y="15338"/>
                  <a:pt x="7871" y="15394"/>
                  <a:pt x="7888" y="15453"/>
                </a:cubicBezTo>
              </a:path>
              <a:path w="2680" h="4268">
                <a:moveTo>
                  <a:pt x="6176" y="16892"/>
                </a:moveTo>
                <a:cubicBezTo>
                  <a:pt x="6176" y="16989"/>
                  <a:pt x="6176" y="17052"/>
                  <a:pt x="6201" y="17140"/>
                </a:cubicBezTo>
                <a:cubicBezTo>
                  <a:pt x="6221" y="17209"/>
                  <a:pt x="6264" y="17302"/>
                  <a:pt x="6276" y="17363"/>
                </a:cubicBezTo>
                <a:cubicBezTo>
                  <a:pt x="6289" y="17427"/>
                  <a:pt x="6290" y="17470"/>
                  <a:pt x="6251" y="17388"/>
                </a:cubicBezTo>
                <a:cubicBezTo>
                  <a:pt x="6204" y="17290"/>
                  <a:pt x="6176" y="17198"/>
                  <a:pt x="6176" y="17090"/>
                </a:cubicBezTo>
                <a:cubicBezTo>
                  <a:pt x="6176" y="16994"/>
                  <a:pt x="6192" y="16912"/>
                  <a:pt x="6201" y="16818"/>
                </a:cubicBezTo>
                <a:cubicBezTo>
                  <a:pt x="6210" y="16727"/>
                  <a:pt x="6228" y="16695"/>
                  <a:pt x="6276" y="16619"/>
                </a:cubicBezTo>
                <a:cubicBezTo>
                  <a:pt x="6328" y="16537"/>
                  <a:pt x="6387" y="16446"/>
                  <a:pt x="6449" y="16371"/>
                </a:cubicBezTo>
                <a:cubicBezTo>
                  <a:pt x="6517" y="16290"/>
                  <a:pt x="6605" y="16199"/>
                  <a:pt x="6697" y="16148"/>
                </a:cubicBezTo>
                <a:cubicBezTo>
                  <a:pt x="6769" y="16108"/>
                  <a:pt x="6832" y="16050"/>
                  <a:pt x="6896" y="15999"/>
                </a:cubicBezTo>
                <a:cubicBezTo>
                  <a:pt x="6921" y="15974"/>
                  <a:pt x="6929" y="15966"/>
                  <a:pt x="6945" y="15949"/>
                </a:cubicBezTo>
              </a:path>
              <a:path w="2680" h="4268">
                <a:moveTo>
                  <a:pt x="6722" y="16421"/>
                </a:moveTo>
                <a:cubicBezTo>
                  <a:pt x="6683" y="16454"/>
                  <a:pt x="6586" y="16551"/>
                  <a:pt x="6548" y="16446"/>
                </a:cubicBezTo>
                <a:cubicBezTo>
                  <a:pt x="6507" y="16332"/>
                  <a:pt x="6667" y="16263"/>
                  <a:pt x="6747" y="16321"/>
                </a:cubicBezTo>
                <a:cubicBezTo>
                  <a:pt x="6804" y="16362"/>
                  <a:pt x="6831" y="16417"/>
                  <a:pt x="6871" y="16470"/>
                </a:cubicBezTo>
                <a:cubicBezTo>
                  <a:pt x="6925" y="16542"/>
                  <a:pt x="6884" y="16594"/>
                  <a:pt x="6871" y="16669"/>
                </a:cubicBezTo>
                <a:cubicBezTo>
                  <a:pt x="6858" y="16749"/>
                  <a:pt x="6825" y="16814"/>
                  <a:pt x="6796" y="16892"/>
                </a:cubicBezTo>
                <a:cubicBezTo>
                  <a:pt x="6773" y="16953"/>
                  <a:pt x="6761" y="17045"/>
                  <a:pt x="6722" y="17090"/>
                </a:cubicBezTo>
                <a:cubicBezTo>
                  <a:pt x="6675" y="17144"/>
                  <a:pt x="6577" y="17183"/>
                  <a:pt x="6548" y="17090"/>
                </a:cubicBezTo>
                <a:cubicBezTo>
                  <a:pt x="6525" y="17018"/>
                  <a:pt x="6557" y="16927"/>
                  <a:pt x="6598" y="16867"/>
                </a:cubicBezTo>
                <a:cubicBezTo>
                  <a:pt x="6623" y="16831"/>
                  <a:pt x="6706" y="16820"/>
                  <a:pt x="6747" y="16818"/>
                </a:cubicBezTo>
                <a:cubicBezTo>
                  <a:pt x="6789" y="16816"/>
                  <a:pt x="6884" y="16850"/>
                  <a:pt x="6921" y="16867"/>
                </a:cubicBezTo>
                <a:cubicBezTo>
                  <a:pt x="6958" y="16884"/>
                  <a:pt x="6967" y="17001"/>
                  <a:pt x="6995" y="17041"/>
                </a:cubicBezTo>
                <a:cubicBezTo>
                  <a:pt x="7018" y="17064"/>
                  <a:pt x="7022" y="17072"/>
                  <a:pt x="7045" y="17066"/>
                </a:cubicBezTo>
              </a:path>
              <a:path w="2680" h="4268">
                <a:moveTo>
                  <a:pt x="7317" y="15925"/>
                </a:moveTo>
                <a:cubicBezTo>
                  <a:pt x="7291" y="15804"/>
                  <a:pt x="7305" y="15784"/>
                  <a:pt x="7243" y="15701"/>
                </a:cubicBezTo>
                <a:cubicBezTo>
                  <a:pt x="7196" y="15638"/>
                  <a:pt x="7170" y="15633"/>
                  <a:pt x="7094" y="15627"/>
                </a:cubicBezTo>
                <a:cubicBezTo>
                  <a:pt x="7011" y="15621"/>
                  <a:pt x="6894" y="15658"/>
                  <a:pt x="6821" y="15701"/>
                </a:cubicBezTo>
                <a:cubicBezTo>
                  <a:pt x="6736" y="15751"/>
                  <a:pt x="6659" y="15830"/>
                  <a:pt x="6573" y="15875"/>
                </a:cubicBezTo>
                <a:cubicBezTo>
                  <a:pt x="6460" y="15934"/>
                  <a:pt x="6402" y="15999"/>
                  <a:pt x="6300" y="16073"/>
                </a:cubicBezTo>
                <a:cubicBezTo>
                  <a:pt x="6161" y="16175"/>
                  <a:pt x="6098" y="16323"/>
                  <a:pt x="5978" y="16446"/>
                </a:cubicBezTo>
                <a:cubicBezTo>
                  <a:pt x="5877" y="16550"/>
                  <a:pt x="5818" y="16639"/>
                  <a:pt x="5755" y="16768"/>
                </a:cubicBezTo>
                <a:cubicBezTo>
                  <a:pt x="5706" y="16868"/>
                  <a:pt x="5668" y="16950"/>
                  <a:pt x="5680" y="17066"/>
                </a:cubicBezTo>
                <a:cubicBezTo>
                  <a:pt x="5686" y="17120"/>
                  <a:pt x="5724" y="17206"/>
                  <a:pt x="5755" y="17264"/>
                </a:cubicBezTo>
                <a:cubicBezTo>
                  <a:pt x="5796" y="17341"/>
                  <a:pt x="5862" y="17386"/>
                  <a:pt x="5928" y="17438"/>
                </a:cubicBezTo>
                <a:cubicBezTo>
                  <a:pt x="5984" y="17482"/>
                  <a:pt x="6033" y="17515"/>
                  <a:pt x="6102" y="17537"/>
                </a:cubicBezTo>
                <a:cubicBezTo>
                  <a:pt x="6174" y="17560"/>
                  <a:pt x="6245" y="17574"/>
                  <a:pt x="6325" y="17562"/>
                </a:cubicBezTo>
                <a:cubicBezTo>
                  <a:pt x="6402" y="17550"/>
                  <a:pt x="6473" y="17532"/>
                  <a:pt x="6548" y="17512"/>
                </a:cubicBezTo>
                <a:cubicBezTo>
                  <a:pt x="6620" y="17493"/>
                  <a:pt x="6733" y="17468"/>
                  <a:pt x="6796" y="17438"/>
                </a:cubicBezTo>
                <a:cubicBezTo>
                  <a:pt x="6893" y="17392"/>
                  <a:pt x="6992" y="17313"/>
                  <a:pt x="7069" y="17239"/>
                </a:cubicBezTo>
                <a:cubicBezTo>
                  <a:pt x="7124" y="17186"/>
                  <a:pt x="7226" y="17105"/>
                  <a:pt x="7268" y="17041"/>
                </a:cubicBezTo>
                <a:cubicBezTo>
                  <a:pt x="7330" y="16946"/>
                  <a:pt x="7359" y="16826"/>
                  <a:pt x="7392" y="16718"/>
                </a:cubicBezTo>
                <a:cubicBezTo>
                  <a:pt x="7430" y="16594"/>
                  <a:pt x="7466" y="16496"/>
                  <a:pt x="7491" y="16371"/>
                </a:cubicBezTo>
                <a:cubicBezTo>
                  <a:pt x="7517" y="16243"/>
                  <a:pt x="7528" y="16144"/>
                  <a:pt x="7466" y="16024"/>
                </a:cubicBezTo>
                <a:cubicBezTo>
                  <a:pt x="7437" y="15968"/>
                  <a:pt x="7322" y="15880"/>
                  <a:pt x="7268" y="15850"/>
                </a:cubicBezTo>
                <a:cubicBezTo>
                  <a:pt x="7183" y="15803"/>
                  <a:pt x="7087" y="15783"/>
                  <a:pt x="6995" y="15825"/>
                </a:cubicBezTo>
                <a:cubicBezTo>
                  <a:pt x="6929" y="15855"/>
                  <a:pt x="6849" y="15951"/>
                  <a:pt x="6796" y="159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Ink 12"/>
          <p:cNvSpPr/>
          <p:nvPr/>
        </p:nvSpPr>
        <p:spPr>
          <a:xfrm>
            <a:off x="4214880" y="5072040"/>
            <a:ext cx="741240" cy="465120"/>
          </a:xfrm>
          <a:custGeom>
            <a:avLst/>
            <a:gdLst/>
            <a:ahLst/>
            <a:rect l="l" t="t" r="r" b="b"/>
            <a:pathLst>
              <a:path w="2060" h="1291">
                <a:moveTo>
                  <a:pt x="11757" y="15255"/>
                </a:moveTo>
                <a:cubicBezTo>
                  <a:pt x="11714" y="15233"/>
                  <a:pt x="11693" y="15220"/>
                  <a:pt x="11733" y="15255"/>
                </a:cubicBezTo>
                <a:cubicBezTo>
                  <a:pt x="11805" y="15255"/>
                  <a:pt x="11889" y="15249"/>
                  <a:pt x="11956" y="15230"/>
                </a:cubicBezTo>
                <a:cubicBezTo>
                  <a:pt x="12007" y="15215"/>
                  <a:pt x="12085" y="15185"/>
                  <a:pt x="12129" y="15180"/>
                </a:cubicBezTo>
                <a:cubicBezTo>
                  <a:pt x="12212" y="15180"/>
                  <a:pt x="12228" y="15180"/>
                  <a:pt x="12278" y="15180"/>
                </a:cubicBezTo>
              </a:path>
              <a:path w="2060" h="1291">
                <a:moveTo>
                  <a:pt x="12576" y="14808"/>
                </a:moveTo>
                <a:cubicBezTo>
                  <a:pt x="12613" y="14883"/>
                  <a:pt x="12626" y="14924"/>
                  <a:pt x="12626" y="15007"/>
                </a:cubicBezTo>
                <a:cubicBezTo>
                  <a:pt x="12626" y="15078"/>
                  <a:pt x="12639" y="15146"/>
                  <a:pt x="12650" y="15205"/>
                </a:cubicBezTo>
                <a:cubicBezTo>
                  <a:pt x="12659" y="15257"/>
                  <a:pt x="12650" y="15327"/>
                  <a:pt x="12650" y="15379"/>
                </a:cubicBezTo>
                <a:cubicBezTo>
                  <a:pt x="12650" y="15244"/>
                  <a:pt x="12661" y="15103"/>
                  <a:pt x="12675" y="14982"/>
                </a:cubicBezTo>
                <a:cubicBezTo>
                  <a:pt x="12684" y="14905"/>
                  <a:pt x="12667" y="14824"/>
                  <a:pt x="12700" y="14759"/>
                </a:cubicBezTo>
                <a:cubicBezTo>
                  <a:pt x="12730" y="14700"/>
                  <a:pt x="12784" y="14684"/>
                  <a:pt x="12824" y="14660"/>
                </a:cubicBezTo>
                <a:cubicBezTo>
                  <a:pt x="12880" y="14628"/>
                  <a:pt x="12984" y="14529"/>
                  <a:pt x="13022" y="14486"/>
                </a:cubicBezTo>
                <a:cubicBezTo>
                  <a:pt x="13088" y="14412"/>
                  <a:pt x="13184" y="14332"/>
                  <a:pt x="13271" y="14263"/>
                </a:cubicBezTo>
                <a:cubicBezTo>
                  <a:pt x="13332" y="14215"/>
                  <a:pt x="13404" y="14156"/>
                  <a:pt x="13469" y="14114"/>
                </a:cubicBezTo>
                <a:cubicBezTo>
                  <a:pt x="13509" y="14094"/>
                  <a:pt x="13516" y="14085"/>
                  <a:pt x="13543" y="14089"/>
                </a:cubicBezTo>
              </a:path>
              <a:path w="2060" h="1291">
                <a:moveTo>
                  <a:pt x="13221" y="14560"/>
                </a:moveTo>
                <a:cubicBezTo>
                  <a:pt x="13196" y="14568"/>
                  <a:pt x="13171" y="14577"/>
                  <a:pt x="13146" y="14585"/>
                </a:cubicBezTo>
                <a:cubicBezTo>
                  <a:pt x="13173" y="14524"/>
                  <a:pt x="13186" y="14451"/>
                  <a:pt x="13246" y="14412"/>
                </a:cubicBezTo>
                <a:cubicBezTo>
                  <a:pt x="13301" y="14377"/>
                  <a:pt x="13371" y="14371"/>
                  <a:pt x="13419" y="14412"/>
                </a:cubicBezTo>
                <a:cubicBezTo>
                  <a:pt x="13495" y="14477"/>
                  <a:pt x="13494" y="14543"/>
                  <a:pt x="13494" y="14635"/>
                </a:cubicBezTo>
                <a:cubicBezTo>
                  <a:pt x="13494" y="14712"/>
                  <a:pt x="13453" y="14784"/>
                  <a:pt x="13444" y="14858"/>
                </a:cubicBezTo>
                <a:cubicBezTo>
                  <a:pt x="13433" y="14948"/>
                  <a:pt x="13403" y="15081"/>
                  <a:pt x="13345" y="15156"/>
                </a:cubicBezTo>
                <a:cubicBezTo>
                  <a:pt x="13331" y="15173"/>
                  <a:pt x="13243" y="15296"/>
                  <a:pt x="13221" y="15304"/>
                </a:cubicBezTo>
                <a:cubicBezTo>
                  <a:pt x="13089" y="15350"/>
                  <a:pt x="13090" y="15194"/>
                  <a:pt x="13097" y="15131"/>
                </a:cubicBezTo>
                <a:cubicBezTo>
                  <a:pt x="13105" y="15055"/>
                  <a:pt x="13091" y="15038"/>
                  <a:pt x="13146" y="14982"/>
                </a:cubicBezTo>
                <a:cubicBezTo>
                  <a:pt x="13187" y="14940"/>
                  <a:pt x="13228" y="14894"/>
                  <a:pt x="13295" y="14908"/>
                </a:cubicBezTo>
                <a:cubicBezTo>
                  <a:pt x="13358" y="14922"/>
                  <a:pt x="13414" y="14992"/>
                  <a:pt x="13469" y="15007"/>
                </a:cubicBezTo>
                <a:cubicBezTo>
                  <a:pt x="13533" y="15024"/>
                  <a:pt x="13581" y="15046"/>
                  <a:pt x="13643" y="15081"/>
                </a:cubicBezTo>
                <a:cubicBezTo>
                  <a:pt x="13698" y="15109"/>
                  <a:pt x="13721" y="15117"/>
                  <a:pt x="13767" y="151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5. Evaluate the six trigonometric functions of the real number (if poss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=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c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t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990720" y="2438280"/>
          <a:ext cx="45720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45720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Ink 5"/>
          <p:cNvSpPr/>
          <p:nvPr/>
        </p:nvSpPr>
        <p:spPr>
          <a:xfrm>
            <a:off x="1803240" y="2625840"/>
            <a:ext cx="1081080" cy="588960"/>
          </a:xfrm>
          <a:custGeom>
            <a:avLst/>
            <a:gdLst/>
            <a:ahLst/>
            <a:rect l="l" t="t" r="r" b="b"/>
            <a:pathLst>
              <a:path w="3002" h="1638">
                <a:moveTo>
                  <a:pt x="5432" y="7342"/>
                </a:moveTo>
                <a:cubicBezTo>
                  <a:pt x="5331" y="7479"/>
                  <a:pt x="5210" y="7613"/>
                  <a:pt x="5135" y="7764"/>
                </a:cubicBezTo>
                <a:cubicBezTo>
                  <a:pt x="5056" y="7925"/>
                  <a:pt x="4982" y="8077"/>
                  <a:pt x="5011" y="8260"/>
                </a:cubicBezTo>
                <a:cubicBezTo>
                  <a:pt x="5026" y="8354"/>
                  <a:pt x="5098" y="8458"/>
                  <a:pt x="5159" y="8533"/>
                </a:cubicBezTo>
                <a:cubicBezTo>
                  <a:pt x="5211" y="8584"/>
                  <a:pt x="5230" y="8601"/>
                  <a:pt x="5283" y="8607"/>
                </a:cubicBezTo>
              </a:path>
              <a:path w="3002" h="1638">
                <a:moveTo>
                  <a:pt x="5953" y="7714"/>
                </a:moveTo>
                <a:cubicBezTo>
                  <a:pt x="5862" y="7838"/>
                  <a:pt x="5731" y="7981"/>
                  <a:pt x="5705" y="8136"/>
                </a:cubicBezTo>
                <a:cubicBezTo>
                  <a:pt x="5685" y="8254"/>
                  <a:pt x="5706" y="8359"/>
                  <a:pt x="5804" y="8434"/>
                </a:cubicBezTo>
                <a:cubicBezTo>
                  <a:pt x="5903" y="8510"/>
                  <a:pt x="5964" y="8528"/>
                  <a:pt x="6102" y="8508"/>
                </a:cubicBezTo>
                <a:cubicBezTo>
                  <a:pt x="6238" y="8488"/>
                  <a:pt x="6300" y="8374"/>
                  <a:pt x="6350" y="8260"/>
                </a:cubicBezTo>
                <a:cubicBezTo>
                  <a:pt x="6400" y="8146"/>
                  <a:pt x="6441" y="7987"/>
                  <a:pt x="6424" y="7863"/>
                </a:cubicBezTo>
                <a:cubicBezTo>
                  <a:pt x="6414" y="7790"/>
                  <a:pt x="6317" y="7666"/>
                  <a:pt x="6251" y="7640"/>
                </a:cubicBezTo>
                <a:cubicBezTo>
                  <a:pt x="6179" y="7612"/>
                  <a:pt x="5953" y="7581"/>
                  <a:pt x="5904" y="7665"/>
                </a:cubicBezTo>
                <a:cubicBezTo>
                  <a:pt x="5904" y="7690"/>
                  <a:pt x="5904" y="7714"/>
                  <a:pt x="5904" y="7739"/>
                </a:cubicBezTo>
              </a:path>
              <a:path w="3002" h="1638">
                <a:moveTo>
                  <a:pt x="6796" y="8260"/>
                </a:moveTo>
                <a:cubicBezTo>
                  <a:pt x="6802" y="8326"/>
                  <a:pt x="6782" y="8794"/>
                  <a:pt x="6821" y="8855"/>
                </a:cubicBezTo>
                <a:cubicBezTo>
                  <a:pt x="6856" y="8820"/>
                  <a:pt x="6869" y="8798"/>
                  <a:pt x="6871" y="8756"/>
                </a:cubicBezTo>
              </a:path>
              <a:path w="3002" h="1638">
                <a:moveTo>
                  <a:pt x="7293" y="7714"/>
                </a:moveTo>
                <a:cubicBezTo>
                  <a:pt x="7278" y="7910"/>
                  <a:pt x="7268" y="8091"/>
                  <a:pt x="7268" y="8285"/>
                </a:cubicBezTo>
                <a:cubicBezTo>
                  <a:pt x="7268" y="8399"/>
                  <a:pt x="7298" y="8467"/>
                  <a:pt x="7367" y="8558"/>
                </a:cubicBezTo>
                <a:cubicBezTo>
                  <a:pt x="7375" y="8566"/>
                  <a:pt x="7384" y="8574"/>
                  <a:pt x="7392" y="8582"/>
                </a:cubicBezTo>
              </a:path>
              <a:path w="3002" h="1638">
                <a:moveTo>
                  <a:pt x="7590" y="7293"/>
                </a:moveTo>
                <a:cubicBezTo>
                  <a:pt x="7726" y="7520"/>
                  <a:pt x="7837" y="7742"/>
                  <a:pt x="7938" y="7987"/>
                </a:cubicBezTo>
                <a:cubicBezTo>
                  <a:pt x="7999" y="8136"/>
                  <a:pt x="8032" y="8296"/>
                  <a:pt x="8012" y="8458"/>
                </a:cubicBezTo>
                <a:cubicBezTo>
                  <a:pt x="7987" y="8659"/>
                  <a:pt x="7862" y="8779"/>
                  <a:pt x="7739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Ink 6"/>
          <p:cNvSpPr/>
          <p:nvPr/>
        </p:nvSpPr>
        <p:spPr>
          <a:xfrm>
            <a:off x="1633680" y="3616200"/>
            <a:ext cx="9360" cy="482760"/>
          </a:xfrm>
          <a:custGeom>
            <a:avLst/>
            <a:gdLst/>
            <a:ahLst/>
            <a:rect l="l" t="t" r="r" b="b"/>
            <a:pathLst>
              <a:path w="26" h="1340">
                <a:moveTo>
                  <a:pt x="4564" y="10046"/>
                </a:moveTo>
                <a:cubicBezTo>
                  <a:pt x="4564" y="10362"/>
                  <a:pt x="4567" y="10675"/>
                  <a:pt x="4539" y="10988"/>
                </a:cubicBezTo>
                <a:cubicBezTo>
                  <a:pt x="4533" y="11054"/>
                  <a:pt x="4539" y="11477"/>
                  <a:pt x="4539" y="11311"/>
                </a:cubicBezTo>
                <a:cubicBezTo>
                  <a:pt x="4539" y="11278"/>
                  <a:pt x="4539" y="11245"/>
                  <a:pt x="4539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Ink 7"/>
          <p:cNvSpPr/>
          <p:nvPr/>
        </p:nvSpPr>
        <p:spPr>
          <a:xfrm>
            <a:off x="1687680" y="5000760"/>
            <a:ext cx="107640" cy="581040"/>
          </a:xfrm>
          <a:custGeom>
            <a:avLst/>
            <a:gdLst/>
            <a:ahLst/>
            <a:rect l="l" t="t" r="r" b="b"/>
            <a:pathLst>
              <a:path w="299" h="1613">
                <a:moveTo>
                  <a:pt x="4986" y="13891"/>
                </a:moveTo>
                <a:cubicBezTo>
                  <a:pt x="4945" y="14012"/>
                  <a:pt x="4898" y="14137"/>
                  <a:pt x="4887" y="14263"/>
                </a:cubicBezTo>
                <a:cubicBezTo>
                  <a:pt x="4877" y="14372"/>
                  <a:pt x="4847" y="14478"/>
                  <a:pt x="4837" y="14585"/>
                </a:cubicBezTo>
                <a:cubicBezTo>
                  <a:pt x="4826" y="14703"/>
                  <a:pt x="4818" y="14816"/>
                  <a:pt x="4787" y="14932"/>
                </a:cubicBezTo>
                <a:cubicBezTo>
                  <a:pt x="4758" y="15040"/>
                  <a:pt x="4737" y="15149"/>
                  <a:pt x="4713" y="15255"/>
                </a:cubicBezTo>
                <a:cubicBezTo>
                  <a:pt x="4693" y="15343"/>
                  <a:pt x="4688" y="15412"/>
                  <a:pt x="4688" y="155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Ink 8"/>
          <p:cNvSpPr/>
          <p:nvPr/>
        </p:nvSpPr>
        <p:spPr>
          <a:xfrm>
            <a:off x="4367160" y="3571920"/>
            <a:ext cx="339840" cy="482400"/>
          </a:xfrm>
          <a:custGeom>
            <a:avLst/>
            <a:gdLst/>
            <a:ahLst/>
            <a:rect l="l" t="t" r="r" b="b"/>
            <a:pathLst>
              <a:path w="944" h="1340">
                <a:moveTo>
                  <a:pt x="12601" y="9971"/>
                </a:moveTo>
                <a:cubicBezTo>
                  <a:pt x="12493" y="10079"/>
                  <a:pt x="12391" y="10173"/>
                  <a:pt x="12303" y="10294"/>
                </a:cubicBezTo>
                <a:cubicBezTo>
                  <a:pt x="12215" y="10415"/>
                  <a:pt x="12144" y="10538"/>
                  <a:pt x="12129" y="10691"/>
                </a:cubicBezTo>
                <a:cubicBezTo>
                  <a:pt x="12114" y="10847"/>
                  <a:pt x="12154" y="10976"/>
                  <a:pt x="12254" y="11088"/>
                </a:cubicBezTo>
                <a:cubicBezTo>
                  <a:pt x="12371" y="11219"/>
                  <a:pt x="12491" y="11265"/>
                  <a:pt x="12675" y="11261"/>
                </a:cubicBezTo>
                <a:cubicBezTo>
                  <a:pt x="12805" y="11258"/>
                  <a:pt x="12881" y="11157"/>
                  <a:pt x="12948" y="11063"/>
                </a:cubicBezTo>
                <a:cubicBezTo>
                  <a:pt x="13042" y="10930"/>
                  <a:pt x="13068" y="10826"/>
                  <a:pt x="13072" y="10666"/>
                </a:cubicBezTo>
                <a:cubicBezTo>
                  <a:pt x="13077" y="10467"/>
                  <a:pt x="13048" y="10366"/>
                  <a:pt x="12948" y="10195"/>
                </a:cubicBezTo>
                <a:cubicBezTo>
                  <a:pt x="12829" y="9990"/>
                  <a:pt x="12732" y="9938"/>
                  <a:pt x="12502" y="9922"/>
                </a:cubicBezTo>
                <a:cubicBezTo>
                  <a:pt x="12419" y="9916"/>
                  <a:pt x="12358" y="9906"/>
                  <a:pt x="12328" y="9996"/>
                </a:cubicBezTo>
                <a:cubicBezTo>
                  <a:pt x="12328" y="10004"/>
                  <a:pt x="12328" y="10013"/>
                  <a:pt x="12328" y="100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Ink 9"/>
          <p:cNvSpPr/>
          <p:nvPr/>
        </p:nvSpPr>
        <p:spPr>
          <a:xfrm>
            <a:off x="7089840" y="3589200"/>
            <a:ext cx="866880" cy="482760"/>
          </a:xfrm>
          <a:custGeom>
            <a:avLst/>
            <a:gdLst/>
            <a:ahLst/>
            <a:rect l="l" t="t" r="r" b="b"/>
            <a:pathLst>
              <a:path w="2407" h="1341">
                <a:moveTo>
                  <a:pt x="19745" y="10344"/>
                </a:moveTo>
                <a:cubicBezTo>
                  <a:pt x="19745" y="10500"/>
                  <a:pt x="19707" y="10631"/>
                  <a:pt x="19695" y="10790"/>
                </a:cubicBezTo>
                <a:cubicBezTo>
                  <a:pt x="19686" y="10907"/>
                  <a:pt x="19705" y="11073"/>
                  <a:pt x="19794" y="11162"/>
                </a:cubicBezTo>
                <a:cubicBezTo>
                  <a:pt x="19876" y="11244"/>
                  <a:pt x="19999" y="11305"/>
                  <a:pt x="20117" y="11286"/>
                </a:cubicBezTo>
                <a:cubicBezTo>
                  <a:pt x="20184" y="11275"/>
                  <a:pt x="20291" y="11142"/>
                  <a:pt x="20315" y="11088"/>
                </a:cubicBezTo>
                <a:cubicBezTo>
                  <a:pt x="20356" y="10996"/>
                  <a:pt x="20358" y="10784"/>
                  <a:pt x="20340" y="10691"/>
                </a:cubicBezTo>
                <a:cubicBezTo>
                  <a:pt x="20315" y="10666"/>
                  <a:pt x="20307" y="10658"/>
                  <a:pt x="20290" y="10641"/>
                </a:cubicBezTo>
                <a:cubicBezTo>
                  <a:pt x="20264" y="10744"/>
                  <a:pt x="20242" y="10839"/>
                  <a:pt x="20265" y="10939"/>
                </a:cubicBezTo>
                <a:cubicBezTo>
                  <a:pt x="20301" y="11094"/>
                  <a:pt x="20366" y="11079"/>
                  <a:pt x="20513" y="11088"/>
                </a:cubicBezTo>
              </a:path>
              <a:path w="2407" h="1341">
                <a:moveTo>
                  <a:pt x="20712" y="10641"/>
                </a:moveTo>
                <a:cubicBezTo>
                  <a:pt x="20712" y="10798"/>
                  <a:pt x="20682" y="10991"/>
                  <a:pt x="20737" y="11137"/>
                </a:cubicBezTo>
                <a:cubicBezTo>
                  <a:pt x="20737" y="10968"/>
                  <a:pt x="20683" y="10696"/>
                  <a:pt x="20762" y="10542"/>
                </a:cubicBezTo>
                <a:cubicBezTo>
                  <a:pt x="20807" y="10455"/>
                  <a:pt x="20909" y="10454"/>
                  <a:pt x="20985" y="10492"/>
                </a:cubicBezTo>
                <a:cubicBezTo>
                  <a:pt x="21095" y="10547"/>
                  <a:pt x="21175" y="10808"/>
                  <a:pt x="21208" y="10914"/>
                </a:cubicBezTo>
                <a:cubicBezTo>
                  <a:pt x="21230" y="10987"/>
                  <a:pt x="21217" y="11127"/>
                  <a:pt x="21282" y="11187"/>
                </a:cubicBezTo>
                <a:cubicBezTo>
                  <a:pt x="21337" y="11238"/>
                  <a:pt x="21397" y="11203"/>
                  <a:pt x="21456" y="11187"/>
                </a:cubicBezTo>
              </a:path>
              <a:path w="2407" h="1341">
                <a:moveTo>
                  <a:pt x="21903" y="10691"/>
                </a:moveTo>
                <a:cubicBezTo>
                  <a:pt x="21714" y="10818"/>
                  <a:pt x="21545" y="10898"/>
                  <a:pt x="21456" y="11112"/>
                </a:cubicBezTo>
                <a:cubicBezTo>
                  <a:pt x="21413" y="11216"/>
                  <a:pt x="21414" y="11259"/>
                  <a:pt x="21506" y="11311"/>
                </a:cubicBezTo>
                <a:cubicBezTo>
                  <a:pt x="21628" y="11249"/>
                  <a:pt x="21686" y="11145"/>
                  <a:pt x="21729" y="11013"/>
                </a:cubicBezTo>
                <a:cubicBezTo>
                  <a:pt x="21783" y="10849"/>
                  <a:pt x="21835" y="10640"/>
                  <a:pt x="21828" y="10468"/>
                </a:cubicBezTo>
                <a:cubicBezTo>
                  <a:pt x="21823" y="10337"/>
                  <a:pt x="21828" y="10152"/>
                  <a:pt x="21803" y="10021"/>
                </a:cubicBezTo>
                <a:cubicBezTo>
                  <a:pt x="21795" y="10004"/>
                  <a:pt x="21787" y="9988"/>
                  <a:pt x="21779" y="9971"/>
                </a:cubicBezTo>
                <a:cubicBezTo>
                  <a:pt x="21720" y="10118"/>
                  <a:pt x="21729" y="10210"/>
                  <a:pt x="21754" y="10368"/>
                </a:cubicBezTo>
                <a:cubicBezTo>
                  <a:pt x="21785" y="10568"/>
                  <a:pt x="21809" y="10743"/>
                  <a:pt x="21927" y="10914"/>
                </a:cubicBezTo>
                <a:cubicBezTo>
                  <a:pt x="22016" y="11024"/>
                  <a:pt x="22036" y="11052"/>
                  <a:pt x="22101" y="111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Ink 10"/>
          <p:cNvSpPr/>
          <p:nvPr/>
        </p:nvSpPr>
        <p:spPr>
          <a:xfrm>
            <a:off x="4276800" y="4938840"/>
            <a:ext cx="563400" cy="500040"/>
          </a:xfrm>
          <a:custGeom>
            <a:avLst/>
            <a:gdLst/>
            <a:ahLst/>
            <a:rect l="l" t="t" r="r" b="b"/>
            <a:pathLst>
              <a:path w="1564" h="1390">
                <a:moveTo>
                  <a:pt x="11931" y="14461"/>
                </a:moveTo>
                <a:cubicBezTo>
                  <a:pt x="11904" y="14543"/>
                  <a:pt x="11884" y="14622"/>
                  <a:pt x="11881" y="14709"/>
                </a:cubicBezTo>
                <a:cubicBezTo>
                  <a:pt x="11877" y="14814"/>
                  <a:pt x="11888" y="14917"/>
                  <a:pt x="11906" y="15007"/>
                </a:cubicBezTo>
                <a:cubicBezTo>
                  <a:pt x="11918" y="15068"/>
                  <a:pt x="11912" y="15062"/>
                  <a:pt x="11956" y="15106"/>
                </a:cubicBezTo>
                <a:cubicBezTo>
                  <a:pt x="12045" y="15050"/>
                  <a:pt x="12084" y="15022"/>
                  <a:pt x="12129" y="14932"/>
                </a:cubicBezTo>
                <a:cubicBezTo>
                  <a:pt x="12156" y="14877"/>
                  <a:pt x="12198" y="14835"/>
                  <a:pt x="12229" y="14784"/>
                </a:cubicBezTo>
                <a:cubicBezTo>
                  <a:pt x="12265" y="14724"/>
                  <a:pt x="12270" y="14652"/>
                  <a:pt x="12303" y="14585"/>
                </a:cubicBezTo>
                <a:cubicBezTo>
                  <a:pt x="12303" y="14699"/>
                  <a:pt x="12312" y="14798"/>
                  <a:pt x="12328" y="14908"/>
                </a:cubicBezTo>
                <a:cubicBezTo>
                  <a:pt x="12328" y="14949"/>
                  <a:pt x="12328" y="14957"/>
                  <a:pt x="12328" y="14982"/>
                </a:cubicBezTo>
              </a:path>
              <a:path w="1564" h="1390">
                <a:moveTo>
                  <a:pt x="12477" y="14560"/>
                </a:moveTo>
                <a:cubicBezTo>
                  <a:pt x="12505" y="14645"/>
                  <a:pt x="12485" y="14721"/>
                  <a:pt x="12502" y="14808"/>
                </a:cubicBezTo>
                <a:cubicBezTo>
                  <a:pt x="12516" y="14876"/>
                  <a:pt x="12526" y="14913"/>
                  <a:pt x="12526" y="14982"/>
                </a:cubicBezTo>
                <a:cubicBezTo>
                  <a:pt x="12559" y="14927"/>
                  <a:pt x="12551" y="14876"/>
                  <a:pt x="12551" y="14808"/>
                </a:cubicBezTo>
                <a:cubicBezTo>
                  <a:pt x="12551" y="14691"/>
                  <a:pt x="12576" y="14613"/>
                  <a:pt x="12626" y="14511"/>
                </a:cubicBezTo>
                <a:cubicBezTo>
                  <a:pt x="12645" y="14473"/>
                  <a:pt x="12675" y="14376"/>
                  <a:pt x="12725" y="14362"/>
                </a:cubicBezTo>
                <a:cubicBezTo>
                  <a:pt x="12813" y="14336"/>
                  <a:pt x="12851" y="14379"/>
                  <a:pt x="12898" y="14436"/>
                </a:cubicBezTo>
                <a:cubicBezTo>
                  <a:pt x="12944" y="14491"/>
                  <a:pt x="12930" y="14589"/>
                  <a:pt x="12948" y="14660"/>
                </a:cubicBezTo>
                <a:cubicBezTo>
                  <a:pt x="12967" y="14737"/>
                  <a:pt x="12969" y="14779"/>
                  <a:pt x="13022" y="14833"/>
                </a:cubicBezTo>
              </a:path>
              <a:path w="1564" h="1390">
                <a:moveTo>
                  <a:pt x="13295" y="14387"/>
                </a:moveTo>
                <a:cubicBezTo>
                  <a:pt x="13295" y="14293"/>
                  <a:pt x="13316" y="14273"/>
                  <a:pt x="13271" y="14238"/>
                </a:cubicBezTo>
                <a:cubicBezTo>
                  <a:pt x="13230" y="14272"/>
                  <a:pt x="13187" y="14303"/>
                  <a:pt x="13146" y="14337"/>
                </a:cubicBezTo>
              </a:path>
              <a:path w="1564" h="1390">
                <a:moveTo>
                  <a:pt x="13097" y="14684"/>
                </a:moveTo>
                <a:cubicBezTo>
                  <a:pt x="13132" y="14748"/>
                  <a:pt x="13187" y="14866"/>
                  <a:pt x="13271" y="14808"/>
                </a:cubicBezTo>
                <a:cubicBezTo>
                  <a:pt x="13333" y="14765"/>
                  <a:pt x="13363" y="14700"/>
                  <a:pt x="13395" y="14635"/>
                </a:cubicBezTo>
                <a:cubicBezTo>
                  <a:pt x="13429" y="14566"/>
                  <a:pt x="13442" y="14464"/>
                  <a:pt x="13444" y="14387"/>
                </a:cubicBezTo>
                <a:cubicBezTo>
                  <a:pt x="13448" y="14229"/>
                  <a:pt x="13437" y="14091"/>
                  <a:pt x="13419" y="13940"/>
                </a:cubicBezTo>
                <a:cubicBezTo>
                  <a:pt x="13410" y="13864"/>
                  <a:pt x="13403" y="13829"/>
                  <a:pt x="13370" y="13767"/>
                </a:cubicBezTo>
                <a:cubicBezTo>
                  <a:pt x="13362" y="13750"/>
                  <a:pt x="13353" y="13734"/>
                  <a:pt x="13345" y="13717"/>
                </a:cubicBezTo>
                <a:cubicBezTo>
                  <a:pt x="13314" y="13810"/>
                  <a:pt x="13301" y="13938"/>
                  <a:pt x="13320" y="14039"/>
                </a:cubicBezTo>
                <a:cubicBezTo>
                  <a:pt x="13340" y="14144"/>
                  <a:pt x="13327" y="14255"/>
                  <a:pt x="13345" y="14362"/>
                </a:cubicBezTo>
                <a:cubicBezTo>
                  <a:pt x="13362" y="14460"/>
                  <a:pt x="13375" y="14620"/>
                  <a:pt x="13419" y="14709"/>
                </a:cubicBezTo>
                <a:cubicBezTo>
                  <a:pt x="13427" y="14709"/>
                  <a:pt x="13436" y="14709"/>
                  <a:pt x="13444" y="147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Ink 11"/>
          <p:cNvSpPr/>
          <p:nvPr/>
        </p:nvSpPr>
        <p:spPr>
          <a:xfrm>
            <a:off x="6518160" y="4044960"/>
            <a:ext cx="196920" cy="482760"/>
          </a:xfrm>
          <a:custGeom>
            <a:avLst/>
            <a:gdLst/>
            <a:ahLst/>
            <a:rect l="l" t="t" r="r" b="b"/>
            <a:pathLst>
              <a:path w="547" h="1340">
                <a:moveTo>
                  <a:pt x="18529" y="11237"/>
                </a:moveTo>
                <a:cubicBezTo>
                  <a:pt x="18529" y="11321"/>
                  <a:pt x="18531" y="11383"/>
                  <a:pt x="18504" y="11460"/>
                </a:cubicBezTo>
                <a:cubicBezTo>
                  <a:pt x="18476" y="11539"/>
                  <a:pt x="18480" y="11612"/>
                  <a:pt x="18455" y="11683"/>
                </a:cubicBezTo>
                <a:cubicBezTo>
                  <a:pt x="18437" y="11734"/>
                  <a:pt x="18430" y="11753"/>
                  <a:pt x="18430" y="11807"/>
                </a:cubicBezTo>
              </a:path>
              <a:path w="547" h="1340">
                <a:moveTo>
                  <a:pt x="18107" y="11931"/>
                </a:moveTo>
                <a:cubicBezTo>
                  <a:pt x="18187" y="11901"/>
                  <a:pt x="18272" y="11896"/>
                  <a:pt x="18355" y="11881"/>
                </a:cubicBezTo>
                <a:cubicBezTo>
                  <a:pt x="18464" y="11862"/>
                  <a:pt x="18552" y="11842"/>
                  <a:pt x="18653" y="11832"/>
                </a:cubicBezTo>
              </a:path>
              <a:path w="547" h="1340">
                <a:moveTo>
                  <a:pt x="18455" y="11981"/>
                </a:moveTo>
                <a:cubicBezTo>
                  <a:pt x="18403" y="12031"/>
                  <a:pt x="18409" y="12064"/>
                  <a:pt x="18380" y="12129"/>
                </a:cubicBezTo>
                <a:cubicBezTo>
                  <a:pt x="18345" y="12207"/>
                  <a:pt x="18310" y="12294"/>
                  <a:pt x="18306" y="12378"/>
                </a:cubicBezTo>
                <a:cubicBezTo>
                  <a:pt x="18305" y="12410"/>
                  <a:pt x="18313" y="12581"/>
                  <a:pt x="18380" y="12576"/>
                </a:cubicBezTo>
                <a:cubicBezTo>
                  <a:pt x="18411" y="12574"/>
                  <a:pt x="18543" y="12508"/>
                  <a:pt x="18554" y="12477"/>
                </a:cubicBezTo>
                <a:cubicBezTo>
                  <a:pt x="18579" y="12407"/>
                  <a:pt x="18590" y="12326"/>
                  <a:pt x="18554" y="12254"/>
                </a:cubicBezTo>
                <a:cubicBezTo>
                  <a:pt x="18530" y="12206"/>
                  <a:pt x="18465" y="12177"/>
                  <a:pt x="18430" y="12154"/>
                </a:cubicBezTo>
                <a:cubicBezTo>
                  <a:pt x="18346" y="12098"/>
                  <a:pt x="18343" y="12153"/>
                  <a:pt x="18331" y="120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Ink 12"/>
          <p:cNvSpPr/>
          <p:nvPr/>
        </p:nvSpPr>
        <p:spPr>
          <a:xfrm>
            <a:off x="7205760" y="4991040"/>
            <a:ext cx="411120" cy="554040"/>
          </a:xfrm>
          <a:custGeom>
            <a:avLst/>
            <a:gdLst/>
            <a:ahLst/>
            <a:rect l="l" t="t" r="r" b="b"/>
            <a:pathLst>
              <a:path w="1142" h="1539">
                <a:moveTo>
                  <a:pt x="20513" y="13940"/>
                </a:moveTo>
                <a:cubicBezTo>
                  <a:pt x="20403" y="13995"/>
                  <a:pt x="20370" y="14002"/>
                  <a:pt x="20290" y="14089"/>
                </a:cubicBezTo>
                <a:cubicBezTo>
                  <a:pt x="20241" y="14143"/>
                  <a:pt x="20193" y="14242"/>
                  <a:pt x="20166" y="14312"/>
                </a:cubicBezTo>
                <a:cubicBezTo>
                  <a:pt x="20124" y="14418"/>
                  <a:pt x="20097" y="14522"/>
                  <a:pt x="20092" y="14635"/>
                </a:cubicBezTo>
                <a:cubicBezTo>
                  <a:pt x="20086" y="14760"/>
                  <a:pt x="20082" y="14887"/>
                  <a:pt x="20117" y="15007"/>
                </a:cubicBezTo>
                <a:cubicBezTo>
                  <a:pt x="20143" y="15095"/>
                  <a:pt x="20152" y="15153"/>
                  <a:pt x="20191" y="15230"/>
                </a:cubicBezTo>
                <a:cubicBezTo>
                  <a:pt x="20215" y="15278"/>
                  <a:pt x="20314" y="15381"/>
                  <a:pt x="20365" y="15404"/>
                </a:cubicBezTo>
                <a:cubicBezTo>
                  <a:pt x="20458" y="15446"/>
                  <a:pt x="20672" y="15401"/>
                  <a:pt x="20737" y="15354"/>
                </a:cubicBezTo>
                <a:cubicBezTo>
                  <a:pt x="20808" y="15303"/>
                  <a:pt x="20878" y="15248"/>
                  <a:pt x="20935" y="15180"/>
                </a:cubicBezTo>
                <a:cubicBezTo>
                  <a:pt x="21042" y="15053"/>
                  <a:pt x="21089" y="14989"/>
                  <a:pt x="21134" y="14833"/>
                </a:cubicBezTo>
                <a:cubicBezTo>
                  <a:pt x="21161" y="14738"/>
                  <a:pt x="21158" y="14657"/>
                  <a:pt x="21158" y="14560"/>
                </a:cubicBezTo>
                <a:cubicBezTo>
                  <a:pt x="21158" y="14453"/>
                  <a:pt x="21119" y="14351"/>
                  <a:pt x="21084" y="14263"/>
                </a:cubicBezTo>
                <a:cubicBezTo>
                  <a:pt x="21048" y="14173"/>
                  <a:pt x="20986" y="14151"/>
                  <a:pt x="20935" y="14089"/>
                </a:cubicBezTo>
                <a:cubicBezTo>
                  <a:pt x="20886" y="14029"/>
                  <a:pt x="20881" y="13982"/>
                  <a:pt x="20811" y="13940"/>
                </a:cubicBezTo>
                <a:cubicBezTo>
                  <a:pt x="20753" y="13905"/>
                  <a:pt x="20677" y="13877"/>
                  <a:pt x="20613" y="13866"/>
                </a:cubicBezTo>
                <a:cubicBezTo>
                  <a:pt x="20552" y="13856"/>
                  <a:pt x="20491" y="13875"/>
                  <a:pt x="20439" y="13891"/>
                </a:cubicBezTo>
                <a:cubicBezTo>
                  <a:pt x="20366" y="13913"/>
                  <a:pt x="20317" y="13989"/>
                  <a:pt x="20265" y="14039"/>
                </a:cubicBezTo>
                <a:cubicBezTo>
                  <a:pt x="20193" y="14108"/>
                  <a:pt x="20193" y="14159"/>
                  <a:pt x="20141" y="14238"/>
                </a:cubicBezTo>
                <a:cubicBezTo>
                  <a:pt x="20092" y="14313"/>
                  <a:pt x="20033" y="14417"/>
                  <a:pt x="20017" y="14511"/>
                </a:cubicBezTo>
                <a:cubicBezTo>
                  <a:pt x="20017" y="14536"/>
                  <a:pt x="20017" y="14560"/>
                  <a:pt x="20017" y="145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7. Evaluate the six trigonometric functions of the real number (if possibl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=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 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n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c=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 =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t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2:02:32Z</dcterms:created>
  <dc:creator>jnewman</dc:creator>
  <dc:description/>
  <dc:language>en-US</dc:language>
  <cp:lastModifiedBy>abeason</cp:lastModifiedBy>
  <dcterms:modified xsi:type="dcterms:W3CDTF">2009-09-23T14:34:24Z</dcterms:modified>
  <cp:revision>12</cp:revision>
  <dc:subject/>
  <dc:title>Lesson 4.3 part one</dc:title>
</cp:coreProperties>
</file>